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th Febr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D4B1-7F0B-480A-A43F-CCDE40899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7B81-8ABB-44B6-9491-3FA0D9A8D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2D9-FE8C-4234-AA26-222469EBF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AD3-17FF-41FB-AFDE-2B2674EB3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B6B-BAA9-4478-944D-47D1E15A8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2B21-413D-42C8-BC5A-A77E8DD49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92C-CC5A-48AB-9C4E-62E00BD89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9531-DEA9-4B78-AE61-B9B6D0457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D32-EB95-4B38-B830-1D7AE5859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572-7540-4136-B792-D667777C7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8328-8330-4B55-A654-8AEEC1F79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070-C5E0-4033-9325-26097C97E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A945-8302-4910-AB0A-F96E5A227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717-D5A1-4A8F-9C0A-367DA311E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C956-243E-470E-9749-586116F83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8D3-82C2-4CB0-8EAE-84EBAB41A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314E-1CDE-4C57-807A-949763261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75F-683C-4853-A67B-4723052A9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B6AF-7879-4B9C-A3D5-A9C4AF7DD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9CD8-1A18-47C4-8DDE-149A9527E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094-01AE-4717-AC54-AD47B7289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8E8-EEDA-4311-994B-176EE7EF9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C6E-8F73-43F3-9E81-F0CD00EA6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59A9-1958-4204-9A08-407ABECB6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2B5A-BA29-4D9A-B3D6-02DE593D4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3C3-83F2-4D50-92A1-BD8245B92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09A7-8071-47E5-A110-A9FB414298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937C-4134-4E44-9A74-F7233DF7F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55B1-B948-4EAE-8482-0B4154395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FD66-A63E-4223-81FE-B65AB8734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047-04AD-4670-B3BA-F577F7D90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097-8A5E-40D5-BD5C-3E940E6DF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4DE0-CA08-43C7-8DD9-4D40F660C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14D8-DB13-467F-9480-A6FD17FD4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8E5-38A0-4307-B92F-486B0E390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73CB-D6B9-4FCE-9663-0ACA9882E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CFAC-0CDE-4B68-8593-D5ACD871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40D8-1FC8-4EEF-AD63-93CE8F5D5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B17D-42DB-4F7F-B4BD-DC4888576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21F9-87A8-43AD-837E-6571ED84C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1D80-52F5-4AFE-8831-F7AFA7D58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C815-969B-44DC-8CF6-064C0665A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9258-1622-4D37-BEE4-7ED365DB2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1F5C-C913-4D37-9E96-E26FD5C49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F475-53F3-4006-B7D6-F7B6A1578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071C-6151-419E-9FA4-419C3FA73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B024-63BC-440E-933D-C71EE0792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8D2-1DFC-425E-8481-FA510141E7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Manipula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ochim.human.cornell.edu/kb/stat_t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Outlin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ory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ng data (preparing for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ing exist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ing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ing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SPS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example of statistical significanc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900000" y="6021360"/>
            <a:ext cx="61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Thanks to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ochim.human.cornell.edu/kb/stat_t.ht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r the coloured grap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2472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0"/>
          <p:cNvSpPr/>
          <p:nvPr/>
        </p:nvSpPr>
        <p:spPr>
          <a:xfrm flipV="1">
            <a:off x="745164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 flipV="1">
            <a:off x="831708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>
            <a:off x="7524720" y="3933360"/>
            <a:ext cx="720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836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7527600" y="3500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395280" y="4495680"/>
            <a:ext cx="42577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468720" y="836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researchers will only want to carry out a statistical test on a certain cases of the dataset (e.g. only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quires a process in SPSS called “selecting da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s are selected according to their values on a particular variable (e.g. on variable “sex”, we select all those with value 1 – corresponding to “mal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414972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n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64000" y="414972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ff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3995640" y="4724280"/>
            <a:ext cx="57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8640720" y="4724280"/>
            <a:ext cx="503280" cy="50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118728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036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17080" cy="488772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859280" y="4869000"/>
            <a:ext cx="64944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95280" y="126828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eck the value number that you want to select by (in Variable 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148360" y="256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588000" y="2349360"/>
            <a:ext cx="208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three dots to open up the Values dialogu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5724360" y="2852640"/>
            <a:ext cx="93528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7132680" y="907920"/>
            <a:ext cx="20113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467240" cy="473400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lick on the Select Cases button (or find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763640" y="2565360"/>
            <a:ext cx="201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979640" y="4724280"/>
            <a:ext cx="187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3779640" y="2923920"/>
            <a:ext cx="1439640" cy="36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3995280" y="5013000"/>
            <a:ext cx="1513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35640" y="3070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elect “If condition is satisfied” and then click “If..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80000" y="501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Make sure that the unselected cases are “filtered” rather than deleted, or you will l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423280" y="981000"/>
            <a:ext cx="72072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1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253200" cy="44658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250920" y="3068640"/>
            <a:ext cx="1800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3276720" y="2637000"/>
            <a:ext cx="3585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41964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the “=“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80" y="57340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Choose the variable to select on and move it to the big box by click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1692360" y="1413000"/>
            <a:ext cx="504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875640" y="907920"/>
            <a:ext cx="226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tell SPSS how to select the case by writing a formula in the larg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is as a statement starting “Select the case if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551640" y="458136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Decide the value that you want to select (e.g. 1 for mal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continue and OK/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2556000" y="2565360"/>
            <a:ext cx="43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395280" y="3644640"/>
            <a:ext cx="360360" cy="20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V="1">
            <a:off x="1692360" y="1844280"/>
            <a:ext cx="2872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348000" y="141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.e. “select cases if sex = 1 (male s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 flipV="1">
            <a:off x="2987280" y="3284640"/>
            <a:ext cx="576360" cy="24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059280" y="2708280"/>
            <a:ext cx="144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1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40360" y="1484280"/>
            <a:ext cx="50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go back to data view, all those cases that weren’t selected will be crossed (filtered) 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. Check that filtering look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160720" cy="3888000"/>
          </a:xfrm>
          <a:prstGeom prst="rect">
            <a:avLst/>
          </a:prstGeom>
          <a:ln w="0">
            <a:noFill/>
          </a:ln>
        </p:spPr>
      </p:pic>
      <p:sp>
        <p:nvSpPr>
          <p:cNvPr id="158" name="Oval 20"/>
          <p:cNvSpPr/>
          <p:nvPr/>
        </p:nvSpPr>
        <p:spPr>
          <a:xfrm>
            <a:off x="250920" y="1484280"/>
            <a:ext cx="136836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1618920" y="1736280"/>
            <a:ext cx="2521080" cy="1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the main sample in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1125360"/>
            <a:ext cx="8820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the above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value that we want to select by in the variable “samp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Select Cases button to enter the Select Cases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 unselected cases ar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If”, and then click on the “If” dialogue box so we can tell it what value we want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samptype” and bring it to the main white box by clicking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“=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the value 1 for “main sam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continue and OK/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at any cases not main sample crossed out in data view to ensure we did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ometimes necessary to simplify a variable by combining two or more values (answers).  Reas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ying tests and findings (eg a variable listing different offences you might find it easier to combine all violent offences into one categ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s may be more reliable if there are more cases in each value of a variable (e.g. 100 cases for ‘violent offences’ against 10-15 for each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ests require dichotomous variables, so we might need to combine values into just tw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values in a variable is known as “recod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2419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exactly the same process that we have to tell SPSS to do.  We tell it the old values and the new values, and g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932360" y="4581360"/>
            <a:ext cx="9349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55640" y="47628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hat quant data looks like: variable by cas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557360"/>
          <a:ext cx="8675640" cy="370980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735200"/>
                <a:gridCol w="1419480"/>
                <a:gridCol w="205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low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work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pp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French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double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clar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bas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859280" y="1413000"/>
            <a:ext cx="2160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Wood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Per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61928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835280" y="5300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835280" y="623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116000" y="1916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w you recode variables depends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question you want to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groups ma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your current groups work for futur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400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ke a note of all the values in the existing variable, and how you want them to be recoded.  Do this by looking at Value Labels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324320" cy="2733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0"/>
          <p:cNvSpPr/>
          <p:nvPr/>
        </p:nvSpPr>
        <p:spPr>
          <a:xfrm>
            <a:off x="395280" y="5013360"/>
            <a:ext cx="511344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695920" cy="345744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 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Recode into differ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508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Choose the variable to recode from the list and click the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68360" y="3429000"/>
            <a:ext cx="15127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050920" y="2781360"/>
            <a:ext cx="4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88000" y="162864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Choose a name and label for the new recoded variable and click “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4643280" y="1916280"/>
            <a:ext cx="144000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2340000" y="371628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067280" y="537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Click on “Old and New Values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900000" y="3715920"/>
            <a:ext cx="7164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V="1">
            <a:off x="1692360" y="3068280"/>
            <a:ext cx="36036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H="1">
            <a:off x="6084720" y="2349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H="1" flipV="1">
            <a:off x="3347640" y="4149360"/>
            <a:ext cx="107964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6912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-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5092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Select the old value from the left.  If a there are consecutive numbers changing to the same new value, you can use a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00720" y="148428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ype in the new value.  If the value is to be the same, you can click on “Copy old val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300720" y="29973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“Add” and repeat for the next ol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84360" y="1773360"/>
            <a:ext cx="194292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780000" y="1989000"/>
            <a:ext cx="208728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55640" y="981000"/>
            <a:ext cx="3887640" cy="63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468360" y="4005360"/>
            <a:ext cx="28728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5724000" y="1700280"/>
            <a:ext cx="5763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987640" y="3357720"/>
            <a:ext cx="93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3995280" y="3429000"/>
            <a:ext cx="23050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300720" y="414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“Continue” and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00720" y="494172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Check the new variable looks correct, compared with last one, and lab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e” made up a new variable by combining values in an old one.  COMPUTE makes up a new variable by combining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 new variable where males over 35 are value 1, and everyone else is value 0.  We need to combine two existing variables for “sex” and “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trying to create a statement which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both  “sex” is “male”, and “age” variable equals “over 35”, code as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ither “sex” isn’t “male”, or “age” isn’t  “over 35”, code as “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need to recreate this kind of statement in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086160" cy="48956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note of the variables and values you’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696000" y="162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Type the name of the new variable. Label th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696000" y="2708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ype the number of the first value you wish to make a code for (usual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69600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lick on “I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0" y="2205000"/>
            <a:ext cx="183528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979640" y="220500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324000" y="5877000"/>
            <a:ext cx="7207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1547640" y="1844640"/>
            <a:ext cx="482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 flipV="1">
            <a:off x="2484000" y="256536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 flipH="1">
            <a:off x="1258560" y="5013360"/>
            <a:ext cx="50418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6238800" cy="4608720"/>
          </a:xfrm>
          <a:prstGeom prst="rect">
            <a:avLst/>
          </a:prstGeom>
          <a:ln w="0">
            <a:noFill/>
          </a:ln>
        </p:spPr>
      </p:pic>
      <p:sp>
        <p:nvSpPr>
          <p:cNvPr id="24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lick on “Include if case satisfied cond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852640"/>
            <a:ext cx="28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Make up the formula using the variable list on the left, and the symbols and number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Use symbol “|” for the word “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443640" y="558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Continue when the statemen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981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trying to create a formula in the white box that corresponds to our first writte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1908000" y="2133720"/>
            <a:ext cx="2303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0" y="357336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 flipH="1">
            <a:off x="4284360" y="2205000"/>
            <a:ext cx="2087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H="1">
            <a:off x="3851280" y="3068640"/>
            <a:ext cx="2448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2627280" y="3860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 flipV="1">
            <a:off x="3132000" y="4076640"/>
            <a:ext cx="316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591000" cy="150804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 at the first COMPUT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95280" y="177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on Paste to create a Syntax with the first part of our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95280" y="4149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Click on “If” and do steps 6 to 9 with the second part of our statement so that both statements are now in the Syntax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95280" y="2276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Open  COMPUTE again and type in 0 for the sec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5"/>
          <p:cNvSpPr/>
          <p:nvPr/>
        </p:nvSpPr>
        <p:spPr>
          <a:xfrm>
            <a:off x="7956720" y="292428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3995640" y="2565360"/>
            <a:ext cx="3961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905440" cy="3452760"/>
          </a:xfrm>
          <a:prstGeom prst="rect">
            <a:avLst/>
          </a:prstGeom>
          <a:ln w="0">
            <a:noFill/>
          </a:ln>
        </p:spPr>
      </p:pic>
      <p:sp>
        <p:nvSpPr>
          <p:cNvPr id="2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72360" y="1413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Make sure there is only one Execute line, at the end (delete any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372360" y="2708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 Select and run th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24000" y="573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 Check that the new variable looks right (right cases selected), and label the new value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1186920" y="1916280"/>
            <a:ext cx="518508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79280" y="2565360"/>
            <a:ext cx="936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3390840" cy="8668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3"/>
          <p:cNvSpPr/>
          <p:nvPr/>
        </p:nvSpPr>
        <p:spPr>
          <a:xfrm>
            <a:off x="3564000" y="472428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unning the command, the bottom right of the spreadsheet says “Running EXECUT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50920" y="5300640"/>
            <a:ext cx="129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1908000" y="5157720"/>
            <a:ext cx="165744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e of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(turn into numerical by giving values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planat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8028000" y="5013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ll data is only collected in a randomly sampled survey, demographic characteristics (e.g. gender, social class, age) are used to compare the sample with the wider population to see how typical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found to be differences, statisticians can provide a formula which, when run in SPSS, will realign the sample with the population.  The formula is presented as a variable, that can be turned on or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“weighting” the data.  SPSS has an weighting button to turn the weighting on, and this should be done before any statistical test is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CS, the weighting variable is at the end of the datas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wgt - Respondent weight after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8028000" y="5013360"/>
            <a:ext cx="692280" cy="59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6712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46836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weighing scales icon, or vi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“weight cases b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 Either press OK to activate the weighting, or press Paste to produce a readout of your action (and then run the synta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Always take off the weighting before saving a fi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995640" y="191628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 From near end of list on the left hand side, select the weighting variable 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dent weight after calibr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and click on the arrow to bring it across to the little white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979640" y="2349360"/>
            <a:ext cx="1295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84360" y="2852640"/>
            <a:ext cx="129528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4287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24000" y="126828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you run an process, the output log will give you the syntax outlining what you told SPSS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959280" y="1125360"/>
            <a:ext cx="5184720" cy="2090880"/>
          </a:xfrm>
          <a:prstGeom prst="rect">
            <a:avLst/>
          </a:prstGeom>
          <a:ln w="0">
            <a:noFill/>
          </a:ln>
        </p:spPr>
      </p:pic>
      <p:sp>
        <p:nvSpPr>
          <p:cNvPr id="299" name="Line 7"/>
          <p:cNvSpPr/>
          <p:nvPr/>
        </p:nvSpPr>
        <p:spPr>
          <a:xfrm flipV="1">
            <a:off x="3203640" y="1844280"/>
            <a:ext cx="12254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24000" y="350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el and save this as you g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2"/>
          <a:stretch/>
        </p:blipFill>
        <p:spPr>
          <a:xfrm>
            <a:off x="250920" y="3987720"/>
            <a:ext cx="7345440" cy="2870280"/>
          </a:xfrm>
          <a:prstGeom prst="rect">
            <a:avLst/>
          </a:prstGeom>
          <a:ln w="0">
            <a:noFill/>
          </a:ln>
        </p:spPr>
      </p:pic>
      <p:sp>
        <p:nvSpPr>
          <p:cNvPr id="302" name="Oval 11"/>
          <p:cNvSpPr/>
          <p:nvPr/>
        </p:nvSpPr>
        <p:spPr>
          <a:xfrm>
            <a:off x="468360" y="4149720"/>
            <a:ext cx="19429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3059280" y="4149720"/>
            <a:ext cx="2808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3059280" y="5877000"/>
            <a:ext cx="360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116000" y="3860640"/>
            <a:ext cx="57636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042920" y="3860640"/>
            <a:ext cx="2376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SS stores deals in Syntax language.  It is a straightforward to follow “formal logic” language (e.g. If x variable = 1, then do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ssential that you keep a syntax record of every process that was done; so that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in the future how variables were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a syntax again without going though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syntax in the output file.  You can then run the syntax again by copying and pasting into the Syntax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unning a process using existing 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596088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611280" y="1341360"/>
            <a:ext cx="7848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nd copy a syntax command from a saved output log file (without any of your labels or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the Syntax Edito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le&gt;New&gt;Syn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e the command into the Synta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sure that the command lines are still highlighted (otherwise, select them again), run the selection (Run&gt;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00000" y="4653000"/>
            <a:ext cx="3816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H="1">
            <a:off x="2556000" y="3716280"/>
            <a:ext cx="712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6732720" y="371628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5364000" y="4365720"/>
            <a:ext cx="198144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Types of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sts on one variable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quencies (percen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ffect of one variable o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ss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variables linked (tests of asso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link is causal (corre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ich of many variables has strongest effect on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3384720" cy="148572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468720" y="1052280"/>
            <a:ext cx="961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sheet package that allows you to run statist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view where you set up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view where you enter and analys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60360" y="328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350028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3708360" y="3139920"/>
            <a:ext cx="3600360" cy="6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0" y="450864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BCS in SPSS Variable View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8069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full dataset; 377 variables in slimmed down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16000" y="3573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500720" y="3573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240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187280" y="3357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00720" y="3357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240000" cy="1946160"/>
          </a:xfrm>
          <a:prstGeom prst="rect">
            <a:avLst/>
          </a:prstGeom>
          <a:ln w="0">
            <a:noFill/>
          </a:ln>
        </p:spPr>
      </p:pic>
      <p:sp>
        <p:nvSpPr>
          <p:cNvPr id="85" name="Oval 8"/>
          <p:cNvSpPr/>
          <p:nvPr/>
        </p:nvSpPr>
        <p:spPr>
          <a:xfrm>
            <a:off x="684360" y="1197000"/>
            <a:ext cx="1655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900000" y="2349360"/>
            <a:ext cx="7775640" cy="356976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‘sample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1"/>
          <p:cNvSpPr/>
          <p:nvPr/>
        </p:nvSpPr>
        <p:spPr>
          <a:xfrm>
            <a:off x="1258920" y="1916280"/>
            <a:ext cx="14436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2"/>
          <p:cNvSpPr/>
          <p:nvPr/>
        </p:nvSpPr>
        <p:spPr>
          <a:xfrm>
            <a:off x="2556000" y="1557360"/>
            <a:ext cx="3528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er the proportion of cases I have, the higher the probability that the sample will be representative. If I have all the cases in the population, I don’t need statis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tatistical tests employ similar probability measures to assess statistical signifi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5:11Z</dcterms:modified>
  <cp:revision>156</cp:revision>
  <dc:subject/>
  <dc:title>Slide 1</dc:title>
</cp:coreProperties>
</file>