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C2A7-90E3-4D2E-93DD-616098C7CE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9488-04E7-4B17-B47B-97105381F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7F0F-AC95-4466-803F-BA4ED6AC7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74C2-580A-4DFA-86A7-E49ED2301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974C-3C09-4419-B8D3-8A7C0E096C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D755-1C77-436C-A4AF-9D9BD37F27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6F9F-5C5F-4070-9A36-39F25D54C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7D90-34F7-4638-AE14-178DD7D28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E7CA-9F47-4808-B7D5-531EB0377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F092-E420-4DAC-ABA8-B98F77445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7C65D-80AD-4A9D-B64C-730DE640A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6335-2323-4487-995C-D65614D14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4992-C642-4279-A29E-E288FB9CE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Survey Data Analysis Module – </a:t>
            </a: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ttp://vle.salford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8761-5994-4AC9-87CC-0E4EB62C6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Univariate analysis: Confidenc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rveysystem.com/sscalc.htm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how accurate we think that our frequency percentag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fidence interval states a range either side of the sample’s frequency figure, in which we are confident the “real” figure would lie if tested out on the whole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used a lot in political opinion polls during el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Labour’s polling is 44%, plus or minus 3%.  The 3% is the confidence interval.  We can be “sure” that the real answer is somewhere between 41% and 47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never 100% “sure” that the figure will lie inside this range, so statistically we usually test to ensure 95% conf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we calculate that 19/20 times we will be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for the confidence interval depends upon the size of the sample, size of the population, and where on the 1-100% your frequency percentage 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populations, the population size isn’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cise formula for calculating the confidence interva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x the square root of:     (frequency x (100-frequenc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by the 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ily, there are websites that can calculate confidence intervals for us: e.g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urveysystem.com/sscalc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49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484280"/>
            <a:ext cx="813744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:  Work out the confidence intervals for the following statistics.  What range of values can we be “sure” they will be within for the general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recent survey of 1249 parents in a nationally representative sample, it was found that 60% of respondents considered it acceptable to smack a child on their bottom with an open ha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% of parents in the same study reported having used severe physical punishment (hitting with object, shaking, bit or pinched) on their child in the past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cond representative study of 1034 adults found that 79% considered smacking with the open hand as “justifie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Neal Hazel</cp:lastModifiedBy>
  <dcterms:modified xsi:type="dcterms:W3CDTF">2006-11-13T08:51:37Z</dcterms:modified>
  <cp:revision>86</cp:revision>
  <dc:subject/>
  <dc:title>Slide 1</dc:title>
</cp:coreProperties>
</file>