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05DF-A7E5-4F74-B82B-1CA8920E8D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CE06-754F-435D-9E2C-62932DA03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9854-D766-4F5B-AED0-46A6CC4BC6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7E0A-E42F-4DCF-90FB-9E422DFE8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3081-BA2A-43E2-AFE2-21BB7DCE6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3F81-05C1-46B8-A828-02F2DA0F3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82B4-24DE-4613-B250-33C534602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4C55-E3E1-436D-A58F-542707102C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FE52-97DD-4A1D-B5D9-13CBC347D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8103-32AF-4AA8-AB6C-AFEC3D745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737B-7601-4E45-8579-4D56FE077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9E41-1BBD-42DA-8081-B835247E4A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E8A2-0882-4966-920D-6C8FA2F37D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D45E-EED8-47A1-AF54-E1B3D0EB9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07C6-2E2A-4F50-9907-A4AF1B511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78F5-6A67-4F20-806E-910AE07D0E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BACC-B0C9-423E-84A5-9D4C934B5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7954-E9BE-4FB3-B80C-51D9E1156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9FA4-A566-4C57-85E5-244F4D7E9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0244-FD1E-4E55-A253-8F5FAB89AD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02C-DD73-41FE-8526-838785A3E3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11E6-20F5-4AAF-B8EE-AE68939BA4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505E-F597-4E22-9981-2D3BD81A4D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3942-1810-42C5-847D-8C6A19735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2DCE-BA60-4A6F-BD07-223489F0E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06E6-BF16-4434-AE72-5A4A765AB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6895-D74F-410E-B0E1-418194C99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4823-91A2-4858-92B7-335B59176E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0250-30B7-4DC7-9E92-889C879BF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7E40-8422-4D31-92FF-6488D4F2A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C791-2095-4FFE-A630-A4CA00DC1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AED7-2E7A-4DBD-AD0E-17723AEB1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4DF3-F85F-4C32-BDBA-B1699B708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E1E3-4716-48DD-83B6-B9B62E158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14E8-BD17-4B30-8100-FCC83024E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D290-B2F0-4AC4-8F06-DFB9FDF5F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– </a:t>
            </a: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ttp://vle.salford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E609-406A-4FBC-9D50-547B9CD5B9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ASD: Intro to datasets, variables, BCS and S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ofs84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pclipart.com/cartoon/more_cartoons/Mad_scientist_caricature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alysing Social Data session 1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duction to data, variables, BCS and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ype of data/values that the variable produ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erical – can be averaged, run statistical test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 – words that need to be coded into numbers in order to analy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male/female as answers, open question about whether enjoyed last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values are different categories, but you can’t rank or order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eligion, country of birth, marit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is not higher than the other, simply differ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inal means just different “nam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di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values are categories that you can rank o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Degree classification, strength of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val Sc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ases have natural val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categories, always think of these variables in terms of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emperature, time, number of….crimes 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alysis purpo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dinal is more precise than nominal, and interval/ratio is more precise than ord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we change a variable from one type to another, to suit a particular 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change age range into groups of ages (1-10,11-20,21-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changing what type of variable into what other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468720" y="160128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we are treating it as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our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s being affected are called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ent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variables whose values we consid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pe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pon other variabl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test the effect that other variables have on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s doing the affecting are called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ependent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lanatory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test the effect that they have on other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468720" y="112500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a variable.  Consider how it could be described in each of these different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2349360"/>
          <a:ext cx="8675640" cy="3710160"/>
        </p:xfrm>
        <a:graphic>
          <a:graphicData uri="http://schemas.openxmlformats.org/drawingml/2006/table">
            <a:tbl>
              <a:tblPr/>
              <a:tblGrid>
                <a:gridCol w="1735200"/>
                <a:gridCol w="1734840"/>
                <a:gridCol w="1355760"/>
                <a:gridCol w="1656000"/>
                <a:gridCol w="2193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ower midd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ork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pper midd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50920" y="2349360"/>
          <a:ext cx="8642160" cy="4146840"/>
        </p:xfrm>
        <a:graphic>
          <a:graphicData uri="http://schemas.openxmlformats.org/drawingml/2006/table">
            <a:tbl>
              <a:tblPr/>
              <a:tblGrid>
                <a:gridCol w="2376360"/>
                <a:gridCol w="1513080"/>
                <a:gridCol w="1511280"/>
                <a:gridCol w="1512720"/>
                <a:gridCol w="1728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 or str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re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of 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mea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or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-468720" y="112500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a variable.  Consider how it could be described in each of these different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s and analysi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1 variable alone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ercentages,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2 variables at the same time is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exploring the relationship between the an independent variable and a dependent variable using crosstabs and chi-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3 or more variables at the same time is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comparing the relative effect of several independent variables on a 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 to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-running survey (started in 1982) – now an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ily a victimisation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onsored by the Hom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7/08 version conducted by BMRB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ed face-to-face using a laptop (CAPI) in private house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 to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SS originally stood for Statistical Package for the Soci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since been adopted as the industry standard for quantitative analysis in across all the sciences (including Market Rese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essentially a software package that allows you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dataset file and entering you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organise or manipulate you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e your data by running statistical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your data in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 SPSS data fi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 open up an SPSS file you will see a spreadsheet with two tabs (data view and variable view). Click on the tab to choose your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view is the normal screen, and this is like a Variable x Case matrix (with BCS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1"/>
          <a:stretch/>
        </p:blipFill>
        <p:spPr>
          <a:xfrm>
            <a:off x="4067280" y="2349360"/>
            <a:ext cx="3384360" cy="1486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133200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T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9"/>
          <p:cNvGraphicFramePr/>
          <p:nvPr/>
        </p:nvGraphicFramePr>
        <p:xfrm>
          <a:off x="1763640" y="4983120"/>
          <a:ext cx="2448000" cy="147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4983120"/>
                    <a:ext cx="244800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0"/>
          <p:cNvSpPr/>
          <p:nvPr/>
        </p:nvSpPr>
        <p:spPr>
          <a:xfrm>
            <a:off x="1763640" y="4724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076720" y="4724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SPSS data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627280" y="3068640"/>
            <a:ext cx="115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3780000" y="2708280"/>
            <a:ext cx="360036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4"/>
          <a:stretch/>
        </p:blipFill>
        <p:spPr>
          <a:xfrm>
            <a:off x="5219640" y="5013360"/>
            <a:ext cx="2790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ssion aim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the end of the lecture, you will under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quantitative data 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statistics 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quantitative data in a statistics package look lik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variables are (dependent AND independe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levels of measurement 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ypes of analysis there are in statist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you will recogn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ritish Crime Survey (B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762600" cy="5484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ata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8" name="Line 4"/>
          <p:cNvSpPr/>
          <p:nvPr/>
        </p:nvSpPr>
        <p:spPr>
          <a:xfrm flipH="1" flipV="1">
            <a:off x="1042560" y="4724280"/>
            <a:ext cx="289080" cy="9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324000" y="2637000"/>
            <a:ext cx="790560" cy="25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5661000"/>
            <a:ext cx="244944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row is a differen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755640" y="1989000"/>
            <a:ext cx="838836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 flipV="1">
            <a:off x="7092720" y="2565000"/>
            <a:ext cx="501480" cy="1438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300720" y="3933720"/>
            <a:ext cx="262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column is a different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 flipH="1" flipV="1">
            <a:off x="3851280" y="4508280"/>
            <a:ext cx="649440" cy="64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3059280" y="2565360"/>
            <a:ext cx="790560" cy="25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924360" y="5157720"/>
            <a:ext cx="2449440" cy="1067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cell contains the value of the variable for each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0" y="1052640"/>
            <a:ext cx="8629560" cy="5176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19" name="Line 6"/>
          <p:cNvSpPr/>
          <p:nvPr/>
        </p:nvSpPr>
        <p:spPr>
          <a:xfrm flipH="1" flipV="1">
            <a:off x="468360" y="4508280"/>
            <a:ext cx="216000" cy="10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0" y="1989000"/>
            <a:ext cx="790560" cy="2519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6"/>
          <p:cNvSpPr/>
          <p:nvPr/>
        </p:nvSpPr>
        <p:spPr>
          <a:xfrm>
            <a:off x="755640" y="1700280"/>
            <a:ext cx="838836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 flipH="1" flipV="1">
            <a:off x="6084720" y="2349360"/>
            <a:ext cx="216000" cy="244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822920" y="4797360"/>
            <a:ext cx="4321080" cy="580680"/>
          </a:xfrm>
          <a:prstGeom prst="rect">
            <a:avLst/>
          </a:prstGeom>
          <a:solidFill>
            <a:srgbClr val="daede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These are the various definitions that need to be made for each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50920" y="5661000"/>
            <a:ext cx="3024000" cy="824040"/>
          </a:xfrm>
          <a:prstGeom prst="rect">
            <a:avLst/>
          </a:prstGeom>
          <a:solidFill>
            <a:srgbClr val="bbe0e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Variable view, these numbers refer to the variables rather than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95280" y="4941720"/>
            <a:ext cx="3313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Type column, is where you see the type of values – e.g. numeric or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716360" y="4941720"/>
            <a:ext cx="3313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Values column is where you see the different possible values (responses) for each vari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533760" cy="395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2"/>
          <a:stretch/>
        </p:blipFill>
        <p:spPr>
          <a:xfrm>
            <a:off x="4605480" y="1125360"/>
            <a:ext cx="40384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64000" y="4797360"/>
            <a:ext cx="331344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Measure column is where you see level of measurement the variable produ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55640" y="4869000"/>
            <a:ext cx="3313080" cy="131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Missing column is where you tell SPSS if there are any values you want left out of statistics tests (e.g. Don’t Know answ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073320" cy="374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384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s of natural sciences to explain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er is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phrase = measurable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ounts as knowled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ble facts that you c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use and effect relationships betwee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hematical formula able to predict in other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Pj04387530000[1]"/>
          <p:cNvPicPr/>
          <p:nvPr/>
        </p:nvPicPr>
        <p:blipFill>
          <a:blip r:embed="rId1"/>
          <a:stretch/>
        </p:blipFill>
        <p:spPr>
          <a:xfrm>
            <a:off x="6948360" y="2421000"/>
            <a:ext cx="1541520" cy="228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j04338450000[1]"/>
          <p:cNvPicPr/>
          <p:nvPr/>
        </p:nvPicPr>
        <p:blipFill>
          <a:blip r:embed="rId2"/>
          <a:stretch/>
        </p:blipFill>
        <p:spPr>
          <a:xfrm>
            <a:off x="6659640" y="469908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ural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lightenment period (reaction to superstition and chur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rch for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 of mathematical formula to expla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ll dominates our thinking today – policymakers wan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uctiv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as natural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y &gt; Hypothesis &gt; Collect measurable data on variables &gt; Analyse data &gt; Confirm or reject hypothesis &gt;Revis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using quantitative data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ad scientist caric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3573360"/>
            <a:ext cx="1368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rules to generalise to all [also one definition of statistic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o predict [can be, but doesn’t have to be, statistic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min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nd protective factors – predicting who will offend, or who is most at risk of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educational attainment affects attitudes to ‘other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ypes of Data – Quantitative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s of things (spreadshe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g numbers voting for Labour, income, 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you collect it (methods of data collectio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tions that you can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naires with clo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views with clo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you analyse it (methods of data analysi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n it into statistical tests, so you can see how assoc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Pj04385450000[1]"/>
          <p:cNvPicPr/>
          <p:nvPr/>
        </p:nvPicPr>
        <p:blipFill>
          <a:blip r:embed="rId1"/>
          <a:stretch/>
        </p:blipFill>
        <p:spPr>
          <a:xfrm>
            <a:off x="7020000" y="981000"/>
            <a:ext cx="172872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elling a story from quantitative data -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1125360"/>
          <a:ext cx="5327640" cy="4954680"/>
        </p:xfrm>
        <a:graphic>
          <a:graphicData uri="http://schemas.openxmlformats.org/drawingml/2006/table">
            <a:tbl>
              <a:tblPr/>
              <a:tblGrid>
                <a:gridCol w="4174920"/>
                <a:gridCol w="1152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sons for contacting most recent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of total attend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 child mixes with others of same 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use fac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meet other par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k from child c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ind out about local family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ested to know about what they 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ed by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behavi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heal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becoming 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talk about family sit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76"/>
          <p:cNvSpPr/>
          <p:nvPr/>
        </p:nvSpPr>
        <p:spPr>
          <a:xfrm>
            <a:off x="0" y="647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9"/>
          <p:cNvSpPr/>
          <p:nvPr/>
        </p:nvSpPr>
        <p:spPr>
          <a:xfrm>
            <a:off x="6516720" y="1268280"/>
            <a:ext cx="2627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Ghate &amp; Hazel (2002)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renting in Poor Environ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ondon: J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of 175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ing about their stresses and use of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hat do raw quantitative data look like?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by case matri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-684360" y="1773000"/>
            <a:ext cx="9360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9640" y="1397160"/>
          <a:ext cx="7993080" cy="4063680"/>
        </p:xfrm>
        <a:graphic>
          <a:graphicData uri="http://schemas.openxmlformats.org/drawingml/2006/table">
            <a:tbl>
              <a:tblPr/>
              <a:tblGrid>
                <a:gridCol w="1598760"/>
                <a:gridCol w="1598400"/>
                <a:gridCol w="1339920"/>
                <a:gridCol w="1511280"/>
                <a:gridCol w="19447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Midd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midd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efinition of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characteristic, attribute, or proper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measurab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more than one possib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A ‘variable’ with only one value is called a constan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sex, age, occupation, voting preference, favourite book, what had for breakfast, what time arrived in this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find variables described/distinguished in three main wa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ITS</cp:lastModifiedBy>
  <dcterms:modified xsi:type="dcterms:W3CDTF">2015-05-05T08:14:35Z</dcterms:modified>
  <cp:revision>127</cp:revision>
  <dc:subject/>
  <dc:title>Slide 1</dc:title>
</cp:coreProperties>
</file>