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2E5B-8EC3-417E-8776-AF6C824D5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B9B0-85C2-445B-B5E7-8717C53AD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DFDC-9ACE-4DAC-848C-176F27015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BC2D-FC42-4871-8120-BB2AE4393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8A7B4-6BB1-41ED-91F2-20429C9154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249C8-38E7-4B9B-8ECC-F71210169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9AB94-F0D5-4392-8E75-699072A1BB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06210-0EA4-4915-89F7-7D77E95419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BFDDF-6BED-40A7-B60E-014AAD0B15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651CB-8371-443A-9730-48F67F335E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295A-510C-42D0-B9DB-DC6A3F345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32B1-FBCA-41C4-B1D6-944D7F320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3FA4A-6671-4083-9529-8EFAB11A59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9F0CC-C8F0-4448-A974-0530FF8A7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FD4FA-1165-45A7-AD7E-29DB82396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FBB9-D5F3-4F0A-9AAB-C0595ECDDA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51950-72E4-4F9A-AF28-E8C344703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9846-7741-4D6C-A597-EECE3FCCE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3584-FC14-49DE-A878-2C2C43522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08AC-8438-48F1-B8B7-387938BB5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A082-442F-4020-B574-91582EC0C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ED8C-0FB8-49CD-A099-84327E1E6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397C-ECB0-4C38-B867-B6823407C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804E-896E-450A-B720-1A00D5FD9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CA99F74-4964-422E-9D5A-0AA8EB3B367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2D629BC-22E4-4AC7-A548-8484E8A3CF6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A20C182-2342-4B7B-9190-96A6C6614EE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E7A492B-C101-45E3-A63B-2F6C767A836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2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see CBU website for detai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the response, Y,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Next week (Thursday)…. 11am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Peter Watson 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Administrator</cp:lastModifiedBy>
  <dcterms:modified xsi:type="dcterms:W3CDTF">2009-09-04T11:26:14Z</dcterms:modified>
  <cp:revision>323</cp:revision>
  <dc:subject/>
  <dc:title>Exploratory Data Analysis</dc:title>
</cp:coreProperties>
</file>