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3F4FD-4D25-4406-8444-4B1D3E6C16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DE9B5-E345-44C4-9E13-AE7E6EED14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3EC16-AD97-4AFD-9F6C-88170E2FFD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416F7-9077-43EC-B681-692CE96E2C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7397C-2DC0-48B7-BE68-C9B4D94F23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5E039-976B-43E8-814A-FD55354A5B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86E98-B785-44F2-8BDC-C3BC6B3D9B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D3159-60ED-4CFE-BA55-EB75492D98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E3944-350B-42F3-AF6A-96A0955A5A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E5D30A-D7D0-47B8-9F64-FEAE30FE88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361CC8-9E87-41E0-A2CF-BC42E69146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40462-3496-4E7D-8C83-CA7905AD0E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035DB-61D1-45E9-A24A-34057F8831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DA675-CF25-4C9F-81B3-6B906D2C3B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A64C7-5899-48FB-9BA9-8C4C160F27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20614-BCC7-47AD-8FB1-F4106EFAF5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E6E9D-F00E-4890-9AAB-FB90C1271D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0A3FB-3020-4D75-B48A-93D33AE396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ABBEC-B477-43D0-B46A-369BFA82E2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3B5BD-D6A7-451B-8DF8-EF4094CCE8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3A92A-D46F-4C12-9727-9059ED6F58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2416E-97B5-49C0-88B5-AC4E1FC9D5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D902E-CC1B-493E-84B0-D6349433C9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AC239-5A2E-4984-9ABB-9A472FC192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1E38C87-124D-490F-8FCC-FC1B7D64D9A8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BAAC9F80-F6AF-4D75-8E39-FCD5B6D657FF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75B7C32-8ECE-47C4-88FD-341746459EEB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2591E29-D999-4956-B2A7-44E110B38C9D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hyperlink" Target="http://www-class.unl.edu/psycrs/statpage/comp.html" TargetMode="External"/><Relationship Id="rId3" Type="http://schemas.openxmlformats.org/officeDocument/2006/relationships/hyperlink" Target="http://www-class.unl.edu/psycrs/statpage/comp.html" TargetMode="External"/><Relationship Id="rId4" Type="http://schemas.openxmlformats.org/officeDocument/2006/relationships/hyperlink" Target="http://www-class.unl.edu/psycrs/statpage/comp.html" TargetMode="External"/><Relationship Id="rId5" Type="http://schemas.openxmlformats.org/officeDocument/2006/relationships/hyperlink" Target="http://www-class.unl.edu/psycrs/statpage/comp.html" TargetMode="External"/><Relationship Id="rId6" Type="http://schemas.openxmlformats.org/officeDocument/2006/relationships/hyperlink" Target="http://www-class.unl.edu/psycrs/statpage/comp.html" TargetMode="External"/><Relationship Id="rId7" Type="http://schemas.openxmlformats.org/officeDocument/2006/relationships/hyperlink" Target="http://www-class.unl.edu/psycrs/statpage/comp.html" TargetMode="External"/><Relationship Id="rId8" Type="http://schemas.openxmlformats.org/officeDocument/2006/relationships/hyperlink" Target="http://www-class.unl.edu/psycrs/statpage/comp.html" TargetMode="External"/><Relationship Id="rId9" Type="http://schemas.openxmlformats.org/officeDocument/2006/relationships/hyperlink" Target="http://www-class.unl.edu/psycrs/statpage/comp.html" TargetMode="External"/><Relationship Id="rId10" Type="http://schemas.openxmlformats.org/officeDocument/2006/relationships/hyperlink" Target="http://www-class.unl.edu/psycrs/statpage/comp.html" TargetMode="External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hyperlink" Target="http://independent.academia.edu/JohnFHall/Talks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3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38080" y="160020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" y="1600200"/>
          <a:ext cx="77724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7724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9480" y="1600200"/>
          <a:ext cx="79250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79250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38080" y="160020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27240" y="160020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160020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 flipV="1">
            <a:off x="2590920" y="159984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38280" y="3886200"/>
            <a:ext cx="327672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Semi-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as abov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class.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3"/>
              </a:rPr>
              <a:t>unl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4"/>
              </a:rPr>
              <a:t>.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5"/>
              </a:rPr>
              <a:t>edu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6"/>
              </a:rPr>
              <a:t>/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7"/>
              </a:rPr>
              <a:t>psycrs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8"/>
              </a:rPr>
              <a:t>/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9"/>
              </a:rPr>
              <a:t>statpage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0"/>
              </a:rPr>
              <a:t>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CR x age) given group, CR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 contro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-31212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-31212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20720" y="1600200"/>
          <a:ext cx="590256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1600200"/>
                    <a:ext cx="5902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 flipV="1">
            <a:off x="1371600" y="18284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14400" y="297180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un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solely on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</a:t>
            </a:r>
            <a:r>
              <a:rPr b="0" lang="en-GB" sz="14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Academia.edu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ff00ff"/>
                </a:solidFill>
                <a:uFillTx/>
                <a:latin typeface="Verdana"/>
                <a:hlinkClick r:id="rId3"/>
              </a:rPr>
              <a:t>http://independent.academia.edu/JohnFHall/Ta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 and complex designs including analysis of co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7622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Administrator</cp:lastModifiedBy>
  <dcterms:modified xsi:type="dcterms:W3CDTF">2009-10-15T13:04:41Z</dcterms:modified>
  <cp:revision>280</cp:revision>
  <dc:subject/>
  <dc:title>REGRESSION ANALYSIS</dc:title>
</cp:coreProperties>
</file>