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3.wmf" ContentType="image/x-wmf"/>
  <Override PartName="/ppt/media/image26.wmf" ContentType="image/x-wmf"/>
  <Override PartName="/ppt/media/image24.wmf" ContentType="image/x-wmf"/>
  <Override PartName="/ppt/media/image23.png" ContentType="image/png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25.wmf" ContentType="image/x-wmf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6E32DB-E93C-4928-97C4-4E22FEB708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70F3A3-8AAA-4DA7-A0E5-8BE663D274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58D571-1AAF-476B-829E-98493F2295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F3CD59-678F-489B-B22B-212A4C8163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C296F2-0352-48BE-9AAC-1593C47DB7D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B9DF3A-9CC0-47B9-B405-2C9A1F4C74D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B65B8B-9463-4BCD-88AB-C57EAF96451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FD5B3D-8824-4433-A02A-DAC54580F31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91C7BD-7A2E-4771-92C0-F848F8BF18B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1D0E36-C346-48BE-A76B-7D909FDDE44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658C48-4005-46FD-BBA1-489AB80720A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A6BF96-955A-47C4-8CD2-6E90022F0D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87BF1B-1C62-4F7D-AF28-88D89B958FE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A7CDB8-B74E-4A30-B706-418E131F506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D9EABB-B347-4111-809D-ABB9C21379D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C4F616-E2F4-4627-89F3-4D9076E6F94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0E7BD4-459E-4EB4-973B-4C8B713ACB5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7F1B37-B16F-4AF5-BF6E-EE05E5261E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D71268-C736-4A24-9E7F-2760A7027E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7A714F-1B85-4C86-84FA-502F7103E3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F0ADAA-5D9E-445E-AC40-C5419B410B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F02E95-12C0-4321-A05C-A7A88B2D9F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895259-E083-4D9B-88A3-3E429BD734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B14728-3B60-4745-AF2B-4119542A8B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914400" y="6476760"/>
            <a:ext cx="5105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471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071B7311-334D-43C5-A13B-201A7ECA3F44}" type="datetime">
              <a:rPr b="0" lang="en-US" sz="1000" spc="-1" strike="noStrike">
                <a:solidFill>
                  <a:srgbClr val="9a044b"/>
                </a:solidFill>
                <a:latin typeface="Verdana"/>
              </a:rPr>
              <a:t>07/31/26</a:t>
            </a:fld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EE42AFCB-A075-4488-8CB1-1D2B590BC18D}" type="slidenum">
              <a:rPr b="0" lang="en-US" sz="1000" spc="-1" strike="noStrike">
                <a:solidFill>
                  <a:srgbClr val="9a044b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6095880" y="228600"/>
            <a:ext cx="2819520" cy="830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ftr" idx="3"/>
          </p:nvPr>
        </p:nvSpPr>
        <p:spPr>
          <a:xfrm>
            <a:off x="838080" y="6476760"/>
            <a:ext cx="5181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Num" idx="4"/>
          </p:nvPr>
        </p:nvSpPr>
        <p:spPr>
          <a:xfrm>
            <a:off x="6552720" y="6476760"/>
            <a:ext cx="2210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37A5CA0C-F479-42F2-8135-7D78A5E5A5F7}" type="datetime">
              <a:rPr b="0" lang="en-US" sz="1000" spc="-1" strike="noStrike">
                <a:solidFill>
                  <a:srgbClr val="9a044b"/>
                </a:solidFill>
                <a:latin typeface="Verdana"/>
              </a:rPr>
              <a:t>07/31/26</a:t>
            </a:fld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3361B220-DF83-4B16-82FC-223AD605FB83}" type="slidenum">
              <a:rPr b="0" lang="en-US" sz="1000" spc="-1" strike="noStrike">
                <a:solidFill>
                  <a:srgbClr val="9a044b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title"/>
          </p:nvPr>
        </p:nvSpPr>
        <p:spPr>
          <a:xfrm>
            <a:off x="1600200" y="1904760"/>
            <a:ext cx="6192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6095880" y="228600"/>
            <a:ext cx="2819520" cy="83016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457200"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914400" algn="ctr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3" marL="1371600" algn="ctr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4" marL="1828800" algn="ctr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5" marL="18288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6" marL="18288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00200" y="1904760"/>
            <a:ext cx="6192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600" spc="-1" strike="noStrike">
                <a:solidFill>
                  <a:srgbClr val="9a044b"/>
                </a:solidFill>
                <a:latin typeface="Verdana"/>
              </a:rPr>
              <a:t>6. Analysis of Variance </a:t>
            </a:r>
            <a:br>
              <a:rPr sz="2600"/>
            </a:br>
            <a:r>
              <a:rPr b="0" i="1" lang="en-GB" sz="2600" spc="-1" strike="noStrike">
                <a:solidFill>
                  <a:srgbClr val="9a044b"/>
                </a:solidFill>
                <a:latin typeface="Verdana"/>
              </a:rPr>
              <a:t>(Balanced Multifactorial)</a:t>
            </a:r>
            <a:endParaRPr b="1" lang="en-US" sz="2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600200" y="3048120"/>
            <a:ext cx="61977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Between Subjects Desig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Single Subject Studi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eter Wats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ttp://imaging.mrc-cbu.cam.ac.uk/statswiki/FAQ/anovaFAQ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1824120" cy="1706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quality of task variance assumption: Levene’s tes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7" name=""/>
          <p:cNvSpPr/>
          <p:nvPr/>
        </p:nvSpPr>
        <p:spPr>
          <a:xfrm>
            <a:off x="3886200" y="5334120"/>
            <a:ext cx="450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12 task-group pairs have equal variances</a:t>
            </a:r>
            <a:endParaRPr b="0" lang="en-US" sz="1600" spc="-1" strike="noStrike">
              <a:solidFill>
                <a:srgbClr val="9a044b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539640" y="2637000"/>
            <a:ext cx="8604360" cy="254772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7308720" y="2997360"/>
            <a:ext cx="1440000" cy="223200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6659640" y="4221000"/>
            <a:ext cx="1441440" cy="115272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Group by Task interac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787320" y="1600200"/>
          <a:ext cx="7567560" cy="4724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600200"/>
                    <a:ext cx="756756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" name=""/>
          <p:cNvSpPr/>
          <p:nvPr/>
        </p:nvSpPr>
        <p:spPr>
          <a:xfrm>
            <a:off x="2133720" y="4800600"/>
            <a:ext cx="586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imals              objects         plants         countries  </a:t>
            </a:r>
            <a:endParaRPr b="0" lang="en-US" sz="16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ask-group scores follow a Normal distribu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819520"/>
            <a:ext cx="838440" cy="213336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666880" y="1600200"/>
            <a:ext cx="434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on-significance indicates Normality</a:t>
            </a:r>
            <a:endParaRPr b="0" lang="en-US" sz="1600" spc="-1" strike="noStrike">
              <a:solidFill>
                <a:srgbClr val="9a044b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855800" y="2335320"/>
            <a:ext cx="5430960" cy="32544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4427640" y="2492280"/>
            <a:ext cx="2303280" cy="144144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227640" y="2421000"/>
            <a:ext cx="1081080" cy="287964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esidual check - equal precision of fi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871640" y="1600200"/>
            <a:ext cx="5400720" cy="4724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ANOVA tab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5715000" y="5562720"/>
            <a:ext cx="243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MS Error subjects</a:t>
            </a:r>
            <a:endParaRPr b="0" lang="en-US" sz="16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733920" y="601992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One error term used for assessing all terms</a:t>
            </a:r>
            <a:endParaRPr b="0" lang="en-US" sz="16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286000" y="3078000"/>
            <a:ext cx="4572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3078000"/>
            <a:ext cx="4572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826920" y="1844640"/>
            <a:ext cx="7345440" cy="396072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5867280" y="4005360"/>
            <a:ext cx="1009800" cy="7189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6732720" y="2276640"/>
            <a:ext cx="576000" cy="15840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443640" y="1989000"/>
            <a:ext cx="22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teraction</a:t>
            </a:r>
            <a:endParaRPr b="0" lang="en-US" sz="16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H="1" flipV="1">
            <a:off x="5508360" y="4653000"/>
            <a:ext cx="647640" cy="93672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rofile plo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trols find naming animals relatively easy compared to patient group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trols find naming countries relatively difficult compared to patient grou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rossed interac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4038480" y="1600200"/>
          <a:ext cx="5105520" cy="4572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1600200"/>
                    <a:ext cx="510552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" name=""/>
          <p:cNvSpPr/>
          <p:nvPr/>
        </p:nvSpPr>
        <p:spPr>
          <a:xfrm>
            <a:off x="4800600" y="502920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imals   Objects    Plants   Countries</a:t>
            </a:r>
            <a:endParaRPr b="0" lang="en-US" sz="16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imple effec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elp explain an interac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owell (1997) suggests using the Error term from the analysis using all subjec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.g. Using </a:t>
            </a:r>
            <a:r>
              <a:rPr b="0" lang="en-GB" sz="1800" spc="-1" strike="noStrike">
                <a:solidFill>
                  <a:srgbClr val="3903e5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Group 1  observations </a:t>
            </a:r>
            <a:r>
              <a:rPr b="0" lang="en-GB" sz="1800" spc="-1" strike="noStrike">
                <a:solidFill>
                  <a:srgbClr val="3903e5"/>
                </a:solidFill>
                <a:latin typeface="Verdana"/>
              </a:rPr>
              <a:t>: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903e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903e5"/>
                </a:solidFill>
                <a:latin typeface="Verdana"/>
              </a:rPr>
              <a:t>Simple effect of Task on Group 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S(Task) = 61.38, MS(error)=2.81 (all 4 task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(3,48) = 61.38/2.81 = 21.84, p&lt;0.00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5486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Alternatively : </a:t>
            </a:r>
            <a:r>
              <a:rPr b="1" lang="en-GB" sz="2000" spc="-1" strike="noStrike">
                <a:solidFill>
                  <a:srgbClr val="3903e5"/>
                </a:solidFill>
                <a:latin typeface="Verdana"/>
              </a:rPr>
              <a:t>Simple effect of group on animals</a:t>
            </a:r>
            <a:br>
              <a:rPr sz="2000"/>
            </a:br>
            <a:br>
              <a:rPr sz="2000"/>
            </a:b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Groups 1 &amp; 2 = Patients;</a:t>
            </a:r>
            <a:br>
              <a:rPr sz="2000"/>
            </a:b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Group 3 = Control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685800" y="1752480"/>
          <a:ext cx="8229600" cy="4489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8229600" cy="448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"/>
          <p:cNvSpPr/>
          <p:nvPr/>
        </p:nvSpPr>
        <p:spPr>
          <a:xfrm>
            <a:off x="2514600" y="4572000"/>
            <a:ext cx="5715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ild                      Severe                 Controls</a:t>
            </a:r>
            <a:endParaRPr b="0" lang="en-US" sz="16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Interac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present the difference in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impl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effec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 either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imple effects of tasks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imple effects of group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ore on simple effec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wo methods available in SPSS for simple effects analysis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NOVA : using /CONTRAST subcommand (See post-hoc talk for rules on contrast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LM : /LMATRIX subcommand is also availab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ttp://imaging.mrc-cbu.cam.ac.uk/statswiki/FAQ/Interac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nd also mentioned in forthcoming repeated measures talk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or a large number of simple effects a Sidak correction should be considered for correcting the p-valu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http://imaging.mrc-cbu.cam.ac.uk/statswiki/FAQ/SpssBonferroni 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: BALANCED.S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andomisation experimen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ppose wish to compare 2 teaching methods (e.g. group/individual learning ) such that each child is taught to read on their own or in a group;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 groups of size 10 - “average ability” ; “below average ability”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o remove allocation bia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row a die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each group of 20 children allocate sets of four subjects to a method (A or B) based on number rolled: throw die five tim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ABB ABAB ABBA BBAA BABA BAAB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oll a: (‘1’)    (‘2’)   (‘3’)  (‘4’)    (‘5’)   (‘6’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ize of effec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xpress Sums of Squares as % Total Sum of squar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ask : 127/1389=9% (small effect according to Cohen, 1988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oup: 640/1389=46% (large effect according to Cohen, 1988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ask x group: 487/1389=35%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large effect according to Cohen, 1988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se are squared correlations (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; Their square root is the semi-partial (also called part) correla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compare R-squareds from different data sets: http://imaging.mrc-cbu.cam.ac.uk/statswiki/FAQ/rsqdiff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ANOVA summar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teraction : Task by Group: F(6,48)=30.50, p&lt;0.00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in Effects: Task:  F(3,48)=15.66, p&lt;0.00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oup: F(2,48)=118.7, p&lt;0.00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903e5"/>
                </a:solidFill>
                <a:latin typeface="Verdana"/>
              </a:rPr>
              <a:t>Main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, </a:t>
            </a:r>
            <a:r>
              <a:rPr b="1" lang="en-GB" sz="2000" spc="-1" strike="noStrike">
                <a:solidFill>
                  <a:srgbClr val="fa1c1c"/>
                </a:solidFill>
                <a:latin typeface="Verdana"/>
              </a:rPr>
              <a:t>Simple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, </a:t>
            </a:r>
            <a:r>
              <a:rPr b="1" lang="en-GB" sz="2000" spc="-1" strike="noStrike">
                <a:solidFill>
                  <a:srgbClr val="100822"/>
                </a:solidFill>
                <a:latin typeface="Verdana"/>
              </a:rPr>
              <a:t>interaction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ea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09480" y="1828800"/>
          <a:ext cx="8001000" cy="3962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828800"/>
                    <a:ext cx="800100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" name=""/>
          <p:cNvSpPr/>
          <p:nvPr/>
        </p:nvSpPr>
        <p:spPr>
          <a:xfrm>
            <a:off x="2590920" y="2666880"/>
            <a:ext cx="4876560" cy="2438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543800" y="2895480"/>
            <a:ext cx="1066680" cy="198144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971800" y="4800600"/>
            <a:ext cx="4724280" cy="68580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743200" y="3505320"/>
            <a:ext cx="4495680" cy="7617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514600" y="2133720"/>
            <a:ext cx="617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imals       Objects     Plants      Countries     </a:t>
            </a:r>
            <a:endParaRPr b="0" lang="en-US" sz="16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371600" y="3048120"/>
            <a:ext cx="1600200" cy="18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ild</a:t>
            </a:r>
            <a:endParaRPr b="0" lang="en-US" sz="1600" spc="-1" strike="noStrike">
              <a:solidFill>
                <a:srgbClr val="9a044b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evere</a:t>
            </a:r>
            <a:endParaRPr b="0" lang="en-US" sz="1600" spc="-1" strike="noStrike">
              <a:solidFill>
                <a:srgbClr val="9a044b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trols</a:t>
            </a:r>
            <a:endParaRPr b="0" lang="en-US" sz="16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s in a 2 Factor desig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1371600" y="1905120"/>
            <a:ext cx="205740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Which Group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495680" y="1905120"/>
            <a:ext cx="2057400" cy="83808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Type of Task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1295280" y="2971800"/>
            <a:ext cx="6098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895480" y="2895480"/>
            <a:ext cx="99072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3962160" y="2895480"/>
            <a:ext cx="106668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172200" y="2819520"/>
            <a:ext cx="129528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04920" y="4038480"/>
            <a:ext cx="1676160" cy="68580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ain effect 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of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743200" y="3962520"/>
            <a:ext cx="2514600" cy="60948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nteraction between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934320" y="3733920"/>
            <a:ext cx="1676160" cy="60948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ain effect 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of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85800" y="4952880"/>
            <a:ext cx="3048120" cy="114300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IMPLE EFFECT of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@group=control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@group=mild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419720" y="5029200"/>
            <a:ext cx="3352680" cy="137160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IMPLE EFFECT of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@task=naming animals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@task=naming countries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H="1">
            <a:off x="3352680" y="4648320"/>
            <a:ext cx="15264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952880" y="4572000"/>
            <a:ext cx="121932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ask and Group are statistically independent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1422360" y="1600200"/>
            <a:ext cx="6299280" cy="4724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ost-hoc tests (main effects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ukey’s HSD for pairwise comparison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click post hoc in general linear model:univariate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also use ‘mcneq’ program on UNIX system at CBSU or 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ttp://imaging.mrc-cbu.cam.ac.uk/statswiki/FAQ/TukeyKram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tandard Error in ANOVA based on averaging the variances of the five observations in each of the 12 group/task combinatio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y be best to look at tasks separately in control group as they behave relatively differently than with the patien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vered in post-hoc talk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ake your design fit your ques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3 IQ groups, 3 naming tasks, 3 age groups  (A,B,C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a044b"/>
                </a:solidFill>
                <a:latin typeface="Verdana"/>
              </a:rPr>
              <a:t>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3 x 3 Latin Squa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Task 1     Task 2    Task 3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Group 1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A (n=3)  B (n=3)  C (n=3)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Group 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B (n=3)  C (n=3)  A (n=3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Group 3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C (n=3)  A (n=3)  B (n=3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Use 1/3 of all possible factor combinations by using a single observation in each cel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Latin Square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a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ask 1 Task 2 Task 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oup 1      19.34  20.45  20.9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oup 2      18.38  22.56  24.24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oup 3      20.82  22.59  24.5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Output - main effec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457200" y="1893960"/>
            <a:ext cx="8229600" cy="41371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7238880" y="3429000"/>
            <a:ext cx="1371600" cy="167652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7467480" y="4647960"/>
            <a:ext cx="381240" cy="160020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5943600"/>
            <a:ext cx="289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No significant main effects</a:t>
            </a:r>
            <a:endParaRPr b="0" lang="en-US" sz="16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ut…can’t fit interactions!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681120" y="1600200"/>
            <a:ext cx="7780320" cy="472428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2743200" y="2971800"/>
            <a:ext cx="2362320" cy="236232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3733920" y="4647960"/>
            <a:ext cx="1752480" cy="152388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257800" y="5943600"/>
            <a:ext cx="297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Confounded!</a:t>
            </a:r>
            <a:endParaRPr b="0" lang="en-US" sz="16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esults: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0 schoolchildren form each ability randomly allocated to one of the two method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            </a:t>
            </a:r>
            <a:r>
              <a:rPr b="1" i="1" lang="en-GB" sz="1800" spc="-1" strike="noStrike">
                <a:solidFill>
                  <a:srgbClr val="3299cc"/>
                </a:solidFill>
                <a:latin typeface="Verdana"/>
              </a:rPr>
              <a:t>Mean Reading scores: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Grou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Method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Average   Below Average   Mea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dividual           1.7           4.5              </a:t>
            </a: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3.1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oup                5.5           5.6              </a:t>
            </a: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5.5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an                </a:t>
            </a: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3.60         5.05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            </a:t>
            </a:r>
            <a:r>
              <a:rPr b="1" i="1" lang="en-GB" sz="1800" spc="-1" strike="noStrike">
                <a:solidFill>
                  <a:srgbClr val="3299cc"/>
                </a:solidFill>
                <a:latin typeface="Verdana"/>
              </a:rPr>
              <a:t>4.375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Latin squar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Pro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eed fewer peopl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djusts each factor for other two e.g. group differences not due to task or centr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C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ssumes zero interacti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umbers required are large for bigger designs e.g. 12 x 12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alanc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andom allocation usually has equal numbers of factor combinations (balanc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.g. task/group example we have just looked at is a balanced design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ve people in each group perform each task (5 people x 4 tasks x 3 groups = 60 observation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alance meant task and group were statistically independent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bservational studies/surveys have unequal numbers in cells (unbalanced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spreadsheet:http://imaging.mrc-cbu.cam.ac.uk/statswiki/FAQ/s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: BALANCED.ANOVA.X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299cc"/>
                </a:solidFill>
                <a:latin typeface="Verdana"/>
              </a:rPr>
              <a:t>UN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alanced study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 Predictor variabl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3 status of smokers: Current, Don’t, Have Done in the pas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amily History of smoking: yes or no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s Blood Pressure influenced by smoking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is study will not have equal numbers of subjects having smoker/family history combinations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in general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alanced stud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qual numbers in group combination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Mean Blood Pressure (BP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amil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istory             Smoker Statu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</a:t>
            </a: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Non               Ex               Curren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Y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140.5, n=2    110.5, n=2    127.5, n=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No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112.0, n=2    119.0, n=2    132.5, n=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mily histories are equally represented for each smoker status. So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 mean blood pressures for each smoking status do not need to b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djusted for family history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History only (Balanced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457200" y="2187720"/>
            <a:ext cx="8229600" cy="35496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2514600" y="3886200"/>
            <a:ext cx="2286000" cy="5335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tatus ONLY (Balanced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457200" y="2179800"/>
            <a:ext cx="8229600" cy="356364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2438280" y="3886200"/>
            <a:ext cx="2210040" cy="6094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tatus and History are statistically independen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457200" y="1967040"/>
            <a:ext cx="8229600" cy="39909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2590920" y="3657600"/>
            <a:ext cx="2286000" cy="68580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3809880" y="4190760"/>
            <a:ext cx="1447920" cy="152388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952880" y="5638680"/>
            <a:ext cx="304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S haven’t changed!</a:t>
            </a:r>
            <a:endParaRPr b="0" lang="en-US" sz="16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362320" y="5029200"/>
            <a:ext cx="1523880" cy="3808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V="1">
            <a:off x="3200400" y="5257800"/>
            <a:ext cx="0" cy="53352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828800" y="5638680"/>
            <a:ext cx="320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tal (for 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calculation)</a:t>
            </a:r>
            <a:endParaRPr b="0" lang="en-US" sz="16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</a:t>
            </a:r>
            <a:r>
              <a:rPr b="1" lang="en-GB" sz="20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moking Status alone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= 505.167/2314.667=22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Status adjusted for Family Histor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mily History alone :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= 75/2314.667 =3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Family History adjusted for Statu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Unbalanced study (Boniface,1995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cc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3399"/>
                </a:solidFill>
                <a:latin typeface="Verdana"/>
              </a:rPr>
              <a:t>Unequal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numbers in group combination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  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Mean Blood Pressure (BP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amil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istory          Smoker Statu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Non                 Ex             Curren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Y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126.57,n=7   121.67,n=6   131.57,n=7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No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111.75,n=8   108.25,n=4   128.17,n=6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ight expect non-smokers to have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 low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mean blood pressure simpl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ecause they have a 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high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proportion of people without a famil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istory of smoking. Need to adjust for family history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History ONLY (Unbalanced study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457200" y="2179800"/>
            <a:ext cx="8229600" cy="356364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2133720" y="3886200"/>
            <a:ext cx="2514600" cy="5335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Questions of interest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 Teaching styl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dividual mean - Group mea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 Group performance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verage mean - Below Average mea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oes teaching style success depend on the ability of the child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Individual mean - Group mean) in average -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Individual mean - Group mean) in below averag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tatus ONLY (Unbalanced design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457200" y="2187720"/>
            <a:ext cx="8229600" cy="354960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2362320" y="3886200"/>
            <a:ext cx="2438280" cy="5335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tatus and History are </a:t>
            </a:r>
            <a:r>
              <a:rPr b="1" lang="en-GB" sz="2000" spc="-1" strike="noStrike">
                <a:solidFill>
                  <a:srgbClr val="3299cc"/>
                </a:solidFill>
                <a:latin typeface="Verdana"/>
              </a:rPr>
              <a:t>not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 statistically independent….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9" name=""/>
          <p:cNvSpPr/>
          <p:nvPr/>
        </p:nvSpPr>
        <p:spPr>
          <a:xfrm>
            <a:off x="3564000" y="5157720"/>
            <a:ext cx="3657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ATUS AND HISTORY SS HAVE CHANGED!</a:t>
            </a:r>
            <a:endParaRPr b="0" lang="en-US" sz="16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286000" y="3078000"/>
            <a:ext cx="4572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556000" y="3284640"/>
            <a:ext cx="1439640" cy="6490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2079720" y="1700280"/>
            <a:ext cx="4983120" cy="288432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 flipH="1" flipV="1">
            <a:off x="3634920" y="3499920"/>
            <a:ext cx="792360" cy="151308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132000" y="2924280"/>
            <a:ext cx="863640" cy="6490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Whole is more than the sum of the parts in Unbalanced designs!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1332000" y="1557360"/>
            <a:ext cx="6095880" cy="4876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odel for unbalanced data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838080" y="3352680"/>
            <a:ext cx="1219320" cy="5335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819520" y="3048120"/>
            <a:ext cx="1066680" cy="17524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343400" y="3124080"/>
            <a:ext cx="1143000" cy="12193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3276720"/>
            <a:ext cx="1828800" cy="167616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990720" y="3429000"/>
            <a:ext cx="99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121.33</a:t>
            </a:r>
            <a:endParaRPr b="0" lang="en-US" sz="16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971800" y="3352680"/>
            <a:ext cx="76212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-2.17</a:t>
            </a:r>
            <a:endParaRPr b="0" lang="en-US" sz="1600" spc="-1" strike="noStrike">
              <a:solidFill>
                <a:srgbClr val="9a044b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-6.37</a:t>
            </a:r>
            <a:endParaRPr b="0" lang="en-US" sz="1600" spc="-1" strike="noStrike">
              <a:solidFill>
                <a:srgbClr val="9a044b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8.54</a:t>
            </a:r>
            <a:endParaRPr b="0" lang="en-US" sz="16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19720" y="3429000"/>
            <a:ext cx="99036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5.27</a:t>
            </a:r>
            <a:endParaRPr b="0" lang="en-US" sz="1600" spc="-1" strike="noStrike">
              <a:solidFill>
                <a:srgbClr val="9a044b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-5.27</a:t>
            </a:r>
            <a:endParaRPr b="0" lang="en-US" sz="16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19920" y="3505320"/>
            <a:ext cx="152388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2.14  -2.14</a:t>
            </a:r>
            <a:endParaRPr b="0" lang="en-US" sz="1600" spc="-1" strike="noStrike">
              <a:solidFill>
                <a:srgbClr val="9a044b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1.44  -1.44</a:t>
            </a:r>
            <a:endParaRPr b="0" lang="en-US" sz="1600" spc="-1" strike="noStrike">
              <a:solidFill>
                <a:srgbClr val="9a044b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-3.57   3.57</a:t>
            </a:r>
            <a:endParaRPr b="0" lang="en-US" sz="16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Est. BP for smoker with no family history =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121.33+8.54-5.27+3.57=128.17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2286000" y="335268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+ </a:t>
            </a:r>
            <a:endParaRPr b="0" lang="en-US" sz="16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906360" y="3562200"/>
            <a:ext cx="34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+</a:t>
            </a:r>
            <a:endParaRPr b="0" lang="en-US" sz="16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562720" y="3886200"/>
            <a:ext cx="2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+</a:t>
            </a:r>
            <a:endParaRPr b="0" lang="en-US" sz="16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33160" y="2895480"/>
            <a:ext cx="186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Overall Mean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09680" y="4876920"/>
            <a:ext cx="210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Smoking Status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038480" y="25909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Family History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800600" y="525780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Smoking Status by Family History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2133720"/>
            <a:ext cx="586764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xpected blood pressure for random individual =</a:t>
            </a:r>
            <a:endParaRPr b="0" lang="en-US" sz="1600" spc="-1" strike="noStrike">
              <a:solidFill>
                <a:srgbClr val="9a044b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Sizes (as % of Total SS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tatus alone: 1323.33/11086.76=12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mily History alone : 1025.71/11086.76=9.3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tatus (Adjusted for Family History) : 1334.37/11086.76=12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Family History (Adjusted for Status): 1036.81/11086.76=9.4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In Unbalanced designs need to take into account other predictors when explaining the effect of a particular variable on a respons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Unweighted means (Type III SS in SPSS)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owell (2002) can approximate SS in ANOVA using unweighted mea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Family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istory          Smoker Status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EANS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i="1" lang="en-GB" sz="1600" spc="-1" strike="noStrike">
                <a:solidFill>
                  <a:srgbClr val="9a044b"/>
                </a:solidFill>
                <a:latin typeface="Verdana"/>
              </a:rPr>
              <a:t>Non                 Ex             Current          weighted  unweight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9a044b"/>
                </a:solidFill>
                <a:latin typeface="Verdana"/>
              </a:rPr>
              <a:t>Yes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126.57,n=7   121.67,n=6   131.57,n=7      126.85       126.6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                                                        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121.65       121.33 Midpoin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9a044b"/>
                </a:solidFill>
                <a:latin typeface="Verdana"/>
              </a:rPr>
              <a:t>No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111.75,n=8   108.25,n=4   128.17,n=6      116.44       116.06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S(History adjusted for Status and Status by History) : 2 x nH x (126.60-121.33)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=1007.35 where nH = 3 x (6/(1/7+1/8+1/6+1/4+1/7+1/6) = 18.11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Weighted mea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S(History) = 20 x (126.85 – 121.65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+ 18 x (116.44-121.65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            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1026.64 approx = 2 x 18.95 (126.85-121.65) 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amil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istory          Smoker Statu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AN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Non                 Ex             Current          weighted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Y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126.57,n=7   121.67,n=6   131.57,n=7      126.85     (n=20)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                                             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121.65    (mean)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No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111.75,n=8   108.25,n=4   128.17,n=6      116.44    (n=18)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use weighted means to work out SS(History adjusted for Status)   (convoluted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How do we treat main effects in a model containing interactions involving these main effects?</a:t>
            </a:r>
            <a:br>
              <a:rPr sz="1800"/>
            </a:b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elder (1994) , Langsrud (2003) and others suggest looking at main effect Sums of Squares (SS) after removing interaction terms involving that main effect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provided  those interactions are not significant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e.g. omitting the AxB interaction if it is not significant to look at A or B so using SS(A given B in model) and SS(B given A model).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Weighted combinations of means can work out SS(A) and SS(A given B)  (and SS(B), SS(B given A));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Only unweighted (equal n) combinations of means work out SS(A | B, AxB) and SS(B | A, AxB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S are usually evaluated using changes in model fit for addition or deletion of factors of interest by comparing different regressions.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S using weighted combinations of means also called Type II SS; SS using unweighted (equally weighted by sample size) combinations of means are called Type III S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alanced/Unbalanced summar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alanc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lanned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combination siz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on’t have to adjust at analysis stage to examine an effec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o synerg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UN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alanc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Un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lann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Un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combination siz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verage cell sizes using Harmonic mean (Type III SS in SPSS) although Nelder (1994) advocates a type II weighted S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eed to adjust at analysis stage to examine an effec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ynergy presen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positive or negativ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10920" y="404640"/>
            <a:ext cx="518148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An apparent contradiction!</a:t>
            </a:r>
            <a:br>
              <a:rPr sz="2000"/>
            </a:br>
            <a:br>
              <a:rPr sz="2000"/>
            </a:b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>
            <a:off x="684360" y="1989000"/>
            <a:ext cx="4983120" cy="250524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2"/>
          <a:stretch/>
        </p:blipFill>
        <p:spPr>
          <a:xfrm>
            <a:off x="2700360" y="4437000"/>
            <a:ext cx="5330880" cy="196524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/>
          <p:nvPr/>
        </p:nvSpPr>
        <p:spPr>
          <a:xfrm>
            <a:off x="5796720" y="1989000"/>
            <a:ext cx="260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We have NO interaction</a:t>
            </a:r>
            <a:endParaRPr b="0" lang="en-US" sz="16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859280" y="3357720"/>
            <a:ext cx="576360" cy="4316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643280" y="3429000"/>
            <a:ext cx="1008360" cy="2872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5435280" y="2276640"/>
            <a:ext cx="1081080" cy="129672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948360" y="4941720"/>
            <a:ext cx="1079640" cy="122400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7164360" y="3716280"/>
            <a:ext cx="287280" cy="136836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659640" y="2708280"/>
            <a:ext cx="2089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But different results in the groups</a:t>
            </a:r>
            <a:endParaRPr b="0" lang="en-US" sz="16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One tailed testing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se t(18) for apriori directional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ypotheses called one-tailed tes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.g. Is individual teaching more beneficial than group learning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2 groups case only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 t test is a directional test because it takes both positive and negative valu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</a:t>
            </a:r>
            <a:r>
              <a:rPr b="0" lang="en-GB" sz="1400" spc="-1" strike="noStrike" baseline="-25000">
                <a:solidFill>
                  <a:srgbClr val="9a044b"/>
                </a:solidFill>
                <a:latin typeface="Verdana"/>
              </a:rPr>
              <a:t>df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 *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</a:t>
            </a:r>
            <a:r>
              <a:rPr b="0" lang="en-GB" sz="1400" spc="-1" strike="noStrike" baseline="-25000">
                <a:solidFill>
                  <a:srgbClr val="9a044b"/>
                </a:solidFill>
                <a:latin typeface="Verdana"/>
              </a:rPr>
              <a:t>df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=  F(1, df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4648320" y="1781280"/>
          <a:ext cx="4038480" cy="436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781280"/>
                    <a:ext cx="4038480" cy="436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" name=""/>
          <p:cNvSpPr/>
          <p:nvPr/>
        </p:nvSpPr>
        <p:spPr>
          <a:xfrm>
            <a:off x="6629760" y="3200400"/>
            <a:ext cx="198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a044b"/>
                </a:solidFill>
                <a:latin typeface="Times New Roman"/>
              </a:rPr>
              <a:t>P(&gt;1.73)=0.05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486400" y="4191120"/>
            <a:ext cx="20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66"/>
                </a:solidFill>
                <a:latin typeface="Times New Roman"/>
              </a:rPr>
              <a:t>P(&lt;-1.73)=0.05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8229600" y="3657600"/>
            <a:ext cx="0" cy="21337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248520" y="4572000"/>
            <a:ext cx="0" cy="1219320"/>
          </a:xfrm>
          <a:prstGeom prst="line">
            <a:avLst/>
          </a:prstGeom>
          <a:ln w="93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105520" y="6095880"/>
            <a:ext cx="373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-3     -2      -1      0      1       2</a:t>
            </a:r>
            <a:endParaRPr b="0" lang="en-US" sz="16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410080" y="6400800"/>
            <a:ext cx="373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ifference in method means</a:t>
            </a:r>
            <a:endParaRPr b="0" lang="en-US" sz="16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Explanation is…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here is no interaction because all of the differences between English and Japanese are not significantly different from zero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ven though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he English syllable scores differ and the Japanese do no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88" name=""/>
          <p:cNvGraphicFramePr/>
          <p:nvPr/>
        </p:nvGraphicFramePr>
        <p:xfrm>
          <a:off x="4986360" y="2781360"/>
          <a:ext cx="3362400" cy="23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86360" y="2781360"/>
                    <a:ext cx="336240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Thanks to...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avid Boniface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an Nimmo-Smith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ferences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oniface DR (1995) Experiment Design and Statistical methods for behavioural and social research Chapman and Hall:London in CBSU library)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owell DC (1992, 1997,2002) Statistical Methods for psychologists (Five editions) Wadsworth:London in CBSU library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Next week…. 11am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Peter Wats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Power Analysi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tudy typ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Between subjects (this talk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One source of vari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ach person has one outcom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ndom allocation of subjec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Or study consists of a single person with multiple outcom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Within subjects (Repeated measure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&gt; 1 source of vari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ach person has multiple outcom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Comparing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cc3399"/>
                </a:solidFill>
                <a:latin typeface="Verdana"/>
              </a:rPr>
              <a:t>Within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&amp;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3299cc"/>
                </a:solidFill>
                <a:latin typeface="Verdana"/>
              </a:rPr>
              <a:t>between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group </a:t>
            </a:r>
            <a:r>
              <a:rPr b="1" lang="en-GB" sz="2000" spc="-1" strike="noStrike">
                <a:solidFill>
                  <a:srgbClr val="fa1c1c"/>
                </a:solidFill>
                <a:latin typeface="Verdana"/>
              </a:rPr>
              <a:t>VARIA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619280" y="1600200"/>
            <a:ext cx="5905440" cy="472428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2666880" y="1752480"/>
            <a:ext cx="533520" cy="3429000"/>
          </a:xfrm>
          <a:prstGeom prst="ellipse">
            <a:avLst/>
          </a:prstGeom>
          <a:noFill/>
          <a:ln w="3816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400800" y="1828800"/>
            <a:ext cx="380880" cy="4038480"/>
          </a:xfrm>
          <a:prstGeom prst="ellipse">
            <a:avLst/>
          </a:prstGeom>
          <a:noFill/>
          <a:ln w="3816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971800" y="4114800"/>
            <a:ext cx="3581280" cy="30492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505320" y="1676520"/>
            <a:ext cx="27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00822"/>
                </a:solidFill>
                <a:latin typeface="Verdana"/>
              </a:rPr>
              <a:t>Is the variation between scores only attributable to random variation between the people those scores were measured on?</a:t>
            </a:r>
            <a:endParaRPr b="0" lang="en-US" sz="16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Another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3 groups: 2 are patient groups (severe and mild); one is a control grou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ach person in a group is randomly given one of 4 word naming tasks: five people in each group do each task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ow many X. can you name beginning with s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X is animals (Task 1) or household objects (Task 2) or plants (Task 3) or countries (Task 4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ask main effec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ask 2 has lower mean than task 4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Error bar length = 95% CI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n plot using bar plots in SPSS or using EXCE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see CBSU website for detail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DEMO: PLOTS.S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4419720" y="1523880"/>
          <a:ext cx="449568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19720" y="1523880"/>
                    <a:ext cx="449568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"/>
          <p:cNvSpPr/>
          <p:nvPr/>
        </p:nvSpPr>
        <p:spPr>
          <a:xfrm>
            <a:off x="4419720" y="403848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imals  objects   plants countries</a:t>
            </a:r>
            <a:endParaRPr b="0" lang="en-US" sz="16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4T13:13:22Z</dcterms:created>
  <dc:creator>peter</dc:creator>
  <dc:description/>
  <dc:language>en-US</dc:language>
  <cp:lastModifiedBy>Administrator</cp:lastModifiedBy>
  <dcterms:modified xsi:type="dcterms:W3CDTF">2009-11-06T16:33:57Z</dcterms:modified>
  <cp:revision>353</cp:revision>
  <dc:subject/>
  <dc:title>No Slide Title</dc:title>
</cp:coreProperties>
</file>