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8F303-617B-42E5-9FFB-BB86792477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ACCD2-DA55-4CEE-A151-A3292FBBB5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61FFF-3754-400B-9D1A-E541D80A40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62F79-9EF1-40C6-AC2B-B43DD4EF54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3D7D4-2B22-4963-9F08-5A68BC52A0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1A027-E33F-44F4-BC5C-82DB72F18B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E9E30-5476-4828-8D41-39AFE2E30C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6F470-3302-4219-9410-F3DBB2C94E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820F7-718C-440A-AE74-02030333A6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AD3D2-FDA1-40BA-9988-F03512CE97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48126-EDE8-4679-BAF7-DAB44E0126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7E6E1-69D5-4023-83B0-90C27DA1F8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80161-DF6B-4CE7-B6C7-670DAA17B4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59491-9E9D-4F34-958F-713CCD1263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871BE-88BA-42DA-9868-45316BC777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BAE79-B120-4880-BA83-10D7E8E8F0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F8AE5-9EE4-4F2A-BF34-E6073B5511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85499-39D0-4857-BB85-C5300051EA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B5DD2-EB2D-4B72-8F9F-8AFA7293B6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07031-2118-4D5A-9FDD-C07937E012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666DE-A6E7-4CA6-A413-2BFCADA2BE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9AFDD-FE21-437E-AE3F-D9D5C8DBA5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330B3-F533-4247-8B75-CCD9B592A2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8DB64-2DF8-4347-AFEF-343278E74A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5ED38E9-15DC-4418-8A9F-546B730CDAC8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9C204726-305A-4A17-92C2-2999DF2EDEBC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2130B4A9-65B6-48D2-A616-DECA0CE9377A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BBA49D2-2260-4084-9186-96F2FE047445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soton.ac.uk/~cpd/anovas/datasets/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rField" TargetMode="External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7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is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comparing two group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= group difference (=sid) /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at is the smallest interesting difference in your expert opinion? (si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s.d. from previous work (can’t contro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.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ar 1.0              &gt;3.0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cancer sibling study: 222 possible to sample but 80% response rate and gender matched siblings wil reduce sample past 120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41400" y="1600200"/>
            <a:ext cx="726120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rFiel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Administrator</cp:lastModifiedBy>
  <dcterms:modified xsi:type="dcterms:W3CDTF">2009-07-15T15:56:23Z</dcterms:modified>
  <cp:revision>190</cp:revision>
  <dc:subject/>
  <dc:title>8: SAMPLE SIZE DETERMINATION</dc:title>
</cp:coreProperties>
</file>