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6A7F7-52E9-4BA7-A27B-642C22B97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3FD67-BC69-483D-9363-0F8242286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8A8A8-2977-41A4-8D4B-22DE5D7FC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BCC6D-70AC-4E5D-B9DB-6DA9D2777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2314E-EEDD-451F-B0B1-EAC0A10DB4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1DA82-94F2-45F5-B88E-295A4FF59C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ABF6F-174B-4B74-9B4B-A23AA39DE0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1A39A-7F1C-42C8-9DF4-D516C4F82B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8B518-AC3B-4839-A7F9-6710F49368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036D6-CD4B-4FF1-8347-B28573D771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6952B-2786-4A68-B2ED-56D31B8448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B0610-3265-4C71-BCA1-0F1B2486A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E6708-20EC-41DC-85B5-6B0834714E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05558-2551-44FF-A81D-7C786F03FB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3E61C-AB51-4A6F-B722-5DAA3FEC2A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D9AF3-9C87-45D4-92CD-A1AF3D7306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8BB23-DBA3-47BF-85D0-BD05B7D06A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20B9F-B14F-4C58-927F-5163BD013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08BB0-E077-4EB0-9C29-EE10E07B8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0AE1E-40D2-433D-804E-4F763B946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CB44F-68D8-4D84-8A64-612A05A6D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C9988-54F8-4B2C-B715-07023229D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5CFF8-D699-477C-B243-351393D08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AB2E-7DA9-4578-9CE0-CA0E58DB1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1CC31C1-E997-4F14-BA72-A368618A996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13723FB-C21D-4701-A5BE-A4F7945DCD7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0942C0F-10A7-43F6-A5CF-3B0924977B9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6D5BE63-9CA1-42A7-BD41-A8D32F05A51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433520" y="160020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60020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76560" y="23623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290" idx="0"/>
            <a:endCxn id="289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3" name=""/>
          <p:cNvCxnSpPr>
            <a:stCxn id="289" idx="7"/>
            <a:endCxn id="291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4" name=""/>
          <p:cNvCxnSpPr>
            <a:stCxn id="290" idx="7"/>
            <a:endCxn id="291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363" name="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438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2438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5909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190512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048120"/>
            <a:ext cx="23623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54B1-0B48-49C5-B918-24BB4CE419F5}" type="slidenum">
              <a:rPr b="0" lang="pt-PT" sz="1200" spc="-1" strike="noStrike">
                <a:solidFill>
                  <a:srgbClr val="898989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2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3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3279600" y="4950000"/>
            <a:ext cx="1872000" cy="798480"/>
          </a:xfrm>
          <a:prstGeom prst="rect">
            <a:avLst/>
          </a:prstGeom>
          <a:ln w="0">
            <a:noFill/>
          </a:ln>
        </p:spPr>
      </p:pic>
      <p:sp>
        <p:nvSpPr>
          <p:cNvPr id="505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6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7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8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9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632523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0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95373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1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d99694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2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e6b9b8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3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f2dcd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2"/>
          <a:stretch/>
        </p:blipFill>
        <p:spPr>
          <a:xfrm>
            <a:off x="2389320" y="2992320"/>
            <a:ext cx="798480" cy="1871640"/>
          </a:xfrm>
          <a:prstGeom prst="rect">
            <a:avLst/>
          </a:prstGeom>
          <a:ln w="0">
            <a:noFill/>
          </a:ln>
        </p:spPr>
      </p:pic>
      <p:sp>
        <p:nvSpPr>
          <p:cNvPr id="515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6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7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8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9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0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1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2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3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4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5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6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7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8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9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0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1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2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3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4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5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6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537" name="Straight Arrow Connector 96"/>
          <p:cNvCxnSpPr>
            <a:stCxn id="536" idx="1"/>
            <a:endCxn id="527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8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215968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9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31859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40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93cd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41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b7dee8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42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dbeef4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how many factors “best” account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Next week 11a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Post-hoc tests, multiple comparisons,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contrasts and handling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28" name="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o 2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www.utexas.edu/its/rc/answers/general/gen28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Administrator</cp:lastModifiedBy>
  <dcterms:modified xsi:type="dcterms:W3CDTF">2009-11-24T11:50:01Z</dcterms:modified>
  <cp:revision>296</cp:revision>
  <dc:subject/>
  <dc:title>No Slide Title</dc:title>
</cp:coreProperties>
</file>