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3AF7-1F92-418D-B751-77F2A5259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DB3D-F557-4C23-9D6D-C384BD63B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91F5-F50F-4009-A52D-FC305EBCE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2B39-A133-4745-8B28-FD7AD35C3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0E4A8-1246-4B3B-92D7-A67130138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6F95F-742E-4247-8377-6833281772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8DAD5-1AA5-4EA3-A149-299B75E9E0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0B91-55F0-4B9B-992B-41268A9EC8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6E5DD-F529-4110-88B0-3C025D385B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D9533-CC18-4AC6-B888-28200F29F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DED9A-A3AD-4B2E-A8C1-5A25211FB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51C9-880B-4B57-9797-8192E95EA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11CAE-75B1-4A1E-8E60-8C9113211B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D3929-05B2-4672-A580-29CC4E22A3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F8A49-92B9-42C0-ABA7-348B6E1746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0A656-6CD7-4275-94D5-6F5E1B1B6A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F4BA3-98DB-4679-8A0A-EB44CA1E1C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F239-5D6C-496F-9E8F-0895B7A27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C5A5-3976-4103-8EBF-6E563C526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6A01-09EE-4907-B271-C0EFB25A3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947D-B924-4AA6-925B-89C487056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C3E6-F42A-45A0-9A63-681F7643E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C6C7-8EB7-4D85-92BB-67F75704E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33BF-EDB5-42EA-9D7A-5FA8B84C9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9C13E45-9CD4-423D-91BB-4CBC5D9AB72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67E9ECD-07FF-4BEC-9A61-2FF0F9B8E1C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C039373-95AD-484E-9F5D-BD5973A6AAA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FC0C637-F34B-4D9B-8A54-8B55C83A6B9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290" idx="0"/>
            <a:endCxn id="289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3" name=""/>
          <p:cNvCxnSpPr>
            <a:stCxn id="289" idx="7"/>
            <a:endCxn id="291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4" name=""/>
          <p:cNvCxnSpPr>
            <a:stCxn id="290" idx="7"/>
            <a:endCxn id="291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590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90512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048120"/>
            <a:ext cx="23623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0CE5-A359-440B-9EE8-DA8A83B6E1AD}" type="slidenum">
              <a:rPr b="0" lang="pt-PT" sz="1200" spc="-1" strike="noStrike">
                <a:solidFill>
                  <a:srgbClr val="898989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2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3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6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7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8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9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632523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0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95373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1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d9969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2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e6b9b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3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f2dcd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15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6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8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9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0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1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2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3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4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5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6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7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8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9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0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1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2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3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4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5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6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537" name="Straight Arrow Connector 96"/>
          <p:cNvCxnSpPr>
            <a:stCxn id="536" idx="1"/>
            <a:endCxn id="527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21596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9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31859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0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93cd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1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b7dee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2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dbeef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Next week 11a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Post-hoc tests, multiple comparisons,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contrasts and handling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o 2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www.utexas.edu/its/rc/answers/general/gen28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Administrator</cp:lastModifiedBy>
  <dcterms:modified xsi:type="dcterms:W3CDTF">2009-11-24T11:50:01Z</dcterms:modified>
  <cp:revision>296</cp:revision>
  <dc:subject/>
  <dc:title>No Slide Title</dc:title>
</cp:coreProperties>
</file>