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52BD0-B8B6-46E4-8817-3AD291BB9D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60F0D-2F6F-4998-B2BF-9622798DA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A4082-4BEE-4163-8F3D-37F4CB0DD1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80082-5370-4333-9654-2BE9C81B88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1BC8B-A39B-4C7F-8301-BC4E15270E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B39BE-2A23-4F9D-B4E7-2FF6180319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0DCA8-5D5B-45DD-BE02-4B28ACD449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79640-0527-4E6E-8F61-85123BC500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341EA-9D15-44DE-B231-D74243D832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A15F0-E595-469A-AC2C-8A3E2614AD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7F3EC-D142-4F58-B570-78B44E7198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4AC3F-6BEE-4557-984D-FC474BAADA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DC594-FDD6-4363-A785-B75DC5A3F3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00B36-5670-4CC3-8F7A-5D4B32731C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63AC4-1F84-4CA9-B556-06FE9932AC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15821-AFAE-49D7-BA28-BBD9F97A35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F4ECE-EAD5-4F02-BEC4-78BE642A31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DDA69-BE14-4272-9CB3-D495B691B7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66A6C-F625-454D-A1B3-F3537EC901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6CCBE-145A-432D-A044-7813906CA1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2FC10-43FD-4A5F-A962-FB3C52E9E2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E6949-22E3-4409-9B03-A0B03A4DE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17DDD-B58C-4382-A170-2F8D077ADD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077BF-697C-45EF-951F-6A60D68B44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45DA917-7EF7-414C-A570-6A951D4A99BB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0398461-36E7-4304-AF2F-B8089A99633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3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94C2A015-8121-4D44-BA36-F6CF06ADAF7A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79D8F55-C288-40DC-8D4D-A225FD7CDA38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7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2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4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9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94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9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0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8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0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4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1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76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4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9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0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0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WO weeks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8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0-10-04T15:28:40Z</dcterms:modified>
  <cp:revision>338</cp:revision>
  <dc:subject/>
  <dc:title>Exploratory Data Analysis</dc:title>
</cp:coreProperties>
</file>