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6F40-3821-4234-9314-5C140902A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4A26-EF5F-4986-8A7B-6C30FAFC2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8FC1-12F8-4D6B-8E72-AE710E78E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9DE1-7AD9-4E21-BCCA-491DB27A9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0C19-4004-48AF-B2F6-C9845B778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191A-FEB7-4E0E-B51C-C325144D6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7604-0AD0-40AD-8B2F-6559394F8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734B-7BC0-4345-96D2-4811FD155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D846-DD6C-4993-A1D0-BC391CF45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D820-589A-4362-80BF-733F72121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8854-FCD3-4936-8C64-6ED237D94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1293-25F3-450A-8D0F-89E0DE1C2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BA5EB-DEBD-422D-A649-1B2CB20058AF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g_name~ 11.tif"/>
          <p:cNvPicPr/>
          <p:nvPr/>
        </p:nvPicPr>
        <p:blipFill>
          <a:blip r:embed="rId1"/>
          <a:stretch/>
        </p:blipFill>
        <p:spPr>
          <a:xfrm>
            <a:off x="585720" y="507960"/>
            <a:ext cx="7959960" cy="63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4:09:04Z</dcterms:created>
  <dc:creator>Peter Watson</dc:creator>
  <dc:description/>
  <dc:language>en-US</dc:language>
  <cp:lastModifiedBy>Peter Watson</cp:lastModifiedBy>
  <dcterms:modified xsi:type="dcterms:W3CDTF">2010-10-04T14:09:05Z</dcterms:modified>
  <cp:revision>1</cp:revision>
  <dc:subject/>
  <dc:title>Slide 1</dc:title>
</cp:coreProperties>
</file>