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415E-FCBF-4EB1-A479-C11BDEB9D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7DD0-3392-4B9A-B0EE-7C72661BD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5EB0-0C66-4623-A3CC-059ED0BBE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4D7F-80C4-438D-B1C4-2928DB987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DF09-E7BB-457D-9BCF-9DFB446C5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18E3-0011-4F24-B291-9D6D4E980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92B0-AE85-48AB-89D2-278982EE7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CB2C-F893-412A-9F95-8D7B322F6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7CF7-FD7D-43B4-B0CE-F93626BBE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31CF-1DE9-49F3-AC69-D29CDFAD4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877A-2691-4BF6-9B59-C0A3E19E9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F6C0-81B2-4EE0-8E77-FD7445B1B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97738-D588-444C-A49F-BC460B16B113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g_name~ 50.tif"/>
          <p:cNvPicPr/>
          <p:nvPr/>
        </p:nvPicPr>
        <p:blipFill>
          <a:blip r:embed="rId1"/>
          <a:stretch/>
        </p:blipFill>
        <p:spPr>
          <a:xfrm>
            <a:off x="585720" y="507960"/>
            <a:ext cx="7959960" cy="63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4:15:07Z</dcterms:created>
  <dc:creator>Peter Watson</dc:creator>
  <dc:description/>
  <dc:language>en-US</dc:language>
  <cp:lastModifiedBy>Peter Watson</cp:lastModifiedBy>
  <dcterms:modified xsi:type="dcterms:W3CDTF">2010-10-04T14:15:07Z</dcterms:modified>
  <cp:revision>1</cp:revision>
  <dc:subject/>
  <dc:title>Slide 1</dc:title>
</cp:coreProperties>
</file>