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5404D-1FB2-4B9C-8706-97F5A7568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9E54-0F2A-477D-AEAE-CDC1A4952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B2725-1669-4D56-884D-EA1F698EB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4847-CB41-4DDC-BC96-93261523F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92217-FD68-4097-9D04-01E8F57D19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53F9C-C5BA-4622-B6E5-6B809262C3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4F5A8-3082-41E4-A159-F050C71C53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54104-69F6-4B8B-AFC0-3499E5EB48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2AD35-4332-4D01-8003-5EF1F6843A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00C53-38FD-43CE-BA60-8BA12D2B30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54C5D-9329-4471-93EC-BD228FA0C6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920F4-DAA1-4226-9747-70F6F2659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CF95F-F1AF-426F-A5FB-ECA2038776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208AA-70EF-4F11-9C8C-C544F9928F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B18AE-B0A6-437F-A54C-42B2B3E522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98734-73D5-4704-A68A-4C70BF2916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3AB96-FEBC-4BFE-8B90-57793D2AF1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A96B-BC25-4723-B84C-D1480BB31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1A39B-5A2E-4075-BD65-C69B7855E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11D28-2B61-4243-97C1-D5CCDB779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08CD7-8BD7-4D19-ABA8-DFB288C91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54584-354A-4A86-BC4E-09770BCC1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7D4FA-FA79-4971-9A41-9EC291A39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BFC56-D96E-4996-838A-1FD706D2B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EBC0D0F-E81D-46C9-8C51-5CEDF6A9438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CFDF813-956B-48E1-A682-2FEA3A3F38A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3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6224AD2-C488-4873-9D71-4A908D3F805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76BE494-1CF1-483B-94FA-1AE8713BAE0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WO weeks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0-10-04T15:28:40Z</dcterms:modified>
  <cp:revision>338</cp:revision>
  <dc:subject/>
  <dc:title>Exploratory Data Analysis</dc:title>
</cp:coreProperties>
</file>