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790A-36E5-4495-B37B-01EB54670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D503-13F0-4A07-8C2A-447237CB5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0CD0-F252-42E8-BD3E-7A5281F7C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309C3-B37A-4FD0-8123-4D9080B20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F1753-0AC3-4598-83E2-2D029CFC83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8C7FD-1A71-499E-9515-5F2AA9962E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83592-0A79-405D-95A3-51834EDD8D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4F016-E309-4ECB-B26B-AE7D915305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49132-BD65-47D5-8071-9A4CB8766C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9932C-B00B-48D0-A3EC-6E357E5A6E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53094-6147-46E2-B54B-EF8B6C099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728F-FAF0-4600-8435-DA078C2B9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EE224-DFF6-48EB-A2F9-7D4632B0EB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235DC-FD91-47CD-AB46-2B8D1F7A69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FEFF4-2B86-408E-9D2E-1EA88FADCD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67DC2-35C8-4766-9E99-0EB4145835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BB57F-343A-4D2A-B472-8E95A81AC1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06B8-1593-469D-8D79-F9E5B89EC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7C10-2262-42CE-A9AD-117BEA2EC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54287-1FA8-4DF1-990F-006A8F43F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37E9-5712-4EAB-8DA4-FAB74A3DE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A6AC-0587-4A73-A70B-133930BA6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62572-C58A-4D5D-85E6-7B7465B2C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5707-B68A-4569-AADF-3DC1AE45D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AED13D3-7BA5-4DA9-A949-66E93CB849D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41974E1-F121-4BCB-943F-24702E9C59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3289CDD-0394-4C8E-97BF-269F502121F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4C2B368-AD21-467E-BC00-5D67F4C15FC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WO weeks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0-10-04T15:28:40Z</dcterms:modified>
  <cp:revision>338</cp:revision>
  <dc:subject/>
  <dc:title>Exploratory Data Analysis</dc:title>
</cp:coreProperties>
</file>