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B297-42A2-4382-A404-149E12F9E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7772-EFFD-4F51-B4FC-D77C387ED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3423-D89F-46E3-804E-793AA3C95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95F7-3D7B-43DE-97CA-69B902978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6300B-6C07-40C0-8D79-2004CE8022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1FF56-50B1-4DC2-B4E9-1B1A86811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1D958-CAF0-47F4-910E-EF30D2671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A8367-ED2E-4635-AC97-B1EF4FA316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67EFB-FF42-457B-8A88-A37A60C535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05F49-C735-42A8-9FFA-70BADE16C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EC67A-8021-47A6-9EB2-94D46AA447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33D2-8A4D-48D4-9AD0-96CA516F9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CCDFF-BEAD-4D0C-89EC-75DA7369C1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A3863-DD3B-45BD-B600-DF97F58247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DD1B3-957D-46AF-A409-4D2E4BEF59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63F9C-1C68-4D4F-BF62-762BFABE4C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81463-4ADC-4390-85E1-D8CBA5A7B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FE33-9717-45AF-8895-2C55580B0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4334-9C1C-44EC-9502-799C7C302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5C30-4ECB-45B2-A3C7-D1D04A7FB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C308-75F7-48BF-91D8-3AB2BB107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23BC-6A7C-4139-B8CB-3D6C3A3B7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13A2-1A22-4EEB-8BA1-43A4F1C22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8100-F240-4DB9-AE55-410FCAB32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0560B0C-E9F2-4AFA-AA0E-A48843BC36C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A6AFF4F-E4F3-4536-978D-CACF543F40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00CCEB7-3BBC-4FD3-B44A-44042C797BA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613DCE9-E0DC-4361-AA9D-CBF46C8B1BD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0-10-19T11:29:44Z</dcterms:modified>
  <cp:revision>289</cp:revision>
  <dc:subject/>
  <dc:title>REGRESSION ANALYSIS</dc:title>
</cp:coreProperties>
</file>