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BC19F-F705-4308-9B9B-78841EC0D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F1315-B924-4D0D-8FCC-FC68A616C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B9F4F-9974-40C7-B41A-B65ADCA4F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FE029-BA1F-423C-90F8-4B8481AC9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C5EFB-6297-436B-898C-C157B95D97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EF4B0-A8D1-42DE-AFB7-41F5E04450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3DE56-B032-4E1F-87D6-863BAA0AAF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F500C-6C81-446F-A7EA-E13837FF83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94B44-491B-4DAC-86E1-A50B322D75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1EA82-77DE-49D4-BDCF-3D12AB594C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47143-C701-460A-AA6E-6DEF7076DB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CDA4A-9D76-4954-AE1D-9CB202FB4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44202-7C32-43FA-B905-6853FE46D0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0784A-5502-478E-8BA4-EA04D733DC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89ACA-AD3C-47A2-B470-6A06EE88D7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66562-5749-4AB1-B63A-837D28DE64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DA146-9384-453E-BD3C-32754A15C9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04CFE-B6EA-4271-A079-0667088E7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BFFA3-2B51-4F68-9865-573B9151B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25643-6155-496C-8E72-CC3730AFE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CBA56-C8B2-4B5A-A6B5-E3FB3DA32E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01B37-813C-48B4-BD06-B9BE043277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74303-3EE6-420B-AA50-3CF6ABA3E9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26E9C-49F0-41E4-9E2C-6431AB08F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8D7685D-4BB2-4DA6-89EA-6D824B370A5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02E4A72-9307-4EE8-ADC3-D81E196F7F0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CB86B20-12C6-4674-BF16-12767DB5425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B4D6832-DD2F-4B37-8C5A-BCBB16CFBF11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5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2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7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36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path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6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3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7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un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solely on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ee also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299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1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ategorical Data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0-10-19T11:29:44Z</dcterms:modified>
  <cp:revision>289</cp:revision>
  <dc:subject/>
  <dc:title>REGRESSION ANALYSIS</dc:title>
</cp:coreProperties>
</file>