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C373-8037-470D-9A26-1535DF0CC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7D67-F9CA-4250-B63A-58BEBF9D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9083-FDC7-4427-B2C6-CD6C2CA05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223E-B7A0-492B-9B65-DB33F8C2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CDCD-8F2B-4FA3-AB2A-9254AE2F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AC2B-EAF7-4315-9C10-2B6E5D78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F262-D369-4A83-8E48-EE5C9377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8681-1454-41B1-86FE-CDCD6BBF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08D1-0F34-4BD7-B19D-1DC66619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D59B-8D83-49E0-9A19-7A027540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4141-69E3-4AF0-B7BD-967C542D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2D17-B82C-4558-8D5A-D26E9F43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October 20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&lt;footer&gt;</a:t>
            </a: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9128-F557-45D3-9BF7-BC32BFB7BF0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39000" y="6400800"/>
            <a:ext cx="1168560" cy="31752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" name="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0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0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9CD5-56C3-49AA-A29B-048788EDE1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14B2-2DE6-456B-ADBB-D04A88A8C2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21C1-A811-405A-A66B-B0C1C4D3F5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1141-B8A7-4C6E-8BEC-6A3C7ED9B9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0" dur="1" fill="hold"/>
                                  <p:tgtEl>
                                    <p:spTgt spid="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741A-2BEB-4ECC-A4AB-68FB57A197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F543-E781-4EE2-AF04-95E46615E1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9BBB-80FE-4EED-B15B-EEE16ECE71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0B4A-0C02-494E-BDA6-65376ACE72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25ED-03F8-4CBD-B984-016FF5FC20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0" dur="1" fill="hold"/>
                                  <p:tgtEl>
                                    <p:spTgt spid="9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6706-90FB-4938-B91C-0A9384A247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4" dur="1" fill="hold"/>
                                  <p:tgtEl>
                                    <p:spTgt spid="1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E906-E487-488F-A061-436D6A3733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3" dur="1" fill="hold"/>
                                  <p:tgtEl>
                                    <p:spTgt spid="1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14" dur="1" fill="hold"/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3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" name="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28 October 2010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6865-FCDF-467E-B8EC-050F7E33EC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BCE7-5E14-4A10-867C-93AEE0E8647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8" dur="1" fill="hold"/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0F5D-73E4-4539-99B9-05D7A822D4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8" dur="1" fill="hold"/>
                                  <p:tgtEl>
                                    <p:spTgt spid="10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F496-8A7A-4131-97EE-2191D3D865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7" dur="1" fill="hold"/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AF54-E768-4DAB-9D91-1D489C7A4B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BC83-2C47-4EB5-9BE2-B94F2B04E6E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A957-9B12-4A55-B021-8582731580C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20" name="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21" name="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f210b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0 w 1904760"/>
                  <a:gd name="textAreaRight" fmla="*/ 1905120 w 1904760"/>
                  <a:gd name="textAreaTop" fmla="*/ 0 h 1295280"/>
                  <a:gd name="textAreaBottom" fmla="*/ 129564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314" stAng="10800000" swAng="5400000"/>
                    <a:lnTo>
                      <a:pt x="18078" y="4846"/>
                    </a:lnTo>
                    <a:lnTo>
                      <a:pt x="18078" y="0"/>
                    </a:lnTo>
                    <a:lnTo>
                      <a:pt x="21600" y="6079"/>
                    </a:lnTo>
                    <a:lnTo>
                      <a:pt x="18078" y="12158"/>
                    </a:lnTo>
                    <a:lnTo>
                      <a:pt x="18078" y="7312"/>
                    </a:lnTo>
                    <a:lnTo>
                      <a:pt x="12427" y="7312"/>
                    </a:lnTo>
                    <a:arcTo wR="9961" hR="4848" stAng="16200000" swAng="-5400000"/>
                    <a:lnTo>
                      <a:pt x="2466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f210b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27" name="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28" name="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Times New Roman"/>
                </a:endParaRPr>
              </a:p>
            </p:txBody>
          </p:sp>
          <p:grpSp>
            <p:nvGrpSpPr>
              <p:cNvPr id="129" name="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30" name="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" name="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5" name="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C8C9-8FB7-4A43-8216-B5AF6C312AD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E5BF-72D4-43BB-BE52-E09E1BCA901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A861-90B3-40BA-91A1-8C9A3995EAF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7815-73E3-430C-A85C-99668720620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FC41-D296-4CEF-9B52-3ECAA3E195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6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1D7F-CA91-48FA-91FD-78108258C09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61D5-EE8F-4737-AA25-BC513ED7E1C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5" name="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D6A1-DC82-45EB-BE5C-53AA9CE0F66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B919-3E4B-4055-9C52-9F6D12EE2E9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9" dur="1" fill="hold"/>
                                  <p:tgtEl>
                                    <p:spTgt spid="17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89FC-C97B-475B-BD15-BBDD0701A5C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7D84-889C-4B9F-BEA0-362E34AEE12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303200" y="3952800"/>
            <a:ext cx="769140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41BF-1CEE-4477-9AFA-92E63BE4AAA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0" name=""/>
          <p:cNvSpPr/>
          <p:nvPr/>
        </p:nvSpPr>
        <p:spPr>
          <a:xfrm>
            <a:off x="907920" y="2438280"/>
            <a:ext cx="7691400" cy="37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4700-F28C-42F8-A151-C52AF4EDB6D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5880" indent="-3358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5880" indent="-3358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5880" indent="-3358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935B-8799-4CF2-9265-F01FE4B862BC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81AD-FDCC-482F-BF6F-03F7521C02D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5971-0A19-4595-900E-145770003C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" dur="1" fill="hold"/>
                                  <p:tgtEl>
                                    <p:spTgt spid="6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5" dur="1" fill="hold"/>
                                  <p:tgtEl>
                                    <p:spTgt spid="6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23E6-B420-406F-879D-F6247CE5290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B43A-481D-4B2C-8928-90951977D2CB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8EE5-942B-45AC-870F-8BD6B0782C5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9AF1-A083-4210-B9FC-18DF9F8D98F0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D7D2-997B-47B6-8B0B-52F574B8CBD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51E8-052A-46A2-BEDF-AADB08CEAC0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A23A-3B87-4BA9-B390-DC6C2DEE0C6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9733-23E6-4B12-BABD-8FC78486EF3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9/40 to 11/40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D3B5-263F-4BD5-ABEB-208222D5D57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12920" y="198108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F59D-2C1A-47D8-8AC8-A9A1F9A03A3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EA1E-E747-49E5-A4AD-A876919249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" dur="1" fill="hold"/>
                                  <p:tgtEl>
                                    <p:spTgt spid="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0" dur="1" fill="hold"/>
                                  <p:tgtEl>
                                    <p:spTgt spid="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1292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ED2D-D430-49CB-B6E0-7C477C42FC2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1526-FBBA-4B6E-92A4-7DC1C5955D8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CCF8-4972-4357-8DDE-45117D83537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3" dur="1" fill="hold"/>
                                  <p:tgtEl>
                                    <p:spTgt spid="2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EECF-F8B0-439A-BE5F-0008EF1B2B1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47E8-7F82-4A3C-9365-5418FDB31AB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7" dur="1" fill="hold"/>
                                  <p:tgtEl>
                                    <p:spTgt spid="2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AFE4-56FE-46EE-99E3-ECB555A8BCE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1FB4-21CF-4AFE-88BF-E4D7D15EE84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1" dur="1" fill="hold"/>
                                  <p:tgtEl>
                                    <p:spTgt spid="25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is cas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8B00-A8D3-4C44-A152-7F89FAC1A67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0" dur="1" fill="hold"/>
                                  <p:tgtEl>
                                    <p:spTgt spid="2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(Thursday 4 November)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FB40-2D4A-4874-824D-1C49640FE3E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0106-D35E-476D-B46B-3D548F0EAD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4" dur="1" fill="hold"/>
                                  <p:tgtEl>
                                    <p:spTgt spid="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4147-8B66-478E-ADA0-8C49B79776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8" dur="1" fill="hold"/>
                                  <p:tgtEl>
                                    <p:spTgt spid="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49B5-AC8E-410A-ACD3-59E65C6C87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F2CB-8C54-4EAA-B0DC-10747C69B3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4" dur="1" fill="hold"/>
                                  <p:tgtEl>
                                    <p:spTgt spid="7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5" dur="1" fill="hold"/>
                                  <p:tgtEl>
                                    <p:spTgt spid="7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6" dur="1" fill="hold"/>
                                  <p:tgtEl>
                                    <p:spTgt spid="7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7" dur="1" fill="hold"/>
                                  <p:tgtEl>
                                    <p:spTgt spid="7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Administrator</cp:lastModifiedBy>
  <cp:lastPrinted>2004-10-20T13:39:49Z</cp:lastPrinted>
  <dcterms:modified xsi:type="dcterms:W3CDTF">2010-08-27T11:05:23Z</dcterms:modified>
  <cp:revision>76</cp:revision>
  <dc:subject/>
  <dc:title>Aims and Objectives</dc:title>
</cp:coreProperties>
</file>