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077-6860-4823-9545-480947CE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21F-B4DB-4553-AACE-05495CB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445-9CD3-42FD-8AAF-351D3B00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546-C506-4434-9C7A-F86BF55C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A97-74F6-4DCB-89A6-BD3A8C90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71E-D2B6-46C8-9CEF-E379EE39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693-E609-4D86-80CE-0E41199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69E-BDDA-45CC-BA54-304C7FE5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7E6-EB6C-4FBF-9A72-136698C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243-FA49-4E2B-BAF6-DC33946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636-6F34-4B9F-BF99-FDE1A03F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2DD-9192-4404-9ADE-FF7655B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&lt;footer&gt;</a:t>
            </a: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CF83-92DF-48E0-8A36-4903A610FA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0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0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14C-6762-490A-8CEE-9362D7F834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48B-13C4-44B3-AA47-48AC534221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3D0-28F1-4747-BD4C-8F861E6603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F66-C408-49E8-95E5-0E8FF10D1F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52C-82F0-45D1-A62A-18D8171282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C44-CAA8-4920-A2C6-7443B2BB2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EC3-4E25-4F0C-A38D-013097CEF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1BD-58A0-4ACF-B238-63B7F8FF2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F0E-4BBF-4EA9-82C4-A3CB582E70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666-43F0-4FBA-B0E5-FE12B312F0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90B-6FF2-4FF5-938E-B3E50160C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3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B1F-7DA0-4A5C-BB84-2E24389D18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7B9-347F-4B48-B754-50DA96A595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54D-984E-40BC-BE03-C7D9467655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BE1-8A1B-47CF-ABC1-A18E14B816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6F1-94AE-41D3-B756-67DA9E6850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56D-2D49-47E8-8860-B4778742A2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2AE-1293-4E90-B64F-D7F69284E7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20" name="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21" name="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295280"/>
                  <a:gd name="textAreaBottom" fmla="*/ 1295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314" stAng="10800000" swAng="5400000"/>
                    <a:lnTo>
                      <a:pt x="18078" y="4846"/>
                    </a:lnTo>
                    <a:lnTo>
                      <a:pt x="18078" y="0"/>
                    </a:lnTo>
                    <a:lnTo>
                      <a:pt x="21600" y="6079"/>
                    </a:lnTo>
                    <a:lnTo>
                      <a:pt x="18078" y="12158"/>
                    </a:lnTo>
                    <a:lnTo>
                      <a:pt x="18078" y="7312"/>
                    </a:lnTo>
                    <a:lnTo>
                      <a:pt x="12427" y="7312"/>
                    </a:lnTo>
                    <a:arcTo wR="9961" hR="4848" stAng="16200000" swAng="-5400000"/>
                    <a:lnTo>
                      <a:pt x="246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27" name="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28" name="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1DB-D42E-4894-9D31-7F361D9341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A27-D549-499A-AEBC-9C6B8D23A6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AD1-7FA6-4A35-9692-7616FE9A7C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385-3A46-4B7B-9901-FBA1B59C13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BC4-ECA4-4033-A1AB-37415FF3A6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5DC-7F41-4D77-8B26-18F932FC6D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5B1-5085-481D-9F59-DDFB914563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D46-F0B9-44AC-8DEE-D20AF75CB9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A12-0D81-4561-AA4A-0C571DA36D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2EE-279F-4491-804A-DB8EF72B18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C5C-9F4D-47B0-A04E-EFEBA160E8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561-8350-4CE0-A5B8-38600A61CF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0" name=""/>
          <p:cNvSpPr/>
          <p:nvPr/>
        </p:nvSpPr>
        <p:spPr>
          <a:xfrm>
            <a:off x="907920" y="2438280"/>
            <a:ext cx="7691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FD0-6E13-45CD-9C5E-5B3F796D65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7E4-16B3-48FA-B441-E4E4101E338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E81-1125-43A0-9B29-D0D40C3AC1A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609-B38E-4C43-8425-1F54D3BE9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F32-FBA5-4D6B-8215-226FF5F5CC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4D-3545-43F5-BB58-05C85EDE217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BA9-B957-458A-B5D1-9B0A5D80BFC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2BA-B1FC-4391-90B5-9208A1CB714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A9D-FC6C-492C-A128-68DD44AE08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E37-FBDF-40D3-AD76-6E3835F5095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C05-AD09-499F-B48A-BF7D2D8F602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92E-02D0-496A-B832-33117CC6F6C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9/40 to 11/40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156-2320-420F-A734-116D7722D43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2920" y="198108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C3F-83A8-422D-9B77-BF850FB0669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DC4-BBBD-4E58-8F3A-31D06F428C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292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578-E090-4C71-B53F-69BA908B35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D91-D859-4F09-A77D-073F282A67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341-DF2C-40EA-A340-80FCABB0096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685-5D38-4E37-B376-A35D2881096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F09-7D9B-4F21-B853-5BA2CD4F9FE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2A4-E02E-422F-A24F-4D3288A1D36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B65-85CE-4D8F-BCC9-B112ABF06F7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580-6A85-48B2-A6D5-E951F13B9CF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(Thursday 4 November)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371-6274-4A4F-A411-A0E70A4130C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A96-F2F8-416E-B37A-6B7D9A1FA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980-4CFD-4C23-A4EC-D6EA27B68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4A6-3851-4105-A963-95BD3603CE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2D8-F657-4A4D-8D8F-2B8C95179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7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Administrator</cp:lastModifiedBy>
  <cp:lastPrinted>2004-10-20T13:39:49Z</cp:lastPrinted>
  <dcterms:modified xsi:type="dcterms:W3CDTF">2010-08-27T11:05:23Z</dcterms:modified>
  <cp:revision>76</cp:revision>
  <dc:subject/>
  <dc:title>Aims and Objectives</dc:title>
</cp:coreProperties>
</file>