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F90-311B-4EA2-9B0C-D0846914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164-AE08-41D1-BCBC-37DDDB86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D31-617F-4604-8CC5-834EC9FA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BE1-1B3C-467E-9134-42C93B3C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1CF-3D0D-4CBB-956B-1E70ADE3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459-D317-49B2-810C-97495778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225-9651-4259-B955-92A1F0D4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C11-0456-4F39-BBF1-2472F63F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B1A-C980-4BC4-B2EC-12845C84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342-F861-4765-8A51-3D39CAE0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E31-17EC-44F3-B225-6B3C837F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948-3A47-4BFE-AA8A-48B5548C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October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&lt;footer&gt;</a:t>
            </a: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A091-748B-42A7-B4DE-84389849EA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39000" y="6400800"/>
            <a:ext cx="1168560" cy="31752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" name="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0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0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C74-368F-43F4-937D-D1ED2D2E96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DA5-67BB-4055-9A2A-155AFEBEBE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AA7-4C60-42C8-AA66-5D5BEC979C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C99-F38F-4562-B4D1-B6F3CB8416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1B5-C6F6-46E9-A82E-1C45EC0913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467-8F02-4BEB-966E-6BB3A4C843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8E7-4091-4D13-90F6-1E9B5BF40B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72B-D265-4AF4-B9F8-A026789233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6C0-00FB-4983-B710-F3D2354535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9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EB6-697B-469B-BE39-1F39DE1381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261-8971-414D-BCDB-09FFD45186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3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" name="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8 October 2010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881-D83E-4B2C-9BE5-347BB543CD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EB5-C979-410A-A40A-53F7732381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3DE-8040-4C2A-AA12-41DF322576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50B-2ED0-44FC-994F-6E9F675182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357-8CBF-40CC-B7D1-921F7E03F1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6E5-11D6-4C4F-86BF-EAF61D7906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302-6A3E-486A-BBD8-857458FEFF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20" name="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21" name="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295280"/>
                  <a:gd name="textAreaBottom" fmla="*/ 129564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314" stAng="10800000" swAng="5400000"/>
                    <a:lnTo>
                      <a:pt x="18078" y="4846"/>
                    </a:lnTo>
                    <a:lnTo>
                      <a:pt x="18078" y="0"/>
                    </a:lnTo>
                    <a:lnTo>
                      <a:pt x="21600" y="6079"/>
                    </a:lnTo>
                    <a:lnTo>
                      <a:pt x="18078" y="12158"/>
                    </a:lnTo>
                    <a:lnTo>
                      <a:pt x="18078" y="7312"/>
                    </a:lnTo>
                    <a:lnTo>
                      <a:pt x="12427" y="7312"/>
                    </a:lnTo>
                    <a:arcTo wR="9961" hR="4848" stAng="16200000" swAng="-5400000"/>
                    <a:lnTo>
                      <a:pt x="2466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27" name="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28" name="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A4A-9F64-4698-A6D9-F44D36FADE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3CA-1A3B-4DC2-9766-75687ED46D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776-0C6F-484B-BCF1-63C2A500A2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9DA-66B9-462C-BAD1-36B72D4643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8F9-74A5-43B3-A05A-06D8A8B416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664-4B45-458F-9977-2663B97993F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567-755B-4FA9-B474-4EC6E76FB5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5" name="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E1C-3C2D-4A7C-9865-C13531EDD9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F0F-94F8-4C50-A7C7-A9E6BAB75F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1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91D-3D87-4C9B-A463-0307260A38D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22A-4D92-45BD-BFBF-502413EF79D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E97-286A-4190-8279-6A7A2FD24F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0" name=""/>
          <p:cNvSpPr/>
          <p:nvPr/>
        </p:nvSpPr>
        <p:spPr>
          <a:xfrm>
            <a:off x="907920" y="2438280"/>
            <a:ext cx="769140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546-33AD-441E-900F-17E9E7B6AA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BD9D-B14D-4FAD-856A-B3089EBE4AC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DAD-3D0E-4F22-886E-BBD1B25BA33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C4D-4D1F-4A1F-8A07-E84EA9A50E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6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6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03C-8149-4D95-B54B-30D81BEAE4B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367-FDE1-4E28-8519-30E022E9DF5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5F4-FD35-479A-ADE8-C25BE00645D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845-8603-41AD-997E-5E44FAFF03B7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D0F-2C67-46E3-84A3-A958BF889FA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9F7-BDC1-4FC5-8AE5-3DD1F0BE58A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9348-EC55-4C52-B7FE-09C8120AA68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451-9D93-4565-9414-9017577A7BB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9/40 to 11/40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8F8-B940-4DDB-8877-1BAD0777194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2920" y="198108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B51-B9AF-4DA6-8AE5-76AC4C46EDE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B2C-A5D8-4D73-B987-63244C8B22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292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BA0-795F-4078-8123-E0BB2A328AF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0CA-C9A0-402C-B404-BAC99A0AC91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25B-A0E3-4C73-B51D-E5EE8941AB6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2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B9E-8C08-46FB-8F71-3A3532EDF32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132-859D-4FE3-9D02-5DB7C06D4B5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2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D47-B271-42DF-96FB-3206D28AD50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263-8CB0-4D45-BAD2-197D247B860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2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is cas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ED02-CA6E-4E9A-8E6C-6E47D7F2C68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2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(Thursday 4 November)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A05-D5AF-4E45-8191-716FD5E13CB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703E-BA62-4969-844D-C89877155B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AF3-48DE-44D5-A37F-A75F51346E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0E64-5202-4F2A-BA6A-8E83B36DE1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831A-C2F6-4077-B8AE-0A32B01CCF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7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7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Administrator</cp:lastModifiedBy>
  <cp:lastPrinted>2004-10-20T13:39:49Z</cp:lastPrinted>
  <dcterms:modified xsi:type="dcterms:W3CDTF">2010-08-27T11:05:23Z</dcterms:modified>
  <cp:revision>76</cp:revision>
  <dc:subject/>
  <dc:title>Aims and Objectives</dc:title>
</cp:coreProperties>
</file>