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41BE-51F9-462F-AEEC-F95B82D9D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94072-B576-457C-8655-A1CE39C05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9D82-79C4-4AC6-B52C-22715C63A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325D-F91F-406B-A9B3-289C1EDC5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3191F-A04D-44AA-8E8E-4CC21FCAFD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19580-86A9-487A-8274-49E26812E4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C9E1A-915B-44D0-A268-DD619AB800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5D499-372F-428C-91E0-13E4F16CB7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BB367-2687-45E9-9DEC-3681DB224A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15FC0-315C-4E1D-B21F-E26B3B1969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7A0DA-76D9-4287-9441-CEE610C384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D5B10-415B-458B-84F0-10759E998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5B5B9-E57C-4059-A2E0-AF8EE27C8F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64EE6-4E84-4A78-A256-FFAB03CD09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C7ADE-2131-4761-BAC4-7E30AAED21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3242C-2295-4519-8414-022ABE6E6F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0CE08-EEC1-461B-A960-D0B53987C4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D243-2D47-4445-93F9-FE867953C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CCBB-21A0-4FA8-AF39-B3ED88EE5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1803-7727-408A-8EAD-FF5F7D566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9C4B-87B8-4296-B141-CA59483A1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465F-34B6-42F0-80E3-7A09B3BB7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C856-2EAB-4421-AE77-1427E4B11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C50D-022F-480F-9117-DB8B063D8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75EAFFB-5782-4EE1-90C6-08E6709E733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F8A5386-A1DB-4687-9355-6077D0C705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E0E975C0-B7D0-4CE8-AFB6-15B15F33028E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682DEB3D-AC03-421C-9448-45394F6CF058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4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0-11-01T16:41:17Z</dcterms:modified>
  <cp:revision>359</cp:revision>
  <dc:subject/>
  <dc:title>No Slide Title</dc:title>
</cp:coreProperties>
</file>