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5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BA962-335E-40DE-AC9A-EF8035BD43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043A5-2EAF-4A14-A600-5D521039B0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3EF4E-CD75-4111-90C6-28E1E66DC8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10E07-D446-4BB9-816A-DCE03A1BAD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386EC7-73EA-4068-B7F3-EC574E24D6A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5B634C-B801-43A5-8869-F33753E0A44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25FBBD-115E-469A-9814-C6EADB7D584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CD5A2C-4D4E-4599-AB13-8DFD3043C13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693F40-EF4C-4800-A063-DB097B728E0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B1E092-31F3-4E0D-9150-A50114ECA62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12827C-5350-4DE8-A799-99B615E1FA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68B19-A7FC-4C0D-8857-E1C196B1BE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54944E-9877-4A2A-9A28-2087143B2A8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409045-92DD-48B5-841E-575F72FD1FC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72B48A-65F5-4DD4-AEBF-ABCA4D82E83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A42A9F-0347-485A-B62D-8A6F65F3114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AF29D7-BA27-4C5E-8A81-0E2EDD139C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5C052-8217-449C-91A0-6C3D603782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68DCF-DA32-4700-B4FE-8C73AD891C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E4A29-7F6A-4A47-AB2E-B850FE1985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C404E-386B-4CB0-87A1-815043F09B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3D2AB-FDA0-433D-A683-7B34037F0C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3166C-16A9-4448-8596-C49F7253BA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E26A0-21BD-43C4-9AC4-268FB3696D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BFEB6000-DAAF-4103-8AEA-74E3502011AA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7488180C-F2C9-4346-B724-D2796597341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0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grpSp>
        <p:nvGrpSpPr>
          <p:cNvPr id="5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7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8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9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0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1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2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3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4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5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6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7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20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9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AD6FF0CF-3316-473F-B059-8C4B7D45E457}" type="datetime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78837436-40D8-46E2-8CC8-1CD9C737E464}" type="slidenum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4. Analysis of Variance </a:t>
            </a:r>
            <a:br>
              <a:rPr sz="2600"/>
            </a:b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(Balanced Multifactorial)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Between Subjects Desig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Single Subject Studi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anova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8241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ity of task variance assumption: 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3886200" y="5334120"/>
            <a:ext cx="450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2 task-group pairs have equal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4" name="Picture 8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8604360" cy="2547720"/>
          </a:xfrm>
          <a:prstGeom prst="rect">
            <a:avLst/>
          </a:prstGeom>
          <a:ln w="0">
            <a:noFill/>
          </a:ln>
        </p:spPr>
      </p:pic>
      <p:sp>
        <p:nvSpPr>
          <p:cNvPr id="145" name="Oval 9"/>
          <p:cNvSpPr/>
          <p:nvPr/>
        </p:nvSpPr>
        <p:spPr>
          <a:xfrm>
            <a:off x="7308720" y="2997360"/>
            <a:ext cx="1440000" cy="2232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6" name="Line 10"/>
          <p:cNvSpPr/>
          <p:nvPr/>
        </p:nvSpPr>
        <p:spPr>
          <a:xfrm flipV="1">
            <a:off x="6659640" y="4221000"/>
            <a:ext cx="1441440" cy="1152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by Task interac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787320" y="1600200"/>
          <a:ext cx="756756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600200"/>
                    <a:ext cx="75675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4"/>
          <p:cNvSpPr/>
          <p:nvPr/>
        </p:nvSpPr>
        <p:spPr>
          <a:xfrm>
            <a:off x="2133720" y="4800600"/>
            <a:ext cx="58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       objects         plants         countries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-group scores follow a Normal distribu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Oval 4"/>
          <p:cNvSpPr/>
          <p:nvPr/>
        </p:nvSpPr>
        <p:spPr>
          <a:xfrm>
            <a:off x="4495680" y="2819520"/>
            <a:ext cx="838440" cy="2133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2666880" y="16002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n-significance indicates Normal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1"/>
          <a:stretch/>
        </p:blipFill>
        <p:spPr>
          <a:xfrm>
            <a:off x="1855800" y="2335320"/>
            <a:ext cx="5430960" cy="3254400"/>
          </a:xfrm>
          <a:prstGeom prst="rect">
            <a:avLst/>
          </a:prstGeom>
          <a:ln w="0">
            <a:noFill/>
          </a:ln>
        </p:spPr>
      </p:pic>
      <p:sp>
        <p:nvSpPr>
          <p:cNvPr id="157" name="Line 11"/>
          <p:cNvSpPr/>
          <p:nvPr/>
        </p:nvSpPr>
        <p:spPr>
          <a:xfrm>
            <a:off x="4427640" y="2492280"/>
            <a:ext cx="2303280" cy="14414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Oval 12"/>
          <p:cNvSpPr/>
          <p:nvPr/>
        </p:nvSpPr>
        <p:spPr>
          <a:xfrm>
            <a:off x="6227640" y="2421000"/>
            <a:ext cx="1081080" cy="2879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idual check - equal precision of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1871640" y="1600200"/>
            <a:ext cx="5400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t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5715000" y="55627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MS Error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3733920" y="60199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error term used for assessing all ter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8" name="Picture 14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3960720"/>
          </a:xfrm>
          <a:prstGeom prst="rect">
            <a:avLst/>
          </a:prstGeom>
          <a:ln w="0">
            <a:noFill/>
          </a:ln>
        </p:spPr>
      </p:pic>
      <p:sp>
        <p:nvSpPr>
          <p:cNvPr id="169" name="Oval 15"/>
          <p:cNvSpPr/>
          <p:nvPr/>
        </p:nvSpPr>
        <p:spPr>
          <a:xfrm>
            <a:off x="5867280" y="4005360"/>
            <a:ext cx="1009800" cy="7189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0" name="Line 16"/>
          <p:cNvSpPr/>
          <p:nvPr/>
        </p:nvSpPr>
        <p:spPr>
          <a:xfrm flipH="1">
            <a:off x="6732720" y="2276640"/>
            <a:ext cx="576000" cy="1584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1" name="Text Box 17"/>
          <p:cNvSpPr/>
          <p:nvPr/>
        </p:nvSpPr>
        <p:spPr>
          <a:xfrm>
            <a:off x="6443640" y="198900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Line 18"/>
          <p:cNvSpPr/>
          <p:nvPr/>
        </p:nvSpPr>
        <p:spPr>
          <a:xfrm flipH="1" flipV="1">
            <a:off x="5508360" y="4653000"/>
            <a:ext cx="647640" cy="936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fil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animals relatively easy compared to patient group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countries relatively difficult compared to patient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ossed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6" name="Object 4"/>
          <p:cNvGraphicFramePr/>
          <p:nvPr/>
        </p:nvGraphicFramePr>
        <p:xfrm>
          <a:off x="4038480" y="1600200"/>
          <a:ext cx="510552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600200"/>
                    <a:ext cx="51055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Text Box 5"/>
          <p:cNvSpPr/>
          <p:nvPr/>
        </p:nvSpPr>
        <p:spPr>
          <a:xfrm>
            <a:off x="4800600" y="502920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Objects    Plants  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elp explain an 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(1997) suggests using the Error term from the analysis using all subj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Using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Group 1  observations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903e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Simple effect of Task o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(Task) = 61.38, MS(error)=2.81 (all 4 tas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(3,48) = 61.38/2.81 = 21.84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lternatively : </a:t>
            </a: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Simple effect of group on animals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      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roups 1 &amp; 2 = Patients;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      Group 3 = Contro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4" name="Object 3"/>
          <p:cNvGraphicFramePr/>
          <p:nvPr/>
        </p:nvGraphicFramePr>
        <p:xfrm>
          <a:off x="685800" y="1752480"/>
          <a:ext cx="8229600" cy="448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8229600" cy="44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Text Box 4"/>
          <p:cNvSpPr/>
          <p:nvPr/>
        </p:nvSpPr>
        <p:spPr>
          <a:xfrm>
            <a:off x="2514600" y="457200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                      Severe                 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terac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resent the difference i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eithe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tasks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grou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re on 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methods available in SPSS for simple effects analys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NOVA : using /CONTRAST subcommand (See post-hoc talk for rules on contra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LM : /LMATRIX subcommand is also avail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d also mentioned in forthcoming repeated measures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 large number of simple effects a Sidak correction should be considered for correcting the p-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ttp://imaging.mrc-cbu.cam.ac.uk/statswiki/FAQ/SpssBonferroni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domisation experi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ppose wish to compare 2 teaching methods (e.g. group/individual learning ) such that each child is taught to read on their own or in a group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groups of size 10 - “average ability” ; “below average ability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 remove allocation bi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ow a di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each group of 20 children allocate sets of four subjects to a method (A or B) based on number rolled: throw die five tim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ABB ABAB ABBA BBAA BABA BAAB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oll a: (‘1’)    (‘2’)   (‘3’)  (‘4’)    (‘5’)   (‘6’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ze of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 Sums of Squares as % Total Sum of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: 127/1389=9% (small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640/1389=46% 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x group: 487/1389=35%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are squared correlations (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; Their square root is the semi-partial (also called part)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R-squareds from different data sets: http://imaging.mrc-cbu.cam.ac.uk/statswiki/FAQ/rsqdif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: Task by Group: F(6,48)=30.50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in Effects: Task:  F(3,48)=15.66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F(2,48)=118.7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Ma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Simple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100822"/>
                </a:solidFill>
                <a:latin typeface="Verdana"/>
              </a:rPr>
              <a:t>interactio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2" name="Object 0"/>
          <p:cNvGraphicFramePr/>
          <p:nvPr/>
        </p:nvGraphicFramePr>
        <p:xfrm>
          <a:off x="611280" y="2133720"/>
          <a:ext cx="8001000" cy="39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33720"/>
                    <a:ext cx="80010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Oval 7"/>
          <p:cNvSpPr/>
          <p:nvPr/>
        </p:nvSpPr>
        <p:spPr>
          <a:xfrm>
            <a:off x="2590920" y="2666880"/>
            <a:ext cx="4876560" cy="2438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5" name="Oval 8"/>
          <p:cNvSpPr/>
          <p:nvPr/>
        </p:nvSpPr>
        <p:spPr>
          <a:xfrm>
            <a:off x="7543800" y="2895480"/>
            <a:ext cx="1066680" cy="19814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6" name="Oval 9"/>
          <p:cNvSpPr/>
          <p:nvPr/>
        </p:nvSpPr>
        <p:spPr>
          <a:xfrm>
            <a:off x="2987640" y="5157720"/>
            <a:ext cx="472428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Oval 10"/>
          <p:cNvSpPr/>
          <p:nvPr/>
        </p:nvSpPr>
        <p:spPr>
          <a:xfrm>
            <a:off x="2771640" y="3860640"/>
            <a:ext cx="449604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2514600" y="2133720"/>
            <a:ext cx="61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Objects     Plants      Countries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1371600" y="3048120"/>
            <a:ext cx="16002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ve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s in a 2 Factor desig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1371600" y="1905120"/>
            <a:ext cx="20574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ich Group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4495680" y="1905120"/>
            <a:ext cx="205740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ype of Task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5" name="Line 6"/>
          <p:cNvSpPr/>
          <p:nvPr/>
        </p:nvSpPr>
        <p:spPr>
          <a:xfrm flipH="1">
            <a:off x="12952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6" name="Line 8"/>
          <p:cNvSpPr/>
          <p:nvPr/>
        </p:nvSpPr>
        <p:spPr>
          <a:xfrm>
            <a:off x="2895480" y="289548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Line 9"/>
          <p:cNvSpPr/>
          <p:nvPr/>
        </p:nvSpPr>
        <p:spPr>
          <a:xfrm flipH="1">
            <a:off x="3962160" y="2895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Line 11"/>
          <p:cNvSpPr/>
          <p:nvPr/>
        </p:nvSpPr>
        <p:spPr>
          <a:xfrm>
            <a:off x="6172200" y="2819520"/>
            <a:ext cx="1295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304920" y="4038480"/>
            <a:ext cx="167616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2743200" y="3962520"/>
            <a:ext cx="251460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action betwee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6934320" y="3733920"/>
            <a:ext cx="167616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" y="4952880"/>
            <a:ext cx="3048120" cy="11430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contro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mil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4419720" y="5029200"/>
            <a:ext cx="335268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animal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countri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4" name="Line 17"/>
          <p:cNvSpPr/>
          <p:nvPr/>
        </p:nvSpPr>
        <p:spPr>
          <a:xfrm flipH="1">
            <a:off x="3352680" y="4648320"/>
            <a:ext cx="15264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Line 18"/>
          <p:cNvSpPr/>
          <p:nvPr/>
        </p:nvSpPr>
        <p:spPr>
          <a:xfrm>
            <a:off x="4952880" y="4572000"/>
            <a:ext cx="1219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and Group are statistically independen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8" name="Picture 4" descr="orthog"/>
          <p:cNvPicPr/>
          <p:nvPr/>
        </p:nvPicPr>
        <p:blipFill>
          <a:blip r:embed="rId1"/>
          <a:stretch/>
        </p:blipFill>
        <p:spPr>
          <a:xfrm>
            <a:off x="1422360" y="1600200"/>
            <a:ext cx="6299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st-hoc tests (main effec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ukey’s HSD for pairwise comparis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lick post hoc in general linear model:univariat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also use ‘mcneq’ program on UNIX system at CBSU or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TukeyKram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ndard Error in ANOVA based on averaging the variances of the five observations in each of the 12 group/task combin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be best to look at tasks separately in control group as they behave relatively differently than with the pat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vered in post-hoc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ake your design fit your ques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IQ groups, 3 naming tasks, 3 age groups  (A,B,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x 3 Latin 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ask 1     Task 2    Task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 (n=3)  B (n=3)  C (n=3)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B (n=3)  C (n=3)  A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 (n=3)  A (n=3)  B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1/3 of all possible factor combinations by using a single observation in each cel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1 Task 2 Task 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1      19.34  20.45  20.9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2      18.38  22.56  24.2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3      20.82  22.59  24.5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put - main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457200" y="1893960"/>
            <a:ext cx="8229600" cy="4137120"/>
          </a:xfrm>
          <a:prstGeom prst="rect">
            <a:avLst/>
          </a:prstGeom>
          <a:ln w="0">
            <a:noFill/>
          </a:ln>
        </p:spPr>
      </p:pic>
      <p:sp>
        <p:nvSpPr>
          <p:cNvPr id="241" name="Oval 5"/>
          <p:cNvSpPr/>
          <p:nvPr/>
        </p:nvSpPr>
        <p:spPr>
          <a:xfrm>
            <a:off x="7238880" y="3429000"/>
            <a:ext cx="1371600" cy="16765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Line 6"/>
          <p:cNvSpPr/>
          <p:nvPr/>
        </p:nvSpPr>
        <p:spPr>
          <a:xfrm flipV="1">
            <a:off x="7467480" y="4647960"/>
            <a:ext cx="381240" cy="16002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5562720" y="59436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 significant main eff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ut…can’t fit interactio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1363680" y="1628640"/>
            <a:ext cx="7780320" cy="4724640"/>
          </a:xfrm>
          <a:prstGeom prst="rect">
            <a:avLst/>
          </a:prstGeom>
          <a:ln w="0">
            <a:noFill/>
          </a:ln>
        </p:spPr>
      </p:pic>
      <p:sp>
        <p:nvSpPr>
          <p:cNvPr id="247" name="Oval 5"/>
          <p:cNvSpPr/>
          <p:nvPr/>
        </p:nvSpPr>
        <p:spPr>
          <a:xfrm>
            <a:off x="2743200" y="2971800"/>
            <a:ext cx="2362320" cy="23623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8" name="Line 6"/>
          <p:cNvSpPr/>
          <p:nvPr/>
        </p:nvSpPr>
        <p:spPr>
          <a:xfrm flipH="1" flipV="1">
            <a:off x="3733920" y="4647960"/>
            <a:ext cx="1752480" cy="15238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5257800" y="59436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found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sults: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schoolchildren form each ability randomly allocated to one of the two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Mean Reading scores: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tho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Average   Below Average   Mea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ividual           1.7           4.5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               5.5           5.6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5.5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 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60         5.05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4.375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fewer peo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justs each factor for other two e.g. group differences not due to task or cent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s zero interac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s required are large for bigger designs e.g. 12 x 1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allocation usually has equal numbers of factor combinations (bal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task/group example we have just looked at is a balanced desig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ve people in each group perform each task (5 people x 4 tasks x 3 groups = 60 observa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lance meant task and group were statistically independent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servational studies/surveys have unequal numbers in cells (unbalanc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preadsheet:http://imaging.mrc-cbu.cam.ac.uk/statswiki/FAQ/s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ANOVA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Predicto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3 status of smokers: Current, Don’t, Have Done in the pa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 History of smoking: yes or n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 Blood Pressure influenced by smok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study will not have equal numbers of subjects having smoker/family history combination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genera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ual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Ex  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0.5, n=2    110.5, n=2    127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2.0, n=2    119.0, n=2    132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ies are equally represented for each smoker status. S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mean blood pressures for each smoking status do not need to b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djusted for family histor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266" name="Oval 6"/>
          <p:cNvSpPr/>
          <p:nvPr/>
        </p:nvSpPr>
        <p:spPr>
          <a:xfrm>
            <a:off x="2514600" y="3886200"/>
            <a:ext cx="22860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270" name="Oval 5"/>
          <p:cNvSpPr/>
          <p:nvPr/>
        </p:nvSpPr>
        <p:spPr>
          <a:xfrm>
            <a:off x="2438280" y="3886200"/>
            <a:ext cx="2210040" cy="6094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tatus and History are statistically independ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457200" y="1967040"/>
            <a:ext cx="8229600" cy="3990960"/>
          </a:xfrm>
          <a:prstGeom prst="rect">
            <a:avLst/>
          </a:prstGeom>
          <a:ln w="0">
            <a:noFill/>
          </a:ln>
        </p:spPr>
      </p:pic>
      <p:sp>
        <p:nvSpPr>
          <p:cNvPr id="274" name="Oval 5"/>
          <p:cNvSpPr/>
          <p:nvPr/>
        </p:nvSpPr>
        <p:spPr>
          <a:xfrm>
            <a:off x="2590920" y="3657600"/>
            <a:ext cx="2286000" cy="6858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5" name="Line 7"/>
          <p:cNvSpPr/>
          <p:nvPr/>
        </p:nvSpPr>
        <p:spPr>
          <a:xfrm flipH="1" flipV="1">
            <a:off x="3809880" y="4190760"/>
            <a:ext cx="1447920" cy="15238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4952880" y="56386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haven’t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Oval 9"/>
          <p:cNvSpPr/>
          <p:nvPr/>
        </p:nvSpPr>
        <p:spPr>
          <a:xfrm>
            <a:off x="2362320" y="5029200"/>
            <a:ext cx="1523880" cy="3808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Line 10"/>
          <p:cNvSpPr/>
          <p:nvPr/>
        </p:nvSpPr>
        <p:spPr>
          <a:xfrm flipV="1">
            <a:off x="3200400" y="5257800"/>
            <a:ext cx="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9" name="Text Box 11"/>
          <p:cNvSpPr/>
          <p:nvPr/>
        </p:nvSpPr>
        <p:spPr>
          <a:xfrm>
            <a:off x="1828800" y="563868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(for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calculatio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oking Status alon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505.167/2314.667=2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tatus adjusted for Family Hist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75/2314.667 =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Family History adjusted for Stat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balanced study (Boniface,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99"/>
                </a:solidFill>
                <a:latin typeface="Verdana"/>
              </a:rPr>
              <a:t>Uneq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ght expect non-smokers to have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 l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mean blood pressure simp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cause they have a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hig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roportion of people without a fami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ry of smoking. Need to adjust for family hist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Unbalanced study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8" name="Picture 3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289" name="Oval 4"/>
          <p:cNvSpPr/>
          <p:nvPr/>
        </p:nvSpPr>
        <p:spPr>
          <a:xfrm>
            <a:off x="2133720" y="3886200"/>
            <a:ext cx="25146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estions of interes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Teaching styl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dividual mean - Group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Group performan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mean - Below Averag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es teaching style success depend on the ability of the child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average -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below aver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Unbalanced design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293" name="Oval 4"/>
          <p:cNvSpPr/>
          <p:nvPr/>
        </p:nvSpPr>
        <p:spPr>
          <a:xfrm>
            <a:off x="2362320" y="3886200"/>
            <a:ext cx="243828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and History are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not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statistically independent…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3564000" y="515772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TUS AND HISTORY SS HAVE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Oval 15"/>
          <p:cNvSpPr/>
          <p:nvPr/>
        </p:nvSpPr>
        <p:spPr>
          <a:xfrm>
            <a:off x="2556000" y="3284640"/>
            <a:ext cx="1439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9" name="Picture 17" descr=""/>
          <p:cNvPicPr/>
          <p:nvPr/>
        </p:nvPicPr>
        <p:blipFill>
          <a:blip r:embed="rId1"/>
          <a:stretch/>
        </p:blipFill>
        <p:spPr>
          <a:xfrm>
            <a:off x="2079720" y="1700280"/>
            <a:ext cx="4983120" cy="2884320"/>
          </a:xfrm>
          <a:prstGeom prst="rect">
            <a:avLst/>
          </a:prstGeom>
          <a:ln w="0">
            <a:noFill/>
          </a:ln>
        </p:spPr>
      </p:pic>
      <p:sp>
        <p:nvSpPr>
          <p:cNvPr id="300" name="Line 18"/>
          <p:cNvSpPr/>
          <p:nvPr/>
        </p:nvSpPr>
        <p:spPr>
          <a:xfrm flipH="1" flipV="1">
            <a:off x="3634920" y="3499920"/>
            <a:ext cx="792360" cy="15130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Oval 19"/>
          <p:cNvSpPr/>
          <p:nvPr/>
        </p:nvSpPr>
        <p:spPr>
          <a:xfrm>
            <a:off x="3132000" y="2924280"/>
            <a:ext cx="863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ole is more than the sum of the parts in Unbalanced desig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4" name="Picture 6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60958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del for unbalanced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838080" y="3352680"/>
            <a:ext cx="121932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2819520" y="3048120"/>
            <a:ext cx="1066680" cy="17524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4343400" y="3124080"/>
            <a:ext cx="1143000" cy="12193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5867280" y="3276720"/>
            <a:ext cx="1828800" cy="16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9907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21.3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2971800" y="3352680"/>
            <a:ext cx="762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2.1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6.3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8.5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4419720" y="3429000"/>
            <a:ext cx="990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Text Box 10"/>
          <p:cNvSpPr/>
          <p:nvPr/>
        </p:nvSpPr>
        <p:spPr>
          <a:xfrm>
            <a:off x="6019920" y="3505320"/>
            <a:ext cx="15238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2.14  -2.1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.44  -1.4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3.57   3.5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Est. BP for smoker with no family history =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121.33+8.54-5.27+3.57=128.1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ected blood pressure for random individual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2286000" y="3352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7" name="Text Box 13"/>
          <p:cNvSpPr/>
          <p:nvPr/>
        </p:nvSpPr>
        <p:spPr>
          <a:xfrm>
            <a:off x="3906360" y="35622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8" name="Text Box 14"/>
          <p:cNvSpPr/>
          <p:nvPr/>
        </p:nvSpPr>
        <p:spPr>
          <a:xfrm>
            <a:off x="5562720" y="388620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Rectangle 15"/>
          <p:cNvSpPr/>
          <p:nvPr/>
        </p:nvSpPr>
        <p:spPr>
          <a:xfrm>
            <a:off x="539280" y="407664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verall Me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Rectangle 16"/>
          <p:cNvSpPr/>
          <p:nvPr/>
        </p:nvSpPr>
        <p:spPr>
          <a:xfrm>
            <a:off x="2209680" y="48769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Text Box 17"/>
          <p:cNvSpPr/>
          <p:nvPr/>
        </p:nvSpPr>
        <p:spPr>
          <a:xfrm>
            <a:off x="3851280" y="4437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2" name="Text Box 18"/>
          <p:cNvSpPr/>
          <p:nvPr/>
        </p:nvSpPr>
        <p:spPr>
          <a:xfrm>
            <a:off x="4800600" y="5257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 by 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Text Box 19"/>
          <p:cNvSpPr/>
          <p:nvPr/>
        </p:nvSpPr>
        <p:spPr>
          <a:xfrm>
            <a:off x="609480" y="2133720"/>
            <a:ext cx="586764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s (as % of Total S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tus alone: 1323.33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1025.71/11086.76=9.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tus (Adjusted for Family History) : 1334.37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Family History (Adjusted for Status): 1036.81/11086.76=9.4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Unbalanced designs need to take into account other predictors when explaining the effect of a particular variable on a respo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nweighted means (Type III SS in SPSS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owell (2002) can approximate SS in ANOVA using unweighte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unweight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126.57,n=7   121.67,n=6   131.57,n=7      126.85       126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121.65       121.33 Midpoi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111.75,n=8   108.25,n=4   128.17,n=6      116.44       116.06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(History adjusted for Status and Status by History) : 2 x nH x (126.60-121.33)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1007.35 where nH = 3 x (6/(1/7+1/8+1/6+1/4+1/7+1/6) = 18.1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eighted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S(History) = 20 x (126.85 – 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18 x (116.44-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1026.64 approx = 2 x 18.95 (126.85-121.65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      126.85     (n=20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121.65    (mean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      116.44    (n=18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weighted means to work out SS(History adjusted for Status)   (convolut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ow do we treat main effects in a model containing interactions involving these main effects?</a:t>
            </a:r>
            <a:br>
              <a:rPr sz="1800"/>
            </a:b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lder (1994) , Langsrud (2003) and others suggest looking at main effect Sums of Squares (SS) after removing interaction terms involving that main effect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vided  those interactions are not significa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e.g. omitting the AxB interaction if it is not significant to look at A or B so using SS(A given B in model) and SS(B given A model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eighted combinations of means can work out SS(A) and SS(A given B)  (and SS(B), SS(B given A));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 unweighted (equal n) combinations of means work out SS(A | B, AxB) and SS(B | A, AxB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are usually evaluated using changes in model fit for addition or deletion of factors of interest by comparing different regression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using weighted combinations of means also called Type II SS; SS using unweighted (equally weighted by sample size) combinations of means are called Type III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/Unbalanced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have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 synerg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cell sizes using Harmonic mean (Type III SS in SPSS) although Nelder (1994) advocates a type II weighted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nergy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sitive or negativ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51814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 apparent contradiction!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42" name="Picture 11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4983120" cy="25052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2" descr=""/>
          <p:cNvPicPr/>
          <p:nvPr/>
        </p:nvPicPr>
        <p:blipFill>
          <a:blip r:embed="rId2"/>
          <a:stretch/>
        </p:blipFill>
        <p:spPr>
          <a:xfrm>
            <a:off x="2700360" y="4437000"/>
            <a:ext cx="5330880" cy="196524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13"/>
          <p:cNvSpPr/>
          <p:nvPr/>
        </p:nvSpPr>
        <p:spPr>
          <a:xfrm>
            <a:off x="5796720" y="1989000"/>
            <a:ext cx="260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We have NO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Oval 14"/>
          <p:cNvSpPr/>
          <p:nvPr/>
        </p:nvSpPr>
        <p:spPr>
          <a:xfrm>
            <a:off x="4859280" y="3357720"/>
            <a:ext cx="57636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6" name="Oval 15"/>
          <p:cNvSpPr/>
          <p:nvPr/>
        </p:nvSpPr>
        <p:spPr>
          <a:xfrm>
            <a:off x="4643280" y="3429000"/>
            <a:ext cx="1008360" cy="2872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7" name="Line 16"/>
          <p:cNvSpPr/>
          <p:nvPr/>
        </p:nvSpPr>
        <p:spPr>
          <a:xfrm flipH="1">
            <a:off x="5435280" y="2276640"/>
            <a:ext cx="1081080" cy="1296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8" name="Oval 17"/>
          <p:cNvSpPr/>
          <p:nvPr/>
        </p:nvSpPr>
        <p:spPr>
          <a:xfrm>
            <a:off x="6948360" y="4941720"/>
            <a:ext cx="1079640" cy="1224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9" name="Line 18"/>
          <p:cNvSpPr/>
          <p:nvPr/>
        </p:nvSpPr>
        <p:spPr>
          <a:xfrm>
            <a:off x="7164360" y="3716280"/>
            <a:ext cx="287280" cy="1368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0" name="Text Box 19"/>
          <p:cNvSpPr/>
          <p:nvPr/>
        </p:nvSpPr>
        <p:spPr>
          <a:xfrm>
            <a:off x="6659640" y="2708280"/>
            <a:ext cx="20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But different results in the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ne tailed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 t(18) for apriori directional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ypotheses called one-tailed tes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.g. Is individual teaching more beneficial than group learn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groups case only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t test is a directional test because it takes both positive and negative valu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*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 F(1, df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14" name="Object 5"/>
          <p:cNvGraphicFramePr/>
          <p:nvPr/>
        </p:nvGraphicFramePr>
        <p:xfrm>
          <a:off x="4648320" y="1781280"/>
          <a:ext cx="403848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81280"/>
                    <a:ext cx="403848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Rectangle 6"/>
          <p:cNvSpPr/>
          <p:nvPr/>
        </p:nvSpPr>
        <p:spPr>
          <a:xfrm>
            <a:off x="6629760" y="32004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imes New Roman"/>
              </a:rPr>
              <a:t>P(&gt;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5486400" y="41911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P(&lt;-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Line 8"/>
          <p:cNvSpPr/>
          <p:nvPr/>
        </p:nvSpPr>
        <p:spPr>
          <a:xfrm>
            <a:off x="8229600" y="3657600"/>
            <a:ext cx="0" cy="2133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Line 9"/>
          <p:cNvSpPr/>
          <p:nvPr/>
        </p:nvSpPr>
        <p:spPr>
          <a:xfrm>
            <a:off x="6248520" y="4572000"/>
            <a:ext cx="0" cy="121932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5105520" y="609588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3     -2      -1      0      1      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5410080" y="64008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fference in metho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ion is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re is no interaction because all of the differences between English and Japanese are not significantly different from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ven thoug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English syllable scores differ and the Japanese do n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54" name="Object 7"/>
          <p:cNvGraphicFramePr/>
          <p:nvPr/>
        </p:nvGraphicFramePr>
        <p:xfrm>
          <a:off x="4986360" y="2781360"/>
          <a:ext cx="3362400" cy="23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360" y="2781360"/>
                    <a:ext cx="33624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 to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ference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niface DR (1995) Experiment Design and Statistical methods for behavioural and social research Chapman and Hall:London in CBSU library)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DC (1992, 1997,2002) Statistical Methods for psychologists (Five editions) Wadsworth:London in CBSU libra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. 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peated Measures and Mixed Model 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udy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tween subjects (this talk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one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dom allocation of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r study consists of a single person with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ithin subjects (Repeated measu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&gt; 1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mparing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cc3399"/>
                </a:solidFill>
                <a:latin typeface="Verdana"/>
              </a:rPr>
              <a:t>With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&amp;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betwee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VAR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27" name="Picture 4" descr="ssquares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  <p:sp>
        <p:nvSpPr>
          <p:cNvPr id="128" name="Oval 6"/>
          <p:cNvSpPr/>
          <p:nvPr/>
        </p:nvSpPr>
        <p:spPr>
          <a:xfrm>
            <a:off x="2666880" y="1752480"/>
            <a:ext cx="533520" cy="342900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Oval 7"/>
          <p:cNvSpPr/>
          <p:nvPr/>
        </p:nvSpPr>
        <p:spPr>
          <a:xfrm>
            <a:off x="6400800" y="1828800"/>
            <a:ext cx="380880" cy="403848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Oval 9"/>
          <p:cNvSpPr/>
          <p:nvPr/>
        </p:nvSpPr>
        <p:spPr>
          <a:xfrm>
            <a:off x="2971800" y="4114800"/>
            <a:ext cx="3581280" cy="304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3505320" y="1676520"/>
            <a:ext cx="27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0822"/>
                </a:solidFill>
                <a:latin typeface="Verdana"/>
              </a:rPr>
              <a:t>Is the variation between scores only attributable to random variation between the people those scores were measured on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ther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groups: 2 are patient groups (severe and mild); one is a control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person in a group is randomly given one of 4 word naming tasks: five people in each group do each tas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any X. can you name beginning with 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X is animals (Task 1) or household objects (Task 2) or plants (Task 3) or countries (Task 4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main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sk 2 has lower mean than task 4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rror bar length = 95% CI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plot using bar plots in SPSS or using EXC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ee CBSU website for detail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 PLOTS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8" name="Object 6"/>
          <p:cNvGraphicFramePr/>
          <p:nvPr/>
        </p:nvGraphicFramePr>
        <p:xfrm>
          <a:off x="4356000" y="1844640"/>
          <a:ext cx="449604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844640"/>
                    <a:ext cx="44960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Text Box 7"/>
          <p:cNvSpPr/>
          <p:nvPr/>
        </p:nvSpPr>
        <p:spPr>
          <a:xfrm>
            <a:off x="4419720" y="47242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objects   plants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3:13:22Z</dcterms:created>
  <dc:creator>peter</dc:creator>
  <dc:description/>
  <dc:language>en-US</dc:language>
  <cp:lastModifiedBy>Peter Watson</cp:lastModifiedBy>
  <dcterms:modified xsi:type="dcterms:W3CDTF">2010-11-01T16:41:17Z</dcterms:modified>
  <cp:revision>359</cp:revision>
  <dc:subject/>
  <dc:title>No Slide Title</dc:title>
</cp:coreProperties>
</file>