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EE83-D3C7-4199-B012-AF391DC0B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197D-7A8F-43B6-B0BF-58726766F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2306-3963-46EE-B112-7E7FFCFCF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EF99-7D75-46CD-ACA2-EEB99F4A7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A7F03-E05B-448E-9D38-6AD6D56F3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E52F4-2DF0-47EF-BA22-F8C87210BF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50862-6650-4F74-8F1A-6B429BA274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51609-B89A-4F47-B0A0-E5454343E0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3A229-0DF8-48A4-91D1-6BEE6B0B0E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406BD-1268-44E7-9612-5F177E5AE4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BF74D-E754-4944-90E2-CA4A68745D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B213-317B-4AE4-B4A8-3B88F8436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372D0-1603-47AF-ABB9-CF94BADD7F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39229-E2B4-4078-B0A5-8B3C8F7EFC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76733-95E9-4C92-938C-F6256CB12A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A2F64-537D-4A89-A9F1-3A89C6FB72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9F90C-BAA3-4848-8B93-78B4F91898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5B83-875B-4666-A294-8E5C21061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3856-C844-4664-BA11-D31B79C8A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A56B-61F4-4454-9A36-5C0111BBF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47EC-67CE-4608-AE3D-AD0E77C86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B7D2-5093-40A5-954A-222E4D829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BBCC-2C9E-4039-90CF-5B2DD19B5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F472-0BF9-40C9-BD9E-0A8351319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6FCF585-77F8-46EB-BB8B-7D1D6BC0CBB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7B51910-DB17-4F83-BC23-4B0BC3791C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D3BC5243-4C8D-45F9-B44D-400ECFD84952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8223EA47-170F-4902-BC46-1F68D3521E24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0-11-01T16:41:17Z</dcterms:modified>
  <cp:revision>359</cp:revision>
  <dc:subject/>
  <dc:title>No Slide Title</dc:title>
</cp:coreProperties>
</file>