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423-7E45-4BEB-9B72-D2266B40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8AF-B407-48CB-BC0B-CD64C689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369-DFAA-46F2-936B-E7E4ACDA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9C7-04B4-4EC1-B018-B0A16B7D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7CDD-D3FF-41AA-AC35-33FB0CF5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424-865E-4A18-9BC9-17C87C24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691C-071E-48F7-BFEA-3C6940B1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63B5-AD1B-4C31-9218-FFCE6E06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41D-F676-4F82-9872-2C9EE4A7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5E1-8B34-4D94-857C-1BE535B8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7C7-1279-44FF-961C-C69D621B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C4B-466A-44D2-814A-BBD91928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&lt;date/time&gt;</a:t>
            </a: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1 November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MRC Graduate Talks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942F-AF75-49B1-BB43-7768435EEB27}" type="slidenum"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 November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" name="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5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1 November 2010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1" idx="2"/>
            <a:endCxn id="122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1" idx="2"/>
            <a:endCxn id="123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1" idx="2"/>
            <a:endCxn id="124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1" idx="2"/>
            <a:endCxn id="125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9" idx="2"/>
            <a:endCxn id="120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9" idx="2"/>
            <a:endCxn id="121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2"/>
            <a:endCxn id="154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2"/>
            <a:endCxn id="155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5" idx="2"/>
            <a:endCxn id="156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5" idx="2"/>
            <a:endCxn id="157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4" idx="2"/>
            <a:endCxn id="210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4" idx="2"/>
            <a:endCxn id="211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1" idx="2"/>
            <a:endCxn id="212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1" idx="2"/>
            <a:endCxn id="213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35600" y="2436840"/>
            <a:ext cx="755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endCxn id="267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5" idx="3"/>
            <a:endCxn id="269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5" idx="3"/>
            <a:endCxn id="271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9" idx="2"/>
            <a:endCxn id="275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9" idx="2"/>
            <a:endCxn id="276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6" idx="2"/>
            <a:endCxn id="277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6" idx="2"/>
            <a:endCxn id="278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77" idx="2"/>
            <a:endCxn id="284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77" idx="2"/>
            <a:endCxn id="285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77" idx="2"/>
            <a:endCxn id="286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78" idx="2"/>
            <a:endCxn id="287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8" idx="2"/>
            <a:endCxn id="288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78" idx="2"/>
            <a:endCxn id="289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US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US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2" idx="2"/>
            <a:endCxn id="308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12" idx="2"/>
            <a:endCxn id="309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309" idx="2"/>
            <a:endCxn id="310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309" idx="2"/>
            <a:endCxn id="311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08" idx="2"/>
            <a:endCxn id="320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08" idx="2"/>
            <a:endCxn id="319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11" idx="2"/>
            <a:endCxn id="317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311" idx="2"/>
            <a:endCxn id="318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3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2" name="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6" name="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 TWO week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5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Administrator</cp:lastModifiedBy>
  <cp:lastPrinted>2004-11-17T16:02:36Z</cp:lastPrinted>
  <dcterms:modified xsi:type="dcterms:W3CDTF">2010-08-25T12:15:31Z</dcterms:modified>
  <cp:revision>57</cp:revision>
  <dc:subject/>
  <dc:title>No Slide Title</dc:title>
</cp:coreProperties>
</file>