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3F95-262D-4877-844C-9EB16A260FD6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D818-C3A1-4F49-9B86-C8F4BD2FD6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AF7F-9A53-4F7B-AD9D-04F1392885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2371-A40F-419B-827C-62B71DB29E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C5AF-8EE9-49C0-A70B-487F8F5604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1906-CBDB-4C40-A7E0-A109E04768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BA07-100D-4811-BC2F-E6DD6015CF3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450C-3E71-4AA4-AADF-20FED773BE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F710-AAC1-4EA0-B186-FFB2041745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BBA0-3D60-42B1-83E3-DB47E63E00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6024-CDCF-4CCA-B333-8338A7CF7F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5C59-8A69-4A73-939B-1597C9326C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A9BC-0E97-408B-8E02-1B541C6F837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9DBE-70D2-4D1D-8828-30B609A8460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F9DC-8241-42E9-8F1C-5FADDA145DE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9DF9-4031-4A69-802B-2E215F398D4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D574-376B-432E-9793-44E2800186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BDDE-3C62-47C2-83C0-F5D0212FDA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A7D8-C2F7-467D-862B-D027122E89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C354-8E0E-4CBF-91CA-B88E816E48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1AA8-599A-4BA4-9767-CBBBE971E8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0B0A-3E66-40E1-ACDB-A357819DE6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8258-7E1F-432E-A706-97097CD1F4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CDDB-13F5-48B1-B5F2-4027FE226C3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1528-74C6-4C7E-A325-ACA6486B59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FCA8-F109-4215-A70B-0ECA19C621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82B3-EE6B-43A6-B0C2-67EC5B3412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4B5D-C8A6-4D15-938F-ABFDFD7D92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30BE-F1EB-4E68-A348-A74DD420CAA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BAE2-530F-4F88-B91A-4671F84AF3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041E-723D-40FB-AB46-547F8E4A8D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0E39-B176-4F28-8D6D-FCB128255C4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35D2-006C-42DD-BF5E-8AC5F00AE7A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29EC-45ED-4CC9-846A-0C7FD6E68BE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70BD-7E37-4A56-B469-1D48EF4BCC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FAC7-84A0-4FE2-A775-55D2A7AB9B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0913-AD52-4518-A98E-B03012042A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29C5-CD83-472F-81DC-FAADA23A00B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0908-3007-48C6-A844-83148A5690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5801-E25B-44C0-8E74-27046B970E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7D7D-C0A4-4BF7-93FD-B5481EC981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F682-8B3D-40BE-9083-D86F6F65F0A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2B2B-8578-4C19-B6E3-C03AE8D921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FF3F-3DD1-4748-96C4-39A6C51EF7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0AE6-E304-4CD6-8392-42CA0439628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F8D7-7C7B-4279-B483-84F00AC82F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286A-1D80-4BB9-8DA7-14E529073A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DA67-2539-42D2-A2ED-4264EB960B4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7828-C5EC-47C0-8549-4C3E8F918C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B59B-C944-45B1-B5F2-912D38B31B8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9E55-23A8-4A26-B1EB-3173768AF1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2AEE-38C4-456F-A7CC-A78E249B4C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59E3-449D-42EE-8E65-20761E519E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9FC-FF64-4F10-9EA4-D2ADF0CD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081-8D96-4CCF-AA3D-AC94AA04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ACB-5D5E-463C-AD2E-E64F14A8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993-3BF0-4544-8DD2-01EBA38D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62B-C97E-4B34-B075-5699A743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A33-1F12-40D0-A1A1-91E3744A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7E6-32FC-43D1-ACD6-4C069327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C7D-9D74-47EA-BC48-EE4ED9CB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9AE-6074-4E20-A797-92D137AB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A55-DCD6-4ABA-93A9-E1370675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534-139E-44C9-9855-E4B35AB2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9AA-EE5B-4165-BFC2-B8C940F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563C-B468-4817-9FE7-08CB7410EB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7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5861-2528-4DA6-A471-B411DD314A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86A4-528D-4377-9FBB-8B67E810D6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5A45-89A6-4BFC-B32F-7BA575EEDD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8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3869-98C0-4379-9B88-B97D3E3DE1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6249-981B-4064-8D84-CB30AD9460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DC11-8F8F-4BC4-AA96-3EEA06B96C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CEA1-ACA9-4A6B-B801-26A69560E4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90B0-077B-4549-97FE-4EB5D0DDAF2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4FEC-5F83-4923-8D18-F7CB7714D6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AA7C-F60F-452B-9321-98C8D135BF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F0F3-332D-4348-BFEE-AD829718C2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4318-ED03-49A7-BCD2-C59883CB21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6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75D9-A86E-43BE-9405-6301469339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5E3F-15E3-4C12-AD45-E93F07A868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F595-0ABD-4D00-AD8C-588A5367E8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442B-F244-4E6B-A7D2-5514062C99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888F-BDEE-4CB3-AB01-0C46EA1700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0188-D828-44A4-AA40-DB150BADFB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54BB-EB45-49F1-8014-5448363E169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517B-0397-4212-BAD0-36129EB488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49C4-FD57-4697-8743-5752156BF6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6091-9136-4F7B-AC15-ABAEE8F4CF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0932-9D11-4C9A-ACCE-7D2588EEAB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44AD-BCB9-472F-86B0-5AE7A084E4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BD5D-B35B-4BE4-9539-A931E2540F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856E-115C-44BF-861A-835B6259B3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E273-4735-4D70-A9B6-9C72DD1F08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DF4E-D29E-437B-A00C-3499ED869A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24F6-9E81-4B1B-855D-1CF08C2514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585B-F4F2-4D65-95E6-A947BB9085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EEFB-8C2E-4440-8929-856EB01B23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1415-9DB7-4A90-AD5B-840E08B370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F3F5-0304-4157-89EE-FA514BAFC7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01DB-B133-46EF-B3E7-3059B5B4CA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3769-3DA1-40C2-BE2D-C4211C0F7B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137C-2E30-456E-A1A8-AA34340A40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5BDF-91DF-44BC-A876-F3FBAB8E6D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E771-625F-4BF9-A750-B24329974A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32E5-5933-4829-8CAC-B205E25EFA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E1DE-EA3A-454B-8942-F71E628D1B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C83A-35FC-49AD-A3C8-5D0D8A0E18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C8FA-DE85-4C0E-8816-7E295B1D4E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910B-E32A-46F5-AFBE-8519A5DF96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07F8-BA85-4D44-9613-5273E2ACC8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0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C1D0-E70C-40D0-BABF-27A1A73525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1B79-88C1-47EA-B5F1-8045E775E4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72EF-BBA5-4A5E-85A4-9ED4627C8E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48A2-A468-4F55-94F4-7A151C7242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7810-7058-4E51-87F3-205A275896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E51E-8CFD-485A-B255-209D15145A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2E0B-7B9E-474E-AD08-1EC21B7508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211B-8E4D-4274-9651-1503DEBBE6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16EB-88BB-4635-9CD0-8287B68DFD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3075-025B-4A2B-920C-20F23DB861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ECF3-F525-4E6F-83F2-37F8B3C606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D0C0-08EC-403E-8B7B-C49D492CD2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A4D4-62AE-41F3-9FAC-67C5CBBFF2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50B6-635B-4D78-B4DC-70639B9F00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5469-2EA0-4BB7-BFCF-DE6B28C027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10A3-FA61-401C-BA30-C823A56C94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07C3-B8E3-4D2B-A712-FC11AFE5CE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1BB8-6106-4C73-A3CD-9142D11C00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hursday 2nd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2" name="Picture 5" descr="coversmall"/>
          <p:cNvPicPr/>
          <p:nvPr/>
        </p:nvPicPr>
        <p:blipFill>
          <a:blip r:embed="rId1"/>
          <a:stretch/>
        </p:blipFill>
        <p:spPr>
          <a:xfrm>
            <a:off x="6248520" y="3657600"/>
            <a:ext cx="1371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3A7F-74E9-4C2D-8F91-851E1D8F19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DAC2-7C36-4F74-89D0-A31BB8E305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1FB2-0915-44FD-BAFA-A6681BA806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7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0-11-24T15:49:56Z</dcterms:modified>
  <cp:revision>68</cp:revision>
  <dc:subject/>
  <dc:title>Aims and Objectives</dc:title>
</cp:coreProperties>
</file>