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7F70A-B4D5-4B67-B351-DDECA204A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D93A2-473A-4BBC-9DEA-750AD728B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61444-579F-4B7D-A49F-2A484FAECC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DDE3B-D6EA-4682-A022-3845FE350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48BA4-A628-4A75-ABAB-1436963659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2883F-7BF5-4C73-B21C-56574C59AE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F57A1-87D6-452F-88B7-60A9907A28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23AA0-F097-48F7-906B-EBAF887B9D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69B44-0321-4C03-83AA-C90B666704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4A0EF-44C7-47BC-9F1A-F67AC0C5A2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A1399-2E43-40D2-9ECD-907C831F92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16388-B12B-49E9-84E2-632969971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920BF-373D-4A77-9496-98877978B8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BBC75-34D2-4E07-8227-4CD83579C8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DD0D4-5770-4514-8750-B90ECC2CE2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EE806-51F5-483C-ADEB-4AAC59BB3A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2A15B-FB41-4BC4-A845-F3E3DCED67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C8E91-B256-4ED2-AAEC-AC3224ADB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51AFF-F13F-43B0-84E3-F69AC3727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FBBC7-F254-425E-A8EF-E5A416173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BE077-5851-408A-A00E-0C1B57EA6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1D541-4EBA-4298-869A-C44127960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26C37-9078-4DD6-A4DC-AEFC5C28D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27094-4272-4C6B-8A66-F391FFCDA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BDF94D8-F3B3-4612-A314-CF563F84B8C4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83BC5F8-208D-4925-9FE9-D2B326E2328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3E151E9-9608-4897-9670-0FC33751661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C5E4C11-994A-4BB0-81CE-AFFDE24B339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oton.ac.uk/~cpd/anovas/datasets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rField" TargetMode="Externa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7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is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.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ar 1.0              &gt;3.0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cancer sibling study: 222 possible to sample but 80% response rate and gender matched siblings wil reduce sample past 120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rFiel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Administrator</cp:lastModifiedBy>
  <dcterms:modified xsi:type="dcterms:W3CDTF">2010-08-04T12:47:30Z</dcterms:modified>
  <cp:revision>195</cp:revision>
  <dc:subject/>
  <dc:title>8: SAMPLE SIZE DETERMINATION</dc:title>
</cp:coreProperties>
</file>