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A531-92BE-4A85-878C-BF04E9072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434C-022B-44E9-8FC6-A75662DDF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B278-EA4B-4B46-89C1-8CC21310A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FF2D-E7C1-4D47-BB05-3AEBCFC3A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8612-E16D-43EF-A8AC-EC683ACA6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7DCC3-B503-436B-97CE-FBD45D6F7C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D39A-0863-4778-8AFC-06AFB1FD9A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DB141-668A-4845-918A-C978181B1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C3090-380A-481D-9E6F-54356FE82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A9BE-ED42-40AB-AFC4-008ABFE6F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0734-78DD-4571-8EB4-D5AFB086C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E7A0-CD16-4BF2-A850-AAF15DE03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726A7-7DB6-45A1-B19F-01FCA5C225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B00C1-CC7D-4EAE-854F-ED091402C7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C979-32CF-4FED-80C1-E56C61C15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E874-DFAA-4BB7-9527-ED368F721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3F1E-B352-4614-97A6-071E74CDA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81A6-3A2F-4E17-A4FF-A70C3328E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5472-B8B4-4C73-9A8D-2A5F20B19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F86C-0793-4F77-AE44-8366FC44C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DF76-39F6-46CE-BC23-60075C142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2923-41E3-4A0D-A948-16F27256D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B83C-D6D2-436A-AD03-67109E6A4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48D0-099B-45B0-844B-82DFA45AE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036614-7D32-4942-BF5D-42DABD3E0AB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B6570E-A197-4267-9EBD-D64371A9015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FE3990A-AAC2-4DD2-A119-8418C933B8D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6C02072-7530-4067-AC61-D21F84F63CA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8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5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9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0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2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3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4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0" name="AutoShape 65"/>
          <p:cNvCxnSpPr>
            <a:stCxn id="338" idx="0"/>
            <a:endCxn id="337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AutoShape 66"/>
          <p:cNvCxnSpPr>
            <a:stCxn id="337" idx="7"/>
            <a:endCxn id="339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7"/>
          <p:cNvCxnSpPr>
            <a:stCxn id="338" idx="7"/>
            <a:endCxn id="339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3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5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6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6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3421-1D80-45D3-950B-BCB476BDD8B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2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2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4" name="Straight Arrow Connector 96"/>
          <p:cNvCxnSpPr>
            <a:stCxn id="603" idx="1"/>
            <a:endCxn id="594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5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0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0-12-02T13:14:17Z</dcterms:modified>
  <cp:revision>312</cp:revision>
  <dc:subject/>
  <dc:title>No Slide Title</dc:title>
</cp:coreProperties>
</file>