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A6C7-67E5-4F44-B918-D3A2E0FEC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D81C-A291-46DD-BEB9-FC6F9BE7A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3CFC-21CC-42DA-8C2B-FC1B018C8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3A1C-6527-4254-B248-69950E89D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862EA-2970-41B0-9701-5D4F3E3A71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155A9-4700-416B-8D28-EEBD26CA3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E6BD9-ABB3-4878-886E-78C2799522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367F2-9EA2-4105-BA39-371D8CAB6C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8C038-8CF2-4815-A038-20E5C6F359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0C59F-C152-48A7-9B79-20BE1DDBCC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2B37F-F256-45CB-A298-3CB51D4ED0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E287-4842-4972-B6E7-3AC1C2DA5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FCB75-706D-4195-8686-CB0B2DEA5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E2B74-B7D4-42F6-BA0F-D42B7C5E9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2C2EC-7E56-4641-840F-231BB7ECBA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BFF1A-B24C-4957-8EF8-18F6326231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5B52B-CA5C-4E47-8C98-1A21A9886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F483-D7B3-406E-97F6-ADD8B2FFE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0484-7FAB-48F5-A657-3E7E910DA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5B4D-F05E-49A9-ACBC-64746FE38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2C21-5F4C-4FFA-AF9B-AB2F0B8A7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6DCA-5933-44DA-B6E8-1304F0342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16A9-B7EE-438A-B6C5-20B687C44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4523-D25B-432E-8ED3-82C473CF3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980D3EA-8BB3-49DD-940B-DBA183C2A25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782580A-D9D4-44E9-BEDE-47CD5DE4575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EAFDFC4-0F16-4D0A-BCD8-8BFE12D0CCB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493C4A4-B807-40FD-B4AB-E3297F6C06A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8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5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9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0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2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3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4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0" name="AutoShape 65"/>
          <p:cNvCxnSpPr>
            <a:stCxn id="338" idx="0"/>
            <a:endCxn id="337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AutoShape 66"/>
          <p:cNvCxnSpPr>
            <a:stCxn id="337" idx="7"/>
            <a:endCxn id="339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7"/>
          <p:cNvCxnSpPr>
            <a:stCxn id="338" idx="7"/>
            <a:endCxn id="339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3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5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6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6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9937-96A6-4AB5-9891-7B52B2CDD14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2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2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4" name="Straight Arrow Connector 96"/>
          <p:cNvCxnSpPr>
            <a:stCxn id="603" idx="1"/>
            <a:endCxn id="594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5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0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0-12-02T13:14:17Z</dcterms:modified>
  <cp:revision>312</cp:revision>
  <dc:subject/>
  <dc:title>No Slide Title</dc:title>
</cp:coreProperties>
</file>