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589B-BFE0-4A52-8A44-27DDAED13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9EFF-0E57-465A-990E-A8550B277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4462-AFA1-4F90-B28A-DC6444036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2B25-CC25-447A-B88A-440D2AA7C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12D1B-26DD-4360-9F9B-112E2AA5D5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DB082-ED16-4423-9F1E-FF1CEC3DF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F2E4-2171-4957-9F2B-97FDED7B5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B5037-57ED-46D1-8815-561C65D7C2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E17A8-B321-466A-8DC9-2F3059C16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11FE2-5CB9-4181-9CDB-36F8B49AE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A569B-6434-41FA-848A-55AA99D8F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56E1-7038-468F-A395-840AF8742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D4C8E-431A-4EE1-A9DC-906B1D503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5B4E2-4836-4040-B558-931442D33B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F96D0-1377-4B03-B056-0D777B7F3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B397F-7DC4-4984-9A48-8F088ADE3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F1C4-CFD1-4016-953C-4A9C5B7C4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92E6-12B4-42BD-AEBF-295189146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5190-59A6-409E-960E-13E8FDDFD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96F1-9AF2-43EB-B443-41738B6A7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0F74-9A2B-411D-AD54-5BA238981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435B-8F6B-4802-A43B-289C22835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2C8A-8280-4012-A13C-AC987B45E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9027-7ED3-496E-8B3C-465939924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3A8E005-A790-4BB5-A486-BFCDB7A8388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893A23C-3F89-4C5A-A999-45D0D1D17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B0E67A4-1EAD-4055-979D-855C160EA0AC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37C0671-7197-4200-8AAC-9A62CDC1C632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1-09-15T12:48:28Z</dcterms:modified>
  <cp:revision>360</cp:revision>
  <dc:subject/>
  <dc:title>No Slide Title</dc:title>
</cp:coreProperties>
</file>