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E79F8-AC76-4D79-BF7E-AA31C1EB1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5C1D-6083-4EF8-9E4E-DA38D3A10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E947-5D1C-439B-9551-178CE43B3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DEE6B-9A09-45F4-95E7-D54BF6773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340AA-2A82-47F0-979A-0C1FA86B5F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A112E-3B84-43E1-BE46-76644D3D83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FF1CF-D4C2-4C15-831A-882808864B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20A2C-503B-41B0-B021-4DC1C0EE3E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5DA5C-68E8-46FC-8765-1D26E6AA83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435D9-B32C-4A57-89B3-D3E91FF0F5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83B46-4650-4589-BBF0-5BFB698E94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81421-E2D4-42D8-8CD8-BA227B290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0068C-FD9D-461C-94D6-A6C779FC71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F24AA-D543-4B56-8B50-BE49D86F2F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3B88B-3EC6-4E7A-A8F4-3122DD98E5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92646-66BA-4DA3-B460-9FCBCF6685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F001E-6C7C-4845-853D-677C4D8797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51CE3-73C9-4183-B642-1526D3EE0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E5FC-99B4-4CBF-B016-5B2C00D0F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1F9C-DB88-4F98-BE47-90BF238C9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3E77A-CBAD-44CA-BF80-60119AB6B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B1715-0ABB-4970-9FE0-04A269A0D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016D-DD37-46DD-AEF7-B0CC505EE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D1BCC-618A-4DC3-9D46-D67C78C4F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32A3BAC-537D-4690-B8E8-520BBA4CED4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B0CAFB6-4EE5-435C-A625-0A6D5126D1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CFE261E8-61D6-43BB-8D63-D4CF54FF548B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C34BF688-8300-426D-BA57-96EF61272FBC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4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1-09-15T12:48:28Z</dcterms:modified>
  <cp:revision>360</cp:revision>
  <dc:subject/>
  <dc:title>No Slide Title</dc:title>
</cp:coreProperties>
</file>