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6941-BC35-4390-8E30-E25DA69A4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4912-D08B-4BB1-986D-25B2D2C00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462A-BE88-476E-B666-262B20495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F81C-A5F3-4A8F-88CB-1C2EE62C6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5776F-626F-4E18-B3DF-A3B54BE64A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B23FA-9F05-4AFC-B6D2-54D8791098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A3262-B4D9-454F-8C5E-27570113F3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CB75D-9936-4C22-B52D-F4029E1D81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5BDBE-C5EA-48AE-B209-C0A23C3E9D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DE0A1-E819-4278-AFAE-B56FFC5270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FC00D-AA88-490F-8DE9-73D888C01F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33CF-9EF5-420F-94D9-90F168526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6F6D4-919F-43E3-8F5D-CE8CD0BBE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3798F-A527-4B70-B935-8FCCA05FD4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7B558-1B9C-49EB-A19B-82E428CBC5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BAB40-6436-4E2B-B9EC-AC5C45FA85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3D60E-2EF3-4F1A-BD3F-26744F7FED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943B-0CDD-47CD-9AB6-A714A3D24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5435-8F64-4411-B742-5A838A2FB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36F5-231C-4D6E-AB12-00D2A2CEF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8049-14C4-41D5-9582-034923EF8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F8E7-327B-406E-9DC1-2C4CFDE31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C94E-5528-42C6-815A-3E48CAB16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A37C-F719-4A9F-BA4B-2BEB4CC38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19F0356-16CC-423F-99CA-B27839BBCE6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B827303-34E5-460F-81AB-FD48DF3ECA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D5F856F-C396-4990-82DD-25DAD68E9A5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5F64D48-183E-44CC-BF80-640626A1562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1-08-04T12:47:34Z</dcterms:modified>
  <cp:revision>341</cp:revision>
  <dc:subject/>
  <dc:title>Exploratory Data Analysis</dc:title>
</cp:coreProperties>
</file>