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0F20-B929-4CBE-AD09-A0D39A4FA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9F17-8F68-45E3-861E-A95B46033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B242-09EA-43E4-B5F0-9ECEB9932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AAF5-C294-4A6D-8991-B67778B75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A737A-14B7-4F12-8520-6D91C8C4BE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15696-7285-4D92-9866-2DC6A4B74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F772-D21D-490A-BD42-404DF35B15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D7BD-B6ED-4DEF-B7AF-09CAB8391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811CC-41AB-4BB0-A47E-4314A6FFF5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14A28-5FF2-40C9-AAAA-216D3D426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09FE3-A410-47E2-8253-673A7C239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01B8-E458-4C45-8251-23E834735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52BC-9525-45C4-9F06-E20FF2532D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9875B-9B91-453C-96C9-6BFDF923AC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0D990-A3A5-4DBB-94F8-780F7C5C19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AA44A-7F9C-4C99-820A-5815A84D66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15EAD-A58B-4407-9D54-635DB98F6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3C00-AAD8-4B67-9E67-4DA17CE5A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E994-8001-4D0A-A773-7D997CFA0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FBACE-00A2-447F-9658-130EE9B1C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3507-9812-424E-8A86-3A036E12E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5396-7349-44CC-B5D6-BA93E44A4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EF92-0E9A-444F-A643-4F6A18CDA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24DB-C04C-46FF-B1F8-28A972CD4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1F45677-04D6-4A7B-8B3D-C7B60B97198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A44DE3A-45B9-4C15-B75E-5AC8C46AD1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122754-7334-4758-9717-C158B117391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3DE0B7-E35C-4039-B08A-E6CC6D987AA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1-08-04T12:47:34Z</dcterms:modified>
  <cp:revision>341</cp:revision>
  <dc:subject/>
  <dc:title>Exploratory Data Analysis</dc:title>
</cp:coreProperties>
</file>