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3660-FAF3-4FC2-BF8C-DD8F7A167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9B2B-5602-41DA-AB94-F7F2A5E2A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CE19-FE78-4D6E-9496-69C9CBDE5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A563-BADB-4D7D-9F1A-6A1FF2CD1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02E2B-F42A-43E7-98DD-2EB13A03BA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83504-8373-496E-B780-B926073731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0E6DF-749F-4A58-8CB0-15198E6AF6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59AA8-3F52-48D9-BBF2-F512C4C556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36448-CB53-4592-BA1C-423746FF9E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BD827-FE79-4C2B-9C16-5960C9C577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7EDCF-FC85-4F5E-B1B5-94D78A7AB3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7774-8379-49C7-A56A-2D9546150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F9BD4-D00D-4E61-AFBF-B97ABA52B6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9033C-76DD-494A-B20A-8B89827BD5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F8B7D-7D43-4BDF-8588-5771328E02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DED9E-A8A5-439D-BBC6-1DA4232C96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56560-2361-4AD0-B09E-4CAB4A4438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9409-053C-40FA-B151-9D5FFA028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8C89-FB9F-4439-AE7E-247020B76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969A-9FE7-4A53-877F-8AAD4A6E9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280D-2113-4044-B3F6-B08FA4FC8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9F95-76C0-4F44-8C8C-44196FAC1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23AB-5F53-4D23-8C33-9825735E6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72F7-9FB9-4AFE-A657-5E744CC3D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7047F77-5B1F-4502-9687-246DFAD97E1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D4892E5-496C-456E-972E-0A63B7265F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4136491-0C6C-4902-AC8C-D5F17C1C2BE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DB22AA3-BD91-4307-8ACC-5054EF74BCC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1-08-04T12:47:34Z</dcterms:modified>
  <cp:revision>341</cp:revision>
  <dc:subject/>
  <dc:title>Exploratory Data Analysis</dc:title>
</cp:coreProperties>
</file>