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6166-2C85-496E-83AF-CE1605ACE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1FC7-A49A-4F75-9D0D-3D9B2220C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A252-6D53-4EBC-90BE-CD4671720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80DB-74A2-4A90-A0BB-2EAC1A8BD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4D614-6006-4F81-BB6A-E6FBA29E3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38155-9382-47BF-915D-C185F0107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7BA0-DF60-4360-8E22-251F702E6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65F71-6FD1-4EDC-9C7B-D5375E8860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E4FBC-6D93-4C4B-8F0F-12421D0C10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E6C34-F74D-4AA4-9F9A-A485ADA79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5FC02-8F87-4648-A95A-4818FBB8C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F3F8-50F4-4302-BB3B-11B9C010F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5CA93-F5E0-44DB-94F6-4C2C898098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E5175-0EED-4059-B683-9E5B94D813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4FCD-0DE7-4E6A-8434-BDEDA05881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2255-3584-4A6B-871E-F779F18D5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A225-6133-4E54-8105-FE74FCA717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3DE5-84EB-46BC-8062-0CA2AE57D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19B1-EE0D-40FD-BEEA-2420BCCF5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54A0-0041-40CE-8095-FF66B9F6C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C156-B9B9-4373-820B-1A9F2D410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C155-97DF-44FE-BF54-EE8B35DA1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5997-31D0-4BA8-8CAB-620793A36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884B-106C-47C5-99DA-77E210D71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31A82F-3626-43D6-B17B-30012AC2F5A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45251F5-73E1-4116-A4E1-0E94EEB7CFB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46074F-E97F-4D5F-9124-7C87D791C52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81E6EF1-4DBA-4A82-BD47-572BC246E43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782-76FC-4F56-864A-FD0472E3F843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1-10-05T11:15:40Z</dcterms:modified>
  <cp:revision>321</cp:revision>
  <dc:subject/>
  <dc:title>No Slide Title</dc:title>
</cp:coreProperties>
</file>