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ECD4-4122-496E-A357-824D29C48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A63C-CB97-4CF9-9CDA-90AA1E2D6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0F80-5412-4A71-AE69-7015263BE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2FD6-FACA-479A-AB0D-1A29167B5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A9994-AD48-460F-BF4F-187B685439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BB789-33B6-49A9-BC96-94CC7C09E7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E416D-A266-4B3E-99F9-85633C8BF5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D57E1-04EE-4643-BE0E-53D1CF96B9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F9AEF-47C1-42E2-936C-9B2CDADA28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AFEF6-02C0-4CED-8125-1DC025E81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53226-8DC3-4982-B0FC-DC3DC98D3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3466-D327-46FE-99ED-6CB6F6118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39D29-21EC-4E07-9A07-7D9FDB423C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C9619-F615-4019-8E79-E7020EA0A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3EFC9-E3A3-440B-ADE3-6471AE0370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2EE4A-9A36-4223-94B7-6EB19FFCE9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49ABC-80B1-4861-82A4-94418DCB66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4016-B20B-465B-8CC6-153C87F9B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7F14-4F4A-442B-98D2-EA16DF8A3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9CE0-1DFA-44E0-A76C-7225952DD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2D5D-CECE-4592-9BB5-69B254286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02D9-3BA3-48AA-98F5-E715356DB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575E-6F6B-4BB6-B431-A15DED16D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141F-31FE-40A7-B6CA-011135D77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2D3559F-B8E0-4178-A5B8-C1D7578DD54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E55B25F-A432-410C-B457-7549BD6340F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CE86A92-C5BB-4FC6-A050-9DC7B84B55F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C32D154-DAB8-45B9-A165-57B79C9EF62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1" name="AutoShape 65"/>
          <p:cNvCxnSpPr>
            <a:stCxn id="339" idx="0"/>
            <a:endCxn id="338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6"/>
          <p:cNvCxnSpPr>
            <a:stCxn id="338" idx="7"/>
            <a:endCxn id="340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AutoShape 67"/>
          <p:cNvCxnSpPr>
            <a:stCxn id="339" idx="7"/>
            <a:endCxn id="340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6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7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FC8-2273-4B05-9EAA-2F7430D32FE4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1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73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83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5" name="Straight Arrow Connector 96"/>
          <p:cNvCxnSpPr>
            <a:stCxn id="604" idx="1"/>
            <a:endCxn id="595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6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1-10-05T11:15:40Z</dcterms:modified>
  <cp:revision>321</cp:revision>
  <dc:subject/>
  <dc:title>No Slide Title</dc:title>
</cp:coreProperties>
</file>