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5.jpeg" ContentType="image/jpeg"/>
  <Override PartName="/ppt/media/image2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5.wmf" ContentType="image/x-wmf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46888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847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384660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Img"/>
          </p:nvPr>
        </p:nvSpPr>
        <p:spPr>
          <a:xfrm>
            <a:off x="93456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ftr" idx="5"/>
          </p:nvPr>
        </p:nvSpPr>
        <p:spPr>
          <a:xfrm>
            <a:off x="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 type="sldNum" idx="6"/>
          </p:nvPr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42970-1717-45EC-B8AB-A0182B61C3CB}" type="slidenum">
              <a:rPr b="0" lang="en-US" sz="1200" spc="-1" strike="noStrike">
                <a:solidFill>
                  <a:srgbClr val="000000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E8EB5-C085-4EC6-AB37-591A9AE64DB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1860F-2D12-4B62-A880-0FF68773C4D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1B00C-E2BD-478E-A6CA-AB115C3A56F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525FD-A5EC-4DDA-8FF5-399D520E052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004B9-2519-4675-848D-5EDCA7C79D7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6B063-70F1-43C4-A565-1155BB19D2A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C6260-6367-4457-850F-F49FA47FD66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E759F-AB42-4B87-BD0F-7F8C834F269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30A47-1613-407F-AFA7-51C90DC46B8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12B5B-D7C1-4031-8688-36D2F9F0FF7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D1591-95FF-44D3-BE20-59AE7FB285D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BA5EB-6EBB-42DC-AFF7-5627FCC6B36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33C6F-A657-4C8F-8194-D57B79839B2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DDE86-11C8-4E83-BD41-657977120BB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4DD2B-BEE1-4725-B5BA-4CE41E5A73F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3FDA2-7A61-40E7-8B7F-F85AD5CE759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E89E8-659A-4FA9-B5B2-BB8A6D86BC0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077C3-522A-4A1B-B148-68B9274F196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72DCD-AB1E-478C-8BC5-AB736B785C2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A7278-3733-4786-A4E5-5F4075BA1A5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AFEDE-DB0C-4FC8-9A47-B7C26295B87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BE883-6DE6-4265-AAE7-2FD9C1E1370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590B3-2339-4404-B001-BDE65E1E0AB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C8AE8-E086-44A9-B970-72F4D16D0F3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188FF-AEB8-4533-B375-5C54A7858BB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F1E98-E59F-495D-906C-AB4D3CA6707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00C23-7FA4-47AE-8917-CD18591F8B0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03D86-2077-48AD-83E2-1B3F9E29FAF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6E4D1-1C19-4272-B0B8-984DA7A6AFB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4A342-9882-4A9C-8D88-1F04474E688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ACD10-435F-490A-A00F-5221D841A61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D4F83-40C6-490D-A72D-CCDFB521888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6CCB7-F136-4C29-8B84-B3F5A4B2630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5D23-DF59-4A9F-8128-00F13BDD839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612DF-1D79-493D-B96F-50B089F063D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C5E64-ADB1-4651-AC3F-54A61D9C296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75ED0-DA54-4D19-A72A-C1FD164CBCD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AF544-3A1E-464F-9279-5708B756C21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EEBE8-79FA-40A6-9585-C01501C058F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41DE7-AF2E-43BA-A517-A6FB588D1F5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444C7-A0F9-44E3-BB69-18B57E2D638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6A6A1-890A-41FA-87B5-687ADF07AEE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5EB76-91B0-4A73-B667-C99F7CD6EB0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458E0-B031-46C3-AFCC-DF5405FBD8C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5676D-A5B5-4712-A422-0088FE09D1E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AA288-A7AA-4E71-ACFD-F41DAD6E591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10583-2D66-49B8-952D-9127BC5669C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E2381-B57F-46B0-AE9D-A60393396B2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75631-1EA6-447A-9A9A-CC4FAC2D7D6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695FA-6372-4D1A-8CB3-C1DCA756C30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ACAA3-8E4D-4496-9314-F9ABE5223EA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1F3D0-539B-49EE-B914-ADC50B5C37C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4A15-3E57-42AB-AFA5-BFC274D54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50E2-87B6-4C65-A8FD-EC22F80B1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8946-5651-4386-985F-8EB478E95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02AA-A9E9-4EF6-BC96-A79302C5C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EFE4-E0DA-47A8-82D8-0ECAF3F37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6939-BFAD-4F65-9F50-F341CBAB0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2A36-ED17-4CB7-9EFE-B2216DC56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B56F-1F65-4B64-8DF9-0C0E61257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147D-3E3D-47F6-835F-1322D8755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5694-577C-4045-9187-158C99CF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251C-1F13-4E0E-BBF2-0F61A0F2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9296-126E-4890-93FF-F6CAE2BF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F1A35-164E-46D2-880F-D0602C707DD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lbertus Medium"/>
            </a:endParaRPr>
          </a:p>
        </p:txBody>
      </p:sp>
      <p:pic>
        <p:nvPicPr>
          <p:cNvPr id="5" name="Picture 7" descr="MRC-logo"/>
          <p:cNvPicPr/>
          <p:nvPr/>
        </p:nvPicPr>
        <p:blipFill>
          <a:blip r:embed="rId2"/>
          <a:stretch/>
        </p:blipFill>
        <p:spPr>
          <a:xfrm>
            <a:off x="7238880" y="6400800"/>
            <a:ext cx="1078200" cy="317520"/>
          </a:xfrm>
          <a:prstGeom prst="rect">
            <a:avLst/>
          </a:prstGeom>
          <a:ln w="0">
            <a:noFill/>
          </a:ln>
        </p:spPr>
      </p:pic>
      <p:sp>
        <p:nvSpPr>
          <p:cNvPr id="6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SpssBonferroni" TargetMode="Externa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54A24-AC96-48B9-8028-30B6FB7D008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380880" y="2286000"/>
            <a:ext cx="830592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0099cc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StatsCourse2011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9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0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B204C-6AA1-4F18-9C40-9A0FE68FC83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22" name="Object 4"/>
          <p:cNvGraphicFramePr/>
          <p:nvPr/>
        </p:nvGraphicFramePr>
        <p:xfrm>
          <a:off x="1752480" y="1981080"/>
          <a:ext cx="547380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81080"/>
                    <a:ext cx="547380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Text Box 5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4ABC6-F957-4414-80D0-184CBE66830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28" name="Object 1029"/>
          <p:cNvGraphicFramePr/>
          <p:nvPr/>
        </p:nvGraphicFramePr>
        <p:xfrm>
          <a:off x="1905120" y="1981080"/>
          <a:ext cx="54734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981080"/>
                    <a:ext cx="54734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 of the Differenc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1" name="Text Box 1028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357CB-7CDF-4371-BB74-1A76A6C5E65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5" name="Object 1029"/>
          <p:cNvGraphicFramePr/>
          <p:nvPr/>
        </p:nvGraphicFramePr>
        <p:xfrm>
          <a:off x="2057400" y="2057400"/>
          <a:ext cx="55436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057400"/>
                    <a:ext cx="55436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95% Confidence Intevals of Differenc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" name="Text Box 1028"/>
          <p:cNvSpPr/>
          <p:nvPr/>
        </p:nvSpPr>
        <p:spPr>
          <a:xfrm>
            <a:off x="2286000" y="21337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eans +/- 95% CI for Differences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1D6E7-3F29-4968-BF13-072C90FACB4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Multiple 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t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-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4248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289E1-25FA-4BF3-A389-B9EB314C0BA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9" name="Picture 5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6546600" cy="3895560"/>
          </a:xfrm>
          <a:prstGeom prst="rect">
            <a:avLst/>
          </a:prstGeom>
          <a:ln w="0">
            <a:noFill/>
          </a:ln>
        </p:spPr>
      </p:pic>
      <p:sp>
        <p:nvSpPr>
          <p:cNvPr id="150" name="Line 6"/>
          <p:cNvSpPr/>
          <p:nvPr/>
        </p:nvSpPr>
        <p:spPr>
          <a:xfrm flipH="1" flipV="1">
            <a:off x="6019920" y="5715000"/>
            <a:ext cx="1218960" cy="7632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7292880" y="5562720"/>
            <a:ext cx="11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6826320" y="2819520"/>
            <a:ext cx="1789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&gt;L,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&gt;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all p&lt;.05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AutoShape 9"/>
          <p:cNvSpPr/>
          <p:nvPr/>
        </p:nvSpPr>
        <p:spPr>
          <a:xfrm>
            <a:off x="914400" y="5562720"/>
            <a:ext cx="4989600" cy="152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6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63C34-E686-4DA4-AB5D-4589E4A5F39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problem with doing several null-hypothesis 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test is watching out for a rare event with prevalence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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[Type I Error Rate]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more tests you do the more likely you are to observe a rare eve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f there are N tests of Size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then the expected number of Type I Errors is N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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we can expect 5/100 tests will reject their Null Hypotheses ‘by chance’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is phenomenon is known as Error Rate Infl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7B524-E2F6-4DBC-B5D7-F2670F8D55D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ple Comparisons:</a:t>
            </a:r>
            <a:r>
              <a:rPr b="0" lang="en-GB" sz="2000" spc="-1" strike="noStrike">
                <a:solidFill>
                  <a:srgbClr val="515f7b"/>
                </a:solidFill>
                <a:latin typeface="Albertus Medium"/>
              </a:rPr>
              <a:t> Watch your Error Rate!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Various ways of thinking about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Relating to Post-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vs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Hypotheses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ison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a pair of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two or more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7" dur="1" fill="hold"/>
                                  <p:tgtEl>
                                    <p:spTgt spid="16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08" dur="1" fill="hold"/>
                                  <p:tgtEl>
                                    <p:spTgt spid="16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5CC82-D235-4237-B03F-6823F0E801A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	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ype I Error Rat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Per Compari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PC) error rate (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 Type I Error on a single Compari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Family-wise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FW)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t least one Type I error in a family (or set) of comparisons (also known as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xperiment-wis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error rat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C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W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-(1-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US" sz="1800" spc="-1" strike="noStrike" baseline="5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re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is the number of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2" dur="1" fill="hold"/>
                                  <p:tgtEl>
                                    <p:spTgt spid="16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A5689-B496-4FB2-A9F2-9A11FE81CD3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Problem of Multiple Comparison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A numerical example of Error Rate infl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Suppose C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 significant tests with size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uppose all the null hypotheses are tr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probability (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*) of at least one significant result (Type I error) is bigge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1-(1-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i="1" lang="en-GB" sz="2000" spc="-1" strike="noStrike" baseline="3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lnSpc>
                <a:spcPct val="100000"/>
              </a:lnSpc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0.05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6 (Say, comparable to all contrasts between 4 condi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0.26 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o the Familywise Error Rate is 26%, though each individual test has Error Rate 5%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at is to be don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2" dur="1" fill="hold"/>
                                  <p:tgtEl>
                                    <p:spTgt spid="17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6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0374D-A3D0-4F39-A257-E7FA5FA2CAA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arious Approach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777240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thogonal Contrasts or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nned Comparisons vs. Post Hoc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0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876E3-AEB5-45C4-9DAF-D263DD7CCC8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7: Post-hoc tests, Multiple comparisons, Contrasts and handling Interac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609480" y="373392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What to do following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1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C3B26-546D-4994-9426-4528041CDF0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rthogonal Contrasts/Comparis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ypothesis drive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sually accepted that nominal significance can be followed (i.e. no need for adjustment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ationale: we are really interested in each comparison/contrast on its own merits. We have no wish to make pronouncements at the Family-wise level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6" dur="1" fill="hold"/>
                                  <p:tgtEl>
                                    <p:spTgt spid="18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6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BE932-23DE-4E7E-B5EB-07D796ECA3C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(= Planned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 there is a rationale which identifies a small number of (sub)-hypotheses which led to the formulation and design of the experim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correspond to </a:t>
            </a: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Planned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or </a:t>
            </a:r>
            <a:r>
              <a:rPr b="0" i="1" lang="en-GB" sz="2800" spc="-1" strike="noStrike">
                <a:solidFill>
                  <a:srgbClr val="0099cc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o long as there is no overlap (non-orthogonality) between th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5" dur="1" fill="hold"/>
                                  <p:tgtEl>
                                    <p:spTgt spid="18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2F4E7-5E9F-4C4E-A5F6-3472B2561ED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t Planned (no hypothesis)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so known as </a:t>
            </a:r>
            <a:r>
              <a:rPr b="0" i="1" lang="en-GB" sz="2400" spc="-1" strike="noStrike">
                <a:solidFill>
                  <a:srgbClr val="0099cc"/>
                </a:solidFill>
                <a:latin typeface="Albertus Medium"/>
              </a:rPr>
              <a:t>a posteriori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.g. Compare all pairs of mea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4" dur="1" fill="hold"/>
                                  <p:tgtEl>
                                    <p:spTgt spid="19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6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D24DD-4CC7-4D11-ACFC-46302D6952A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lanned Comparisons or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ic Idea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e variability explained by the Model is due to subjects being assigned to different groups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is variability can be broken down further to test specific hypotheses about ways in which groups might differ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break down the variance according to hypotheses made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 prior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efore the experiment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8" dur="1" fill="hold"/>
                                  <p:tgtEl>
                                    <p:spTgt spid="19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1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2C8A2-FA62-4D66-BD06-D91E5E3C75B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Rules When Choosing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: contrasts must not interfere with each other (they must test unique hypothese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approach compares one chunk of groups with another chun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t most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K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1: You should always end up with one less contrast than the number of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7" dur="1" fill="hold"/>
                                  <p:tgtEl>
                                    <p:spTgt spid="2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6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61527-3A15-4C70-86B8-6607F62F443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 to choose Contra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many experiments we have one or more control group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logic of control groups dictates that we expect them to be different from some of the groups that we’ve manipula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first contrast will often be to compare any control groups (chunk 1) with any experimental conditions (chunk 2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6" dur="1" fill="hold"/>
                                  <p:tgtEl>
                                    <p:spTgt spid="2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7A8B2-2581-49E1-B6D4-0FA9F14E9FC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 1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Between subject experimen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vs. Experimen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- (Semantic+Lexical+Phobic)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(1,-1/3,-1/3,-1/3) or (3,-1,-1,-1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14" name="Picture 5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4000680" cy="22384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"/>
          <p:cNvPicPr/>
          <p:nvPr/>
        </p:nvPicPr>
        <p:blipFill>
          <a:blip r:embed="rId2"/>
          <a:stretch/>
        </p:blipFill>
        <p:spPr>
          <a:xfrm>
            <a:off x="4800600" y="3886200"/>
            <a:ext cx="31338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8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D73F6-D51F-412A-974B-103EC7BDDFF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2 and 3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hobic versus Non-phobic priming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Semantic+Lexical)/2 - 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1,-2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mantic vs Lexic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 - 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-1,0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Slide Number Placeholder 4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4EDD4-CAE3-40F1-BDA7-5A69D6265B4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ne-way ANOVA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4854600" cy="14176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"/>
          <p:cNvPicPr/>
          <p:nvPr/>
        </p:nvPicPr>
        <p:blipFill>
          <a:blip r:embed="rId2"/>
          <a:stretch/>
        </p:blipFill>
        <p:spPr>
          <a:xfrm>
            <a:off x="1143000" y="4648320"/>
            <a:ext cx="6894360" cy="178272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7"/>
          <p:cNvSpPr/>
          <p:nvPr/>
        </p:nvSpPr>
        <p:spPr>
          <a:xfrm>
            <a:off x="6879600" y="3657600"/>
            <a:ext cx="170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 &gt; ave(S,L,P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ave(S,L)&gt;P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P,L do not diff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763640" y="3573360"/>
          <a:ext cx="3429000" cy="86688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</a:tblGrid>
              <a:tr h="173160">
                <a:tc rowSpan="2"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ntrast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iming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emant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exica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hob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29" name="Rectangle 10"/>
          <p:cNvSpPr/>
          <p:nvPr/>
        </p:nvSpPr>
        <p:spPr>
          <a:xfrm>
            <a:off x="3304800" y="44280"/>
            <a:ext cx="25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Contrast Coefficients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D42FE-EA58-4029-9859-1E1EBE30F10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GLM Univariate synta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2696400" y="1981080"/>
            <a:ext cx="47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We get the syntax by pressing the ‘Paste’ button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35" name="Picture 10" descr=""/>
          <p:cNvPicPr/>
          <p:nvPr/>
        </p:nvPicPr>
        <p:blipFill>
          <a:blip r:embed="rId1"/>
          <a:stretch/>
        </p:blipFill>
        <p:spPr>
          <a:xfrm>
            <a:off x="1476360" y="2637000"/>
            <a:ext cx="6877080" cy="28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9E728-3845-4A65-B26D-03A62AAEF8A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ims and Objectiv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y do we use follow-up tests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ifferent ways to follow up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vs. Post Hoc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s and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hoosing and Coding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6" dur="1" fill="hold"/>
                                  <p:tgtEl>
                                    <p:spTgt spid="7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8" name="Slide Number Placeholder 4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C5FB1-9031-40D4-A430-8002E4CC43E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utput from contrast analysi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0" name="Text Box 1029"/>
          <p:cNvSpPr/>
          <p:nvPr/>
        </p:nvSpPr>
        <p:spPr>
          <a:xfrm>
            <a:off x="6400800" y="198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Text Box 1030"/>
          <p:cNvSpPr/>
          <p:nvPr/>
        </p:nvSpPr>
        <p:spPr>
          <a:xfrm>
            <a:off x="6248520" y="2013120"/>
            <a:ext cx="230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the world’s most user-friendly outpu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42" name="Picture 9" descr=""/>
          <p:cNvPicPr/>
          <p:nvPr/>
        </p:nvPicPr>
        <p:blipFill>
          <a:blip r:embed="rId1"/>
          <a:stretch/>
        </p:blipFill>
        <p:spPr>
          <a:xfrm>
            <a:off x="1619280" y="1544760"/>
            <a:ext cx="360036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FF62-AB75-4BEA-A516-1F9176BD998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Rules for Coding Planned Contrast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1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oups coded with positive weights will be compared to groups coded with negative weigh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sum of weights for a contrast must be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not involved in a contrast, assign it a weight of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88" dur="1" fill="hold"/>
                                  <p:tgtEl>
                                    <p:spTgt spid="24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C3462-432F-44B1-A8BC-5DEFE1BE1DD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ore Rules …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4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a given contrast, the weights assigned to the group(s) in one chunk of variation should be equal to the number of groups in the opposite chunk of vari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singled out in a comparison, then that group should not be used in any subsequent contras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12" dur="1" fill="hold"/>
                                  <p:tgtEl>
                                    <p:spTgt spid="25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5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07D7A-C451-43F6-A672-9B05387BDCA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artitioning the Varianc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57" name="Object 0"/>
          <p:cNvGraphicFramePr/>
          <p:nvPr/>
        </p:nvGraphicFramePr>
        <p:xfrm>
          <a:off x="1631880" y="2317680"/>
          <a:ext cx="5878440" cy="19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1880" y="2317680"/>
                    <a:ext cx="587844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Text Box 5"/>
          <p:cNvSpPr/>
          <p:nvPr/>
        </p:nvSpPr>
        <p:spPr>
          <a:xfrm>
            <a:off x="1504800" y="4572000"/>
            <a:ext cx="624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38.90 = 20.83 + 14.02 + 4.05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This additivity is a consequence of insisting on orthogonal contras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CCA25-B595-4F04-81C5-96AE05ACE8A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ly particular ‘off-the-shelf’ sets of contrasts are provided via the menu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can generate bespoke contrasts by using ‘Special’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via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synta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Deviation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average of preced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-2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1,-3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310ED-8E1E-4D2C-B2DD-D2E5EC18E2D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Simple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either the first or the la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-1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1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E6207-B950-4F9F-8421-9924E99F8F1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Helmert’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and 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Repeated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level with mean of previous or subsequent lev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1,-1,0, 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2,-1,-1,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2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  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664DF-B723-4EB4-AA96-AF2FC476213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V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lynomial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ivide up effects into Linear, Quadratic, Cubic …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ropriate when considering a </a:t>
            </a:r>
            <a:r>
              <a:rPr b="0" lang="en-GB" sz="2400" spc="-1" strike="noStrike">
                <a:solidFill>
                  <a:srgbClr val="0099cc"/>
                </a:solidFill>
                <a:latin typeface="Albertus Medium"/>
              </a:rPr>
              <a:t>Trend Analysis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over time or some other covariate facto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76DF3-E121-4158-AA6C-AB60319E9EC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Non-orthogonal </a:t>
            </a:r>
            <a:r>
              <a:rPr b="0" i="1" lang="en-GB" sz="28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 contrast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o correct or not to correc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, if the number of planned comparisons is small (up to K-1), Bonferroni type corrections are not appli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460B3-B20D-4B58-B168-0D3B6519B9E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mean against all othe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 general terms they use a stricter criterion to accept an effect a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ence, control th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Familywis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error rat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example is the Bonferroni method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divide the desired Familywise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 by the number of comparisons c and us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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c as the Bonferroni Corrected Per Comparison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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2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=1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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3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3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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4 mean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6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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DDAC-1C27-4B68-9B61-EDF53A541D0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132000" y="4458960"/>
            <a:ext cx="50976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desig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Grouping Factor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Priming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ependent variable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umber correc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83" name="Object 5"/>
          <p:cNvGraphicFramePr/>
          <p:nvPr/>
        </p:nvGraphicFramePr>
        <p:xfrm>
          <a:off x="1143000" y="2133720"/>
          <a:ext cx="5429160" cy="198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133720"/>
                    <a:ext cx="5429160" cy="19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721B3-B221-47AB-A7B6-C5B58940D2F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Test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at to includ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experimental treatments vs. a control treatm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pairwis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all need different handling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7B639-7913-4CFC-B3F2-39B12854E41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imple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Least Significant Difference: L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protect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protected 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ly proceed if the omnibus F test i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s familywise error rate, but may miss out needles in the haystack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5082E-D0D4-44D9-8DEB-D9A71C2E981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The significance of the overall F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 overall significant F test is not a pre-requisite for doing planned comparis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re still remains a considerable amount of confusion arising from earlier statements to the contrar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least in the minds of some review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79263-B863-4A1A-88B1-7B3B395748D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onferroni formula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6437160" cy="41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eking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familywise of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Bonferroni t or Dunn's tes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onferroni corre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servativ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unn-Sida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1-(1-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400" spc="-1" strike="noStrike" baseline="30000">
                <a:solidFill>
                  <a:srgbClr val="8f210b"/>
                </a:solidFill>
                <a:latin typeface="Albertus Medium"/>
              </a:rPr>
              <a:t>1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mproved (exact, less conservative) Bonferroni correction which usually makes very little differe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0" name="Text Box 6"/>
          <p:cNvSpPr/>
          <p:nvPr/>
        </p:nvSpPr>
        <p:spPr>
          <a:xfrm>
            <a:off x="5943600" y="3733920"/>
            <a:ext cx="30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E.g. to achieve FWER of 0.05 with all 6 possible comparisons of 4 means use 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*=0.05/6=0.0083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6095880" y="58672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*=1-(1-0.05)^(1/6)=0.0085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4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00C2F-4F45-4E55-9EC6-23BAB4ABC17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r controlling family-wise error rate with a set of comparisons less than all pairwis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artitions target family-wis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in different ways amongst th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9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5F1A3-6633-4976-8BE9-B3FFFA5779B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Holm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www.sagebrushpress.com/PEPI.htm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(adjustp.exe); also in 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rzelere and Mulaik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be applied to subsets of correlation from a correlation matrix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pv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41788-D4B7-450B-A431-0FD86716E54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Limitations of Bonferroni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se procedures are based on ‘worst case’ assumption that all the tests are independ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63230-1D7C-4744-94AC-FA3BE3E140F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ware SPSS’s ‘Bonferroni adjusted’ P val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Courier New"/>
                <a:hlinkClick r:id="rId1"/>
              </a:rPr>
              <a:t>http://imaging.mrc-cbu.cam.ac.uk/statswiki/FAQ/SpssBonferron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f210b"/>
                </a:solidFill>
                <a:latin typeface="Albertus Medium"/>
              </a:rPr>
              <a:t>The probl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PSS has sought to preserve the ‘Look at the P Value to find out if the Test indicates the Null Hypothesis should be rejected’ routin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o SPSS quotes artificial ‘Bonferroni Adjusted P Values’ rather than advising of the appropriate Bonferroni Corrected </a:t>
            </a:r>
            <a:r>
              <a:rPr b="1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Can end up with oddities like P=1!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(if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&gt;1 then SPSS Bonferroni Adjusted P is set to 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2B21C-52CF-4931-9C02-00523D7C7C3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to do about SPSS and Bonferroni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void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ith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LSD (ie pairwise t tests regardless of significant F)  and work out the Bonferroni corrected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ourself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Sidak adjusted P’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01CBB-9C7D-4844-AF72-A25897700EA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0" name="Picture 1026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4190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7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981DF-3316-4F34-BA06-F3091B73120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95720" y="3257640"/>
            <a:ext cx="3810240" cy="17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NOVA: F(3,36)=6.06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P=0.002**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cc"/>
                </a:solidFill>
                <a:latin typeface="Albertus Medium"/>
              </a:rPr>
              <a:t>So what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983120" cy="215748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6"/>
          <p:cNvSpPr/>
          <p:nvPr/>
        </p:nvSpPr>
        <p:spPr>
          <a:xfrm>
            <a:off x="396720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461952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AutoShape 8"/>
          <p:cNvSpPr/>
          <p:nvPr/>
        </p:nvSpPr>
        <p:spPr>
          <a:xfrm>
            <a:off x="2486160" y="335772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" name="AutoShape 9"/>
          <p:cNvSpPr/>
          <p:nvPr/>
        </p:nvSpPr>
        <p:spPr>
          <a:xfrm>
            <a:off x="2481120" y="351000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1368000" y="1600200"/>
            <a:ext cx="29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EBD80-411A-4318-8E58-603FCECD4C2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4" name="Picture 2" descr=""/>
          <p:cNvPicPr/>
          <p:nvPr/>
        </p:nvPicPr>
        <p:blipFill>
          <a:blip r:embed="rId1"/>
          <a:stretch/>
        </p:blipFill>
        <p:spPr>
          <a:xfrm>
            <a:off x="2286000" y="325440"/>
            <a:ext cx="490860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60F04-07D7-4922-B172-37B1A6D8070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tudentized Range Statistic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ed on dependence of the ‘range’ of a set of means on the number of means that are being consider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Expect a wider range with a larger number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ables of Q(r, k, 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r = number of means current rang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k = number of means overall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f = degrees of freedom in mean square error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196B8-DCC2-4A57-A7D3-997A4325027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wman-Keuls Procedur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Critical differenc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is a function of r and k (and the degrees of freedom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ong tradition but some recent controvers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 'layered' test which adjusts the critical distance as a function of the number of means in the range being considered at each stag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nominal family-wise error rat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y not actually be achiev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0F339-E401-4ED0-ADAE-C7FF22F8585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ritical distance proced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ukey's Test: H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onestly Significant Differenc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like Newman-Keuls, only uses the largest (outmost) critical distance throughou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's Procedure: REGW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 k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/r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inot and Gabriel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1-(1-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r/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B8E78-0B2A-4167-886E-02AC94647E4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cheffé's 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ll possibl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ost conserv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E2EB1-4BE7-4A84-A3A3-3E36647800F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Options in SPS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PSS has 18 types of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st Hoc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Test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0" name="Picture 4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4191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0A800-24BF-47EC-A596-9688C2610EE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Recommenda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00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ssumptions met &amp; large number of comparisons: REGWQ or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 HSD;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also type ‘mc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Ramsey &amp; Ramsey (2008) suggest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-Kramer HSD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as Tukey HSD analogue for unequal group sizes). Can also type ‘mcneq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afe Option &amp; few comparisons: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Bonferron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ut note the problem with SPSS’s approach to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djusted P values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Sample Sizes: Gabriel’s (small), Hochberg’s GT2 (large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Variances: </a:t>
            </a:r>
            <a:r>
              <a:rPr b="0" lang="en-GB" sz="2000" spc="-1" strike="noStrike">
                <a:solidFill>
                  <a:srgbClr val="00b0f0"/>
                </a:solidFill>
                <a:latin typeface="Albertus Medium"/>
              </a:rPr>
              <a:t>Games-Howell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spreadsheet programmes available for tests in blue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A9FAF-1592-427E-8C80-93CD05AF857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ontrol of 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alternative to controlling FW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DR is the expected proportion of false rejections among the rejected null hypothes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we have rejected a set of R null hypotheses, and V of these are wrongly rejected, then the FDR= V/R (FDR=0 if R=0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will know R but don’t know V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ood power – See Lix and Sajobi (2010) Psychological Methods who look at a related procedure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DB8BE-820B-45FB-A0B0-8D081D71BA7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 alternative approach to the trade-off between Type I and Type II err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og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20720" indent="-27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 type I error becomes less serious the more the number of genuine effects there are in the family of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w being used in imaging and ERP stud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e </a:t>
            </a:r>
            <a:r>
              <a:rPr b="0" lang="en-US" sz="2800" spc="-1" strike="noStrike">
                <a:solidFill>
                  <a:srgbClr val="f32705"/>
                </a:solidFill>
                <a:latin typeface="Albertus Medium"/>
              </a:rPr>
              <a:t>http://imaging.mrc-cbu.cam.ac.uk/statswiki/FAQ/FD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or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PSS 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d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crip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8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6C630-9530-4282-B77A-B29341D0B51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DR Exampl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ppose we do 10 t-tests and observe their P values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21, 0.001, 0.017, 0.041, 0.005, 0.036, 0.042, 0.023, 0.07, 0.1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ort P values in ascending ord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1, 0.005, 0.017, 0.021,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1, 0.042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Compare with 10 the prototypical P-values scaled to 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namely (1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2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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10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5 0.010 0.015 0.020 0.025 0.030 0.035 0.040 0.045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Get the differences: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-0.004 -0.005  0.002  0.001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-0.002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 0.006  0.006  0.002  0.025 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largest observed P-value which is smaller than its corresponding prototype (last negative) is 0.02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17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41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5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2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five underlined tests for which P&lt;0.023 are declared significant with FDR </a:t>
            </a:r>
            <a:r>
              <a:rPr b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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FB0D2-4C31-43B9-B44D-171DCD7CD3A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hy Use Follow-Up Te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032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F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ratio tells us only that the experiment had a positive outco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.e. group means were differ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8f210b"/>
                </a:solidFill>
                <a:uFillTx/>
                <a:latin typeface="Albertus Medium"/>
              </a:rPr>
              <a:t>or, more precisely, are not all equ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t does not tell us specifically which group mean differ from whi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e need additional tests to find out where the group differences li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3" dur="1" fill="hold"/>
                                  <p:tgtEl>
                                    <p:spTgt spid="10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3A6AD-D20B-4DA1-BE63-6486169FBB9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Unpacking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onents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oing sub-ANOVA or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.g. if factors A and B interact, then look at 2 by 2 ANOVA for a pair of levels of A combined with a pair of levels of 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imple Main Effec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y doing sub-ANOVAs followed up by multipl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not use reverse argument to claim presence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use EMMEANS/COMPARE in SPS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 caveat on higher order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tevens J (1999) Intermediate statistics: a modern approach. P.182 recommends using a Sidak corrected alpha for unpacking unplanned higher order interaction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number of comparisons increases with the order of interaction. May be so many possible comparisons that post-hoc testing becomes infeasibl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0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9D495-7357-4822-9F55-9BD97442A32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3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513CC-98B0-4D62-8D45-248100673FF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roblems of ‘sphericity’ re-emerg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eed for hand-calculations as SPSS has an attitude problem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TukeyKram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8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BBAEB-C6CC-4FB5-A4E1-05439A511F6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lculate new variables from within-subject contrasts and analyse them separatel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xtends the idea of doing lots of paired t-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SPSS can be done by MMATRIX option in GLM using Syntax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Slide Number Placeholder 4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33D58-7F7B-4DB0-8A6D-54474C30C52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15" name="Picture 4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1434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8" name="Slide Number Placeholder 4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63C77-20B7-487F-AB96-5964D33FF66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20" name="Picture 5" descr=""/>
          <p:cNvPicPr/>
          <p:nvPr/>
        </p:nvPicPr>
        <p:blipFill>
          <a:blip r:embed="rId1"/>
          <a:stretch/>
        </p:blipFill>
        <p:spPr>
          <a:xfrm>
            <a:off x="433440" y="2017800"/>
            <a:ext cx="6043680" cy="24778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6" descr=""/>
          <p:cNvPicPr/>
          <p:nvPr/>
        </p:nvPicPr>
        <p:blipFill>
          <a:blip r:embed="rId2"/>
          <a:stretch/>
        </p:blipFill>
        <p:spPr>
          <a:xfrm>
            <a:off x="3117960" y="4572000"/>
            <a:ext cx="579744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4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419D8-56E2-41C9-BF78-DF8C854F8E2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xt week Thursday 1st December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544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Power Analysi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ndy Field: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http://www.cogs.sussex.ac.uk/users/andyf/teaching/statistics.htm 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7" name="Picture 5" descr="coversmall"/>
          <p:cNvPicPr/>
          <p:nvPr/>
        </p:nvPicPr>
        <p:blipFill>
          <a:blip r:embed="rId1"/>
          <a:stretch/>
        </p:blipFill>
        <p:spPr>
          <a:xfrm>
            <a:off x="6248520" y="3657600"/>
            <a:ext cx="137160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B22BA-DF4B-4888-AE60-E147C624D51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 full toolki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: Standard Errors of Differenc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: Multipl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t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: Orthogonal Contrasts/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: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Post 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: Trend Analysi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: Unpack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2" dur="1" fill="hold"/>
                                  <p:tgtEl>
                                    <p:spTgt spid="10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58C4A-6A32-40B2-BF95-CC20342F167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A: Standard Errors are the basic Yardstick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0" name="Object 3"/>
          <p:cNvGraphicFramePr/>
          <p:nvPr/>
        </p:nvGraphicFramePr>
        <p:xfrm>
          <a:off x="152280" y="2019240"/>
          <a:ext cx="380844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019240"/>
                    <a:ext cx="380844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Rectangle 6"/>
          <p:cNvSpPr/>
          <p:nvPr/>
        </p:nvSpPr>
        <p:spPr>
          <a:xfrm>
            <a:off x="3581280" y="2057400"/>
            <a:ext cx="529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ANOVA with a constant number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of subjects per cell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Mean (SEM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M  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= SE / </a:t>
            </a:r>
            <a:r>
              <a:rPr b="0" i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 n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(MS(Error)/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n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EM =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(2.139/10)=0.46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N.B. we are using the same SEM for all mean based on (pooled) error term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Difference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D 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SEM =0.6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E.g. Semantic-Phobic=6-5.1=0.9=1.38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ED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Albertus Medium"/>
              </a:rPr>
              <a:t>Unlikely to be significant 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BE12C-02D8-4533-AA77-796DB5DE1C7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Standard Errors from SP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7" name="Picture 1029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5703840" cy="21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6-12-06T15:25:19Z</cp:lastPrinted>
  <dcterms:modified xsi:type="dcterms:W3CDTF">2011-10-20T13:13:56Z</dcterms:modified>
  <cp:revision>82</cp:revision>
  <dc:subject/>
  <dc:title>Aims and Objectives</dc:title>
</cp:coreProperties>
</file>