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A0C6-A42C-4DF2-88EA-EC57A5FA2502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6F45-CAD3-4250-8985-3634010D7CD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9A68-93F6-4082-B723-C0D9A45E8FD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4F00-B21C-45A3-B09B-50D63F12E2C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DA95-733B-429A-BC06-FDD5430B6D5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092C-C93E-4376-A3CB-4668717454D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1E24-B2F2-481D-BEAB-9E4A7AA9EDD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0B15-A685-4F9E-A072-A1F00DF0134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C5BD-EB9D-45DD-BCD1-408F44253AE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9564-580E-4F7B-98C8-EF67C3227E5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D2E8-7DE1-4B3F-AD0B-F276502E66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EF08-D90B-4902-B5BB-F9C82E050A5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5896-D741-4B1B-9371-149BF4BADA1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4728-534A-4B15-BE4C-AD0553FDA4B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8F60-19EB-4F2D-A457-F0AF17CB997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86EE-F906-4D76-905A-3457DB05BF6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11CA-30F5-42DD-AF70-3410A8C9DBF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8454-BD3A-4EB0-BC0E-1CD324EC14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7916-B769-44C8-B3AD-DD05F13EA5D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6C89-19C2-4363-B67A-236DB1CA60D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984B-5BC2-4215-B3A0-FCFC3CCE2D0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3940-665D-4B8C-9005-73CB7AED07A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B8A9-5E92-4627-97BA-26A90D73A8D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B488-CD32-4B47-9335-1871B564CA9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C83F-FA9A-405B-BF9C-530DD494177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6DFC-F422-4EED-BDF2-A3677D5E11C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D8F5-F349-448E-90F2-714FD527DFE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7CDF-FEA8-4C65-A9F7-9DF2FAC20FC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72F9-E51A-4894-AC78-4B4F4A3C21D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EBE4-9BE5-4D52-8012-0E408AE2AD1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FFBB-966C-4766-B839-2D71A14D88D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1C67-9B68-4103-8292-B3362972376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1452-57FD-4EBE-A545-899A1AC00DF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9459-B00F-47B9-BE42-6EE8E59240E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BA94-07AA-47D5-B18B-34181F8F398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C4B9-A118-40CA-A369-84EC6230279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E631-8FA8-46DF-B398-1CF71CE02B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EE72-BF3D-4F6B-ABAA-B1548380809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AFDB-143F-4DBC-B62F-29469A7F67F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629F-0DD7-42B9-9235-59068780AEC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B9AC-B75B-4FB0-ABD7-94B41A505D6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FDDB-DFE6-4338-876C-42E0E561AE3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B413-048E-4F48-A108-BD835FFE638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6FE8-F83D-4DA7-AACF-343DAA2F4EA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B707-F88A-4F13-894F-67A8B1CC20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D551-6C72-4C95-AA77-04A00241BC3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CEE5-0113-4FB7-8EE4-E437F7E0830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D4EC-3BA2-46A0-9DA4-45D23A6EC52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0020-6AD7-4E46-B585-941C3D53D57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1170-FEA6-486C-B270-9C32ECB5CBD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FD1C-F370-4900-9CA2-0906CF202BD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FDDF-EB87-428F-B505-BF3F7750760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751F-AB71-4AAE-822E-830E2EF30CA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B8D-499D-4152-A8E7-52CB5DB2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7A9-DAB6-4230-A395-9F182F62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B53-1BE1-4009-AD9B-33CFE5C7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2AE-196F-4D47-9DAB-0ADC4C69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9D23-505B-4905-9506-51FC8558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9124-04D9-48E2-9894-D6D31D82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528E-1E3D-4A35-98C5-05AB3E39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17D-2BFE-4D63-8901-99CD6F2A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982-FAEA-47C3-AEF7-A11B2B9D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493-D1D4-46D9-9537-F595D399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24E-0598-4FE4-8810-CF08A4EE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61D-2157-4659-8D61-BD0889E7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43BF-0EFA-46CC-8CD5-AF32ACACF62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7" descr="MRC-logo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5D31-1DEC-4EAA-88C9-4AB9A88AC0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1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45CB-CCA5-4470-A562-1D7B571ECF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C19C-74D1-40C7-89D2-954700A170C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8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0CA5-683A-49A5-BC47-361E2A3EC9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7B11-9692-4B9F-88A0-0D69FE8493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0394-DF84-4F5A-A5E7-C75422D27B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50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044D-01AA-40D6-B223-79C986A92E3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E992-801C-473C-9E8F-7602A1E77B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8" dur="1" fill="hold"/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55FA-D0FE-46A6-B7E5-F72D17D2921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6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C11D-9152-4D08-9E71-2F7381C171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7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E513-ABC7-4C4C-89D5-20163B4D327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1CFE-D11E-42FD-A83B-40635E87BDA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8D94-D46A-42CC-977D-6FF4B3A5B1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E7E2-783B-487B-8759-B52E44CF31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0DC6-5F58-4AC9-B9D1-21ACE9D3659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8069-A747-48B3-864C-7B72137AE1C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A298-657F-4C64-B0C8-C5F884DE9A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7907-0610-4B1F-8AC3-7191F892CD6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E2D2-0EA9-435A-99DA-18E15A0DEA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E037-9168-4A4A-A82C-831A317CC4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67ED-29C2-4449-A3DA-C17F6E89EF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9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1CF7-8753-451C-8297-32CFD75E2DB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5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075B-BBE1-4955-815A-BF03325A37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A315-569F-47DB-9316-7DA813D8B3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5F89-7D4D-47C9-8595-2D6692B38A4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8" dur="1" fill="hold"/>
                                  <p:tgtEl>
                                    <p:spTgt spid="2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F368-15DA-479E-8C5D-CC9995FB9E3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2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6220-9635-4205-8DB0-30D76F3058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768C-4D76-47A3-A0D4-9468EB6EE8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6DE7-F84D-48F4-927D-E697C0EC86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5F75-0622-49AC-8363-9B679534BF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1258-DE63-4243-9723-7EC38F6943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4761-A3BD-41CA-9D0C-43F36B7A806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0C1D-A321-4BF9-8254-812AF744BA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4A94-5F2D-47C2-9148-15D1FAFBFA1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2D0D-3159-4571-A919-B442846B0B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85B5-B4F2-436B-BDEB-55A273251B4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D2B9-A1B4-4F3C-B43F-54E1A32FB3D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30BC-E43E-4313-930F-9F3BDA6D112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FB1D-8686-45A3-96EA-8101B2CDF9D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4514-CD56-45FF-AC12-BC77BF26C0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1F96-B80D-4683-913F-BF6348C0D2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D4D1-89BC-465B-8009-78AE2A4B0E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65B4-8674-46E5-BB93-A27FB4B999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4CF3-220F-4BDE-985D-41123DA49D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0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6B66-936E-4F61-B481-2E0F43F4FF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97E0-42F6-4AE5-B759-2CBBC322A88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F4CC-62B0-4D9E-89CB-E4093B27C9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77F6-C33A-4575-B6A2-AC1BD6332E3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AA83-6558-4209-A298-83E9846AFC8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C0F3-6050-4D81-A77B-20FF507741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9350-D074-4532-84D4-D7B4C0A031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80A0-DE0B-4244-8C85-95A6D68AEE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DB0D-19BD-456D-A345-72CC3C677F4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F830-884D-4BDE-B4CE-3596152CC8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6780-0851-4373-9B1E-5C988DAE17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EC66-4FE9-483A-8765-C954BFB5E0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F366-8F57-4412-9CB4-BE595D1354D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B9FB-BB01-4113-9214-382B1CB465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AF5C-C175-4852-AD1F-10070D59693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2BBD-B9D4-4AC6-81F6-A82D8243AD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0E53-4C7D-4BA5-9813-0B28E85DFB8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237E-8A9D-4CA4-BA79-9B9F95D7712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A6BE-0B9B-4743-B3EC-B25CF5F74FA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1st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5" descr="coversmall"/>
          <p:cNvPicPr/>
          <p:nvPr/>
        </p:nvPicPr>
        <p:blipFill>
          <a:blip r:embed="rId1"/>
          <a:stretch/>
        </p:blipFill>
        <p:spPr>
          <a:xfrm>
            <a:off x="6248520" y="3657600"/>
            <a:ext cx="13716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EAF1-A876-4C81-AB4C-2DC0311B42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1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68B3-DCFA-47BD-9813-DBACF3E80B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DB2C-9CB3-46D2-A479-F665BB2B836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7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1-10-20T13:13:56Z</dcterms:modified>
  <cp:revision>82</cp:revision>
  <dc:subject/>
  <dc:title>Aims and Objectives</dc:title>
</cp:coreProperties>
</file>