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9ECC-336D-4015-8170-3B37603D8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6D31-443A-4993-B4AA-9735772D7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6F7B4-8257-42D2-919A-C1D485607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273A-3E14-4D82-A95F-A797D8092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D3970-D0D0-4B56-AFFC-688AD7BF08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E5A7B-7D08-47D0-BAF6-FE8BB05AEB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C6D41-C2DA-4237-8497-9911518B44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6587B-26E6-4A2E-8C9F-DB761410B4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15761-E642-4743-B1CE-8FFEBE91A8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C8F45-A597-4CF6-B20E-A360A3A212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78559-8416-40A6-BA30-1186B5F9F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47A0-568B-4525-9712-D71B4B887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32C25-EA1B-41EF-8A0E-7417912223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4BE7C-4922-4195-8E16-716267E4FB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87477-4A40-4CCC-9BB1-D897DA6F2C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2CAEF-3993-4129-82C6-0FCF733F92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BED95-8329-4CC4-AA5D-9EF4BADC3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EA81-03D9-43AD-88CA-A3EB6076A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EB9F-D391-493B-AECE-20360847C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A2F5-FAB3-499C-8B03-729B13ADD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EC03-B1B5-4F3F-8DBA-747A2C64C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93E8-A331-45EC-8059-EF4EA559E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6AD6-A2F1-45FC-B549-FFE225D6F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18BF-4DD4-4769-B35F-F0766B888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DE3245C-5AAF-4C81-8565-6DD26DF39A5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C8C204B-1C8F-4FF6-9632-43AD4725FF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F9EC36E-7F08-4E96-AA0D-B449E28943B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EB38EB7-7731-4355-9A0F-E11FC41C874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hyperlink" Target="http://imaging.mrc-cbu.cam.ac.uk/statswiki/FAQ/Doncaster" TargetMode="External"/><Relationship Id="rId3" Type="http://schemas.openxmlformats.org/officeDocument/2006/relationships/hyperlink" Target="http://www.albany.edu/faculty/rfh64/power/power.html" TargetMode="External"/><Relationship Id="rId4" Type="http://schemas.openxmlformats.org/officeDocument/2006/relationships/hyperlink" Target="http://www.aprendelo.com/rec/power-calculato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maging.mrc-cbu.cam.ac.uk/statswiki/FAQ/Doncast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www.albany.edu/faculty/rfh64/power/powe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98400" indent="-26856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1-12-01T14:57:15Z</dcterms:modified>
  <cp:revision>213</cp:revision>
  <dc:subject/>
  <dc:title>8: SAMPLE SIZE DETERMINATION</dc:title>
</cp:coreProperties>
</file>