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6A3-59EC-4465-BAA4-0619F478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377-47FA-452E-AB4D-EE541FF7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0A2-22EC-4926-9FE2-6C283E29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410-2BA6-455E-85C5-590CEC92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F69-47C1-491E-9AED-72F7CCB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064-D1AB-4812-ABE6-A45D9E8B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FA9-1A5B-4FA6-897F-4B0E36E8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315-AD31-4840-8F4E-E42E159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9C0-B166-4ACC-9E24-3F977EF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B0A-F3D0-4E20-BF87-D31F4C3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91E-41D7-48EF-833F-C959A133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35A-76BB-4B62-AE4C-BA4C9BB7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9B2-EB0A-4894-A8B2-1B145566B6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2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1-10-20T13:13:13Z</dcterms:modified>
  <cp:revision>62</cp:revision>
  <dc:subject/>
  <dc:title>No Slide Title</dc:title>
</cp:coreProperties>
</file>