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F6F-546D-4C47-BD97-C0205DAE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306-4928-46CF-A3CC-5AF149D5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29F-0A98-462A-8C58-E45C3593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6EC-8A39-406D-B70D-6F8887B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022-BE06-4973-995E-D2A8BB50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E5C-48B6-41A6-926D-9AF848A4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EE0-0229-45B6-9E53-4F0712B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E8E-3E87-476F-8456-B398D090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AA4-2446-4458-B691-9D41E717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108-CDA5-42E7-84AD-4C75A1F0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052-C1EA-4F2C-976D-E93D3F4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6D6-39EC-4BB5-9134-D341060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2B3-6814-4C97-8EE6-696EE703EA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2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2-08-09T08:41:38Z</dcterms:modified>
  <cp:revision>67</cp:revision>
  <dc:subject/>
  <dc:title>No Slide Title</dc:title>
</cp:coreProperties>
</file>