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8FE-9055-4BB9-9AAD-5F2B272B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41B-6659-40C0-A737-7631A697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A84C4-90D5-4B3D-AE86-6504BEA2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565E1-3AC4-4F47-AF7D-248BF1AA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3DDAD-49BF-43C6-B008-FC277279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403AE-4678-4A0C-BD49-0BF7E031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B44CD-F2E3-409A-9CFD-6C49B6E7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91B5C-CF75-4913-9B30-54ABCE2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A3491-E05F-46E2-9A9B-9852A76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E89D3-F53B-4089-8CE0-4ABC33E8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928F0-6F77-44D1-BE07-49176240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E6E64-5387-439D-83AB-B57C1AD0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264-AB2A-4A97-A0CC-CC021A78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E2376-6FD5-4A10-B5EF-CC0999B0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1A7AD-1FF9-4DA5-AB29-0243FC5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B21BC-3C1F-4D4F-9462-8D83DA5A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06F76-CEAB-4D54-AEA1-D9B67C7F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8E705-6ECF-4F30-A3E7-65D88294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65E94-F23E-484A-9D4D-C8E9746D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2E927-184D-48E4-A0FB-389616A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4D574-E1F7-400B-9C45-95479B15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C88A1-C2B2-4A79-9696-0E36B1E6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303C0-236C-48D3-9882-0DE42B1E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B58-6ACB-45E9-A3DC-2889FC84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67B56-262F-4F7D-8591-55FE4AF9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EC937-31F3-4B0B-B330-3CB56F66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C719D-224E-411B-8235-4A59748C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92728-1835-4CA0-A0C8-DB2DAC06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A427D-2DD0-4295-8034-A3C80385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647F1-4005-4377-B4BB-C2F78370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F74E2-F634-4FF2-AEC1-500532B6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3E75F-2E2D-4B03-AB3D-26C91DA9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4D543-0739-4D5F-9958-B8789DF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1C4E7-0380-4D7B-8FAB-7073F7E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63BC-2EE4-44AE-A9DD-D996F77C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ED8DA-1DF9-4ADC-B5C8-C8864006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A4080-806C-4335-938F-8A0C9003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0CF5E-51F6-4508-B3FD-4CFC6916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B0575-04AB-4263-9E44-AD1AEB61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BDB41-05D7-4F98-B422-0C39A97D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81554-9409-45DD-8D81-A208D899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32A30-4117-452F-BBBA-4016ABBF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08677-4A63-497A-828E-34A0E3DA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9E395-9895-4478-95D1-65C7EFC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172ED-CED7-459F-8E87-6C433B5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52D9-AC2E-4A3D-BAC2-15800D2B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C996D-E5CD-4534-A67E-357CE338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A8B92-BC5D-46FC-92F9-D77B535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33004-3A15-4765-A705-E381F174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7CFF8-92AD-4282-B63B-64982C5E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98AB3-E009-44D3-81CF-968B779A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86D3E-A542-4523-B3F3-17134158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6AC83-CCF6-45E5-ABAC-4072BC21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0EE16-3920-4218-A2B0-459EFE2F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1731D-46DC-4958-A667-24E515E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482FC-2FA3-4D6B-A4D8-C7D49065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87A9-4389-4CDF-8E04-9564EE27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BB6DA-3E9C-410C-B8FA-4E17FB1E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5F7F1-5790-4BC7-8D24-F537CE7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5D7DF-64AF-4B1F-8B04-FC795EC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4EC28-3AC6-4C21-BEA3-2EE651D3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00720-A3B2-41CA-9046-BE35B939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175F3-3DFE-4D14-9EC5-19529786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214A1-C4DD-4931-A424-1C1940DC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F72D5-2DEF-4D33-A4D3-6C9BC0EC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9D05F-A478-4713-BF30-F162D7FF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A3300-9CF0-4A55-91BE-075AC583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FCE7-6126-418E-9F52-10169035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95C2F-751F-4C60-B51E-F62CC332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3F609-97F8-43F4-8E5A-95B58B45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C573F-B117-4DF6-8879-84585B95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0644E-5C76-4D34-9AED-3667D4E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12E19-BEF9-4436-92BF-AEDDFBA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7423B-7147-4B01-9B46-3AB0A3C0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2F46E-6798-4D31-80D7-B756E258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EC8FF-BBC1-41C3-8AAB-28669E9F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0E530-29E6-4956-A8A1-E94B3422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A14DE-575A-4ECF-9989-41DBE47C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6462-EAE8-45C3-92EA-7BA25980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EEE58-38A1-4DDA-B78B-915BD51B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857B7-225E-48D8-92F0-2BFCBCC4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EEA91-40DC-4776-8640-6DD31FE1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54B3B-363D-4B40-9325-E63092F1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7AADF-E645-4AAF-8FCF-97715B93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EC855-BA70-4E97-B82A-B46BA26A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57B04-2C1F-4D94-B9C6-16E451B0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0B21C-2B5F-4D75-A2D7-F76A2D0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6C61F-494A-4D08-AC8F-EAC5AFE4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5D21A-B89B-4CBC-8F5A-D80505FD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FA64-9231-4F42-B42C-1F181A54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27F65-E3BA-428E-8CE8-82D88245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6CDB9-B7CC-4ACF-A9F0-5DF22900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B6ECB-6599-482A-91F8-71F1EB8F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8FC3C-5D1A-4A7B-BA5F-98530B25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E5D3B-D5D3-4298-8BD6-91F549FD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274F7-7C60-4B0F-BDAA-E46D5408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36156-B5AF-4831-8326-D56CFC92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E1B72-0218-4B97-BABE-D9D97FDC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F3B6F-B345-4BD1-8F30-0EDE3AAF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D621E-E209-44CB-B4B3-56474E62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8EA7-E10C-4B56-ADE8-F326E97D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D0FB5-9986-49F7-9DB2-B8E8A1CD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122B3-8D45-40DC-B831-CD25FD2A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56AF2-B8CC-4C89-BFE9-5A5B86F7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7F2AF-9CC4-4071-B063-5ED622B2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DE5CD-1A57-49F6-95DD-105FCC6F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7B012-A219-4F88-9C4D-2DDA2247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6B406-8CC9-4102-9B05-A2BBD063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44F26-8418-4679-AF86-52A572A1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994EA-3E43-41DE-903A-6DC97FBF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BEB88-9C7B-4777-B2B6-E4A5E803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5BB-CF48-4300-8A84-A7FA4F21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D488-915B-4628-AD41-B0437D7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AD274-A480-4021-99C5-B4A9182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B64BA-E2E7-4825-ADA9-0D684112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EC1F0-ADBC-4E60-BA02-3BB4CB0A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67550-CBD1-412E-95A6-1B311A0C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C9D10-C91A-4680-9CCF-921EDA92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CFAA2-0C97-4FB2-9C24-C4298BF5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92CCF-4D1B-4EAB-B285-7A430D0A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C0369-6427-49BA-B3FF-F93FDD81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F6A4E-BA21-4817-834A-825EA29A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D9F61-0FDB-477F-A62D-61DF48FE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BEA4-A37A-4A82-A184-FF727609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895D1-6013-4EF0-8020-4729567E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9AE91-52B8-4B83-904D-5C98259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AB954-35A4-4997-A931-7B29D4E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980CFB-47EA-4DA4-A40C-D7662BDF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09EF8-7EF8-44AB-93D1-91412953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A33768-E6A0-4A90-8C48-0CDDCC3A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835A2-C30E-46D4-B864-4A6A5B14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AE74-30FD-48D6-8B84-785BAC36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F2F2-CCC1-4B13-92CF-819FA8F2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132F-85A8-4BE9-A5B7-A0219F8F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1D2B-9DF6-4472-96ED-0C7B376B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844D-36D8-46C1-95C1-9D43DFE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3944-05BD-4151-9DDF-530405C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E410-B0BF-4BFF-A551-97596509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FBAE-77FC-470F-A955-DA143E7A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E21-21BF-4198-8C2E-43A9014C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7421-C349-4C75-BB74-C43D082F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D6D4-A123-43E1-B8F7-F158A31B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9DAF-B4B2-4753-82E8-907D532B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4FF5-855E-4D00-A265-441570F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8748-FA3C-4200-944C-636E35CD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F006-1A7C-4172-AA9C-BC0BCC7F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E580-45B2-42DF-84D4-64FF5643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420A-0C0E-44B4-B96C-531D4A40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56BD-036D-43BA-AB80-25A2E72D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8CE4-8147-47CF-BEF6-E7185B0D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573-9A6F-4AAF-B478-96BD05C6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1B07-3A6E-4404-BBAF-662758A3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29A5-E273-4D6A-AF8E-F708D26B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A8BF-B189-446B-A92B-07F44E3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D21F-234A-4315-B5D9-72BB74B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507A-579F-4DED-83D6-0B27429B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030BB-4FA3-44DB-B9CA-C83C3B06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EB31-396F-4930-B85E-152EC2DD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BCF4-3BBA-4554-AC16-3DEA0EC7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D780-D934-466F-8D31-2F563708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0706-6B76-4720-849F-31C484BA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FB0-ACDB-4411-A280-80C2A128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18C23-80B0-4EC8-84CF-9DDB05C8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26268-A4CD-492C-B43D-CF8CBBB8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C5D1-F512-48CE-9F9D-81390CA3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9C40-2E57-4157-8E3A-BF446E9A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DA2C5-1887-4304-BFD3-0C1380BA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E80A2-8198-4351-94B0-815532F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B5626-E640-4411-9900-B53FEC2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067B-6755-4468-9C3A-139CD65B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10D4-C817-4BD0-8B1B-851203B6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6A44A-A03A-4321-A21F-6A04B310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D4D-34BA-435D-A7BE-44E56CA1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8A780-9F90-4C63-ADF8-253419CD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20FC7-5188-47F5-94CE-8990C46F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54E02-FC41-4A95-9E83-9546D368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F4028-907A-4410-A756-D8635819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EC105-F1B4-49C0-BA98-FFA00094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52482-3681-4F24-8C41-B5C03202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48C9E-5376-4CD3-ACCF-475B9737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BC67-75E0-4878-AFE5-0EE7366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06EE3-47D4-4B99-9A93-2F6C78F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C6747-B696-41D8-B473-AA76E71D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5C7-641B-4F52-B33E-14FD437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A70ED-E16E-4AC9-9D5A-12BAAE95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817B7-5C3C-4E86-B26B-E4CCE673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BB984-F90F-452A-941D-E0266CBB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748DF-8A51-4C9C-BB79-56DA01C4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954F7-C448-41AC-9D98-00C5EAF0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D077-06BD-44BA-AD44-19D52E8F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D17C6-345D-4FB2-8C29-5D2A8750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66D12-2900-4D47-B3BF-004465E9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9FCE-2673-495B-BD1C-D90656BF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8BC68-5A14-405D-8C45-7ADDF725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F04-0355-454F-8D59-4376610C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CC61-851C-4316-964A-8AE01C9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05A57-D2D4-41B4-9C68-2487BE7E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43558-9F1C-4699-80B5-088F0CB3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6C22E-D0A7-49F0-AC20-844DDD1C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FD230-861D-4283-A27D-A51507E2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EF3E4-A947-41F2-B9BC-ABAF0EF6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194D8-E549-467F-AF14-E88C0339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ED712-626B-4BFD-B732-F0866E8E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53CBF-D72B-49E2-867A-EC65A069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111C2-6A72-4870-B814-59C62F59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1FB-C82A-4BA2-8DEF-3333D2C6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CAE96-4B36-4CFD-9CC0-2001A88C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5DB25-6E5F-4E28-B6B4-932E919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D3044-23AC-4D68-98E6-6ED6EEF3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60FDA-BBA4-485F-8EA8-A7F9B3D7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882F3-6A71-4AFD-BE32-5A15700F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C2B2D-C8F5-417D-A6CB-C79D9E46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22D40-C280-42F4-BA95-197FCB64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48498-872B-4CB4-B3E9-81EBD6DA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9F439-0DBC-4F36-9F2B-8D107AE0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3EE5B-143C-4A43-B07C-A2C35776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AAB9-B239-45E0-AAF7-2AFD47928B2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62DE-B01C-4EA9-8A58-432CA5CFC34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6EFA-782C-41C6-B290-70D17C6E6BA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8403-48BA-4001-B832-4D10A3E4532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75BB-CA43-4726-82AA-66F80F4752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52E9-0E52-4E2E-934E-595B1BCA86F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303D-6055-4208-B3FE-7D965764DF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2788-5DD1-4C48-8072-A7C367F9E1C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5649-C4F6-4E7D-AC3E-560D1BD4CCBD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F74B-EF5E-4468-946C-87EF061BB6D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525-9E14-49B2-874C-6B1F6F3E828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63F6-59A1-4926-8892-5E7C7D02495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FCD2-238C-4889-9566-DF1A0B7512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6A72-47AC-4333-984E-11998E2E60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E5A2-ED4E-481D-9A1B-89D2C14757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085-0AC8-4F0A-AF36-0E1B61CB44E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484B-3E4C-48FC-B8D2-6FE49DC23C0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2719-17BF-4D0B-811B-978212B6D0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3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3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C5A-847B-434E-BCAF-772A833DD8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BA23-851B-4406-89F8-DBBEE2EF59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C421-6EE9-4BC5-ABD6-2B18141E38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DE54-B44D-408C-85EC-72CC9430C8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D496-87D2-4B1B-A86C-B87237B29E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4CD6-BA8C-46C6-A09D-7BF309E554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96A8-30BB-433D-9CCD-CB11B211CC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A46E-7BEE-4536-AD59-C83A47B7D8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1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FE21-E544-43BB-B0D3-E7D4128A0A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B153-7C01-40C1-B61B-429B083F98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9132-59CF-4D21-BC28-8DB938BF98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93EA-00E8-4652-8C16-56893188E7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7DA2-4AFE-459D-AB57-54323E475A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19F7-599A-4B30-A836-24764EAF2F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F50-DFA5-4161-937C-44C9CAEF4C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33A8-8B77-45E7-839F-668A6B18D3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6FFC-55DF-476A-BFA1-DCFAD53354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5A93-6E36-4352-92C7-741CC1117C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DA7C-FFE0-4104-AF48-D4F66ADCCF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578-1648-4844-BE4A-BA126F7223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F3B1-076E-4B02-81D4-FA306FA220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B810-7D93-480C-AF82-411C5A5A3E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5E98-8526-44E6-B7A1-A7931A633F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74ED-982D-4D2B-B951-44D797F2ED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F8FC-4F4A-4B8D-9387-8865010FF8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7754-51A8-4D25-BDAD-443DD8F1FD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9EF5-DC51-4BE5-8700-391D03D677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91FE-3E1B-487C-A93C-C299CC5861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CF9E-A521-4D8F-9D55-B587A15173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47EB-75C6-48DC-9E24-E4C4D860EB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4CD-5C47-43C1-A1B1-B974A5D804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8175-2F3D-41D5-847C-A23BA212D8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9737-D7C6-4753-806D-C693712073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0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10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B013-1DA9-4266-9894-15558ADF25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8D12-0D15-4C0E-89E4-EBB176A3E0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B135-CB61-420F-9A8B-77F385D2E5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3F82-68BB-4E0D-8F40-0C4EFCA3ED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C06F-BF25-43B5-85FE-5BA7054DF4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F9B-EA09-4502-AB5C-13FDC8DAF4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9F9A-E21D-4C5A-84EE-FBCEC4D503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C72F-5AEF-4C30-8E5C-DA12C6D996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985-92C1-498D-A4A5-49C7E50DE2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2C04-A090-4A11-828D-6056C90073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3F9-25AD-4362-B3C5-AF096861A4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3B29-DFC9-4932-B434-A9A436F6A3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EDA6-8C8A-4DE9-90C0-1DFC81AFA1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8AC1-E05F-4482-A115-DAEFE42B3F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471D-5F61-4DEA-9A26-17DDDA417A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2AF7-F6EA-4792-AEC4-C687CC42A6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B01C-2837-457C-9651-D8F2544176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C9D4-3E5B-4E1B-8CAF-762E6E253A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83EA-2FAE-44B9-B3E1-2C2624F0F8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C912-A085-42E6-9EBD-E84B467302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F33B-902B-48EF-B22C-3EE02047A3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10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51B3-EF73-43BE-8C93-2E877C2D58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19E6-054A-463F-98EA-251E4B6DAC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C956-BA82-4782-935E-3CF5BFFB20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3-08-28T11:02:27Z</dcterms:modified>
  <cp:revision>98</cp:revision>
  <dc:subject/>
  <dc:title>Aims and Objectives</dc:title>
</cp:coreProperties>
</file>