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3DC-D73F-4C21-AB6D-E8ADA564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E59-3C2D-4A83-B8F5-FD67020E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2B887-59F7-4D03-916B-EFFB7922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23DE5-0DA5-44B8-BE35-73C55AEF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978B8-8F13-406D-B65B-A4170C84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6C3FD-5A9C-48FE-8DD8-20EC84A7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4193E-99B2-4496-AABF-82E03896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FB000-2B20-4480-A892-04029D23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80CA9-ABD7-4FB7-AFDA-B4FEE2D2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4D56A-9F5D-4A4B-96D4-B65599F0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C5507-8A6B-4BF5-81DA-51621811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A659B-5A7D-4A07-B7FA-1B5CEA27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D64-7AC5-4F37-BCED-370103C6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2447F-46E7-4BFE-8F6E-11A28AFF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3D8FD-6D0F-435B-B712-D6538936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DD478-14AA-42E6-B448-2B316F3F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73625-519F-4C52-AB0A-6965268A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70CD7-B607-4C88-9455-AD9A393F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8926F-18D0-42DF-87C5-112F5313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8E605-3D22-43DF-82AC-E9825D20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FA7EA-1765-4E90-BC38-5256C830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66688-634A-46BF-8303-A3B638C4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40E03-560E-41BE-B850-C859E24E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4A0-70DF-4517-9426-76F3007C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32B27-C11B-4161-A0EF-79C17913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FFBD8-95A7-4458-A7AB-CC8FAD46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9D2BB-89CF-4238-992A-5C766D93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64B6B-A67D-42CD-85A5-ABD44529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DA7B7-AED5-4865-B044-BA7981B5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058AD-668C-4B0E-AF98-4285F30A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BB4F4-C3C9-4EC4-9C34-69ADDBA2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13397-65D6-4D03-8DDA-EF1D8B3A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A566C-353A-4664-B746-19FDA25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4C407-5A5B-432E-B35A-57790861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4B82-8495-456A-AD4B-47EF7965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F8F94-B228-41E5-A76F-62B8CCC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517C1-3096-498E-B285-3C81A28B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EB314-CA43-4EDF-8686-8ECE6BF3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55429-6045-49BA-9B9D-49906D91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85C3D-9793-4E8F-B226-6BDB5DC2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F0EE1-B747-414B-836C-B1980536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8C3C1-9C82-45FB-941F-D750D328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9CBC4-DD18-4BB3-BA24-E965CF10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60420-CABA-45A7-BD3A-4F6F333D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47E20-87CC-4B53-A5AF-B2172E4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F4B5-BB76-45DC-823D-0E836E9A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87B46-A8F2-4B66-A0B4-06860A7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28965-66AC-43EF-9E09-A15AE50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1F4E5-AB07-48B8-BAAE-6C9D24AC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83C07-0EE6-4944-A4D1-9D3AC4A5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8AF16-CDB1-4414-B109-4BC83CFD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B5F7F-BCCC-4064-B363-D65BD6A0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BF153-84D4-4BCB-8DBC-82237468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ADCA6-E405-4B44-B8F3-11E3331A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51C16-EA8A-41DF-9594-7B20627B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71F2F-8908-454A-B1FC-B6FFB0D7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7F7C-C3E2-49C2-94B8-6F6B1B66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981A9-C563-48D2-9BEC-958297F2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1FC6D-6811-4B70-922C-198850CD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993C9-94A4-435F-9B34-E9A062D4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89EDA-79CA-4DE6-85AF-A845ACC4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81E42-84D0-4486-BF00-95A13D05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8E7C5-20F3-4977-A0FA-E966BCB8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BE451-2617-4B26-93D7-8C62E000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2828A-E263-41EA-9DF4-E710296C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AEAB7-5A65-4AA7-8367-7D82EACF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B0E43-A266-4A74-B612-BDCE7A61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A589-694B-49A8-BD52-E1396C2D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3E61F-8411-4543-908D-96AE55C9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85C99-1782-42D8-A8C4-482AD573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606BD-5409-4B74-A6F1-A6A7DBDD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74D52-85DC-4757-A0FA-1F05CB42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34A3C-1B56-49F1-9D7C-C8238288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B2B11-4FA1-4271-B5D9-0030B35B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B1BA4-915D-4874-953F-69265F87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C4B72-4E8A-44C2-90C6-899C5E66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00C6E-E8F7-4A32-AB4B-02A56141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C92016-38B3-4543-89B3-01717A5E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BD78-8073-4BD9-9936-29E5D742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AA2EE-0B1B-4C77-B178-34B70987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BBBBD-939D-4D05-8A87-0D1FA37E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05B39-3307-4518-AC44-CC32B407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86261-1702-4B0A-B790-A87EEB93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31A23-2869-4627-B22B-EF38F211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CB021-6C0C-41E4-AC6C-A3D03E58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58DD7-8B6D-4A3A-99F9-BD632EBE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822AB-6886-4506-8E4C-1CF4D659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15A0E-41B9-48B8-974B-5A8BE424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714DF-764D-4229-8D98-D5622DC9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0A74-6D22-4083-A108-F70BECF4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38943-47EC-4016-BE6C-9959D14F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CE48A1-3427-435D-AD80-3BA77FF7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1CA35-C783-4C16-AE38-7D9BA420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B24E3-1117-41B7-B658-77EE09E8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ECE14-5436-43D1-B87E-EBD00854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6F7F5-874F-46E1-A5A2-FA76BB96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72BB5A-318E-4347-8887-3C216301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13D99-5B17-4D33-9580-541C108B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BAFED-FEAA-481A-B8D1-057ED7D7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CA406-8137-4B33-B6AF-5B0A725D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18E8-6623-4886-A0FD-1304524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4D20B8-0831-4C2A-A9E6-34F12AFB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4F06D-B2F9-4E72-A599-D7C8D9C8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1771D-6FDC-4FBF-96E8-6758F8A5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5044D-B1CB-496A-9785-E646634D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17AF0-667E-4C0A-B031-C516F5FD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BC050-4C63-4670-B240-7959CD39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073C7-5B3E-419B-BCF7-34F57674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3DF7C-1629-472B-B8C1-99097DDE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446FDA-09D1-4FF6-A1AE-0DFF674C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1E80F-E748-43C6-A330-AB473033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E6A-5F49-47A3-A5A3-53353C84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3491-6772-4D95-845F-F52A0C5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94D08-C25B-42CA-99A0-9780669A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9DD3B-063F-42AB-90A5-5FAB9795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BF3BD-F5CC-4E8F-AA22-1B01DFAA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AEDD9-25CF-4A77-AF58-929614EF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BE49B-00E2-46ED-AF60-C67D8C59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88BD98-2352-4795-A818-D8A2A5A0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01B04-A842-45F5-BD54-EA3D6296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34B8C-59C2-4E08-9C69-4027D53C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27CAA6-828A-483C-8545-6D7BC7AA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7F082-16DA-408E-A9D8-B7EC758F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5929-E108-4E50-9FD0-342C799A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13F6C-CE61-4817-9C02-44208673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C4502-A638-442A-87ED-F1A6FFDF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94016-32F6-4B11-957B-3528833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FA801-55F1-4139-81A0-2828C27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BC4D4F-C31A-45BC-A0A8-B88FFB74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86D49D-F77C-4C6F-84F3-8AD89C96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D5943-06AF-49AF-B347-D0722E2F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CBDC-AF53-4C52-9834-0849441C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B025-D156-4B05-B662-3A7FF7B6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9C41-5244-4CA8-ADEE-1CF7E18A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F6494-C4D8-48C9-8A33-7CB62A1D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A4AA7-76C5-45D4-8692-DA528208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7D77F-3AB9-4EE1-9CAA-B70623EB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BC51-B245-4055-AAAE-348E3D4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75DF-7C3E-4E65-ACE3-B5C22143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E0A-E9F9-441F-96AC-ACE5DAF0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055AA-BF98-4631-B61A-9FCC3194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7AD7-954A-48EB-AC87-713B97F3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09C2-741B-4518-BAE0-DB68335D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CCC5-5C45-47D9-988F-9E2068A0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F306-8D83-46CF-8765-FEAA9730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48FC-5B6C-4D1C-8C60-6A823EB1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4855-4D9D-4556-AF3B-0D05514E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91DA5-90CC-4088-B0C5-0BD5274F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02B8-FEFF-43C1-AABB-90BFB181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316D-12F5-4B0F-9C27-FE94F6D3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B64-1B68-4C9D-81FA-D2E5E9E0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0F490-8961-41D3-99CD-41D0FFF6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79DD-175D-43D7-B81B-2BB70220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8824D-2A20-47B1-9DCE-F1342DD1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79ED-B6A1-4777-B138-28290314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47F32-2B41-4829-9B89-A939E24E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54CA3-BA5F-4FD1-9E36-355386E0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2D46C-22EB-4B50-8693-F3D9F61C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0DD0E-FB5E-42B0-B006-F3A15DCB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5EFA-108B-4FCF-AB1B-C836728C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799B7-C8CF-4F62-B7D3-C59EDBA5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307-9E57-4043-BE84-32BB2385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695CB-C6E2-4BB3-B4E1-B1DAC084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7329-5F24-438E-8C0F-3F91C810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48A62-4313-4186-A1F2-CE5DDBF5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A966D-94D3-4291-B732-B5A2D2E9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C7D77-0A16-4C2A-81CA-18EE7419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EBF1A-1E89-4558-A852-C4791B05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10BDF-6B64-4D92-BC79-F3D78559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42D86-1EB9-4C3B-AD27-10D04724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A81F-597F-465B-8567-3BFD1AF9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31484-7476-470E-83E7-F9E298A8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67C-B247-4F95-B766-92A18214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911A6-A87E-4A6B-824F-1EFC84CF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1A6F9-068D-466E-AAB4-9F760186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4DA6B-2C7C-477D-99DA-C6EDE351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0555D-0E2E-4492-A64C-BEF23B99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E6FE1-6F32-4323-82A0-63BAF904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96684-9C7B-4199-A724-F153BFC4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B94D2-8FF2-43D8-BEFE-17876409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BEEF5-AC64-401A-8DB3-4887C99A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08EB4-E530-4106-B5F3-3EFAE58E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64446-A520-44A4-B67D-E68E501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89C-8927-4F64-A39D-AC6D9A33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EEC15-1A21-496C-A345-ADF13F71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5CEEA-B5BB-4CF5-9B4C-CEDACD4B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EA0FB-ABED-4F50-94A3-75E312A6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ED7BB-306C-4218-897C-D934EF73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BF931-2A60-4CF3-B37A-530F6BC3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F33EB-76D2-45ED-87FF-06302746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1DC35-1117-42BA-A1C9-D6F3A8FC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941D-E02C-488D-92A7-14FFD044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78FBE-7C02-4E79-9061-948D73EB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4F9E2-8FE0-4023-A0FB-4BE7D390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18B-0555-4556-9025-78325E18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9E9D6-6534-4D40-96A4-571415A4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30E9F-8FBF-4222-8884-23E6F672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89ADD-C091-4652-9C31-2CB955DB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832BA-FD99-49EE-8EEC-C657E3AE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A7F44-59B3-40E6-A0E3-8A611FD0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4D927-F433-4E9D-81FE-DBAA5F3C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C897E-0461-4455-8543-E83EA74E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71A2F-EF59-4C3A-B5FA-A5D5FA28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DE7BE-19B5-462A-BDC4-6DC80D1B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A8766-7F1A-4A46-9D41-4505EA53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086-F8D8-4DAA-83AE-546C7A4B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97C8A-D6E2-44A1-A96B-3434CA67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94A0D-5854-49AA-8F3F-F80F8516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CB072-F5DF-4DAD-945A-AC298575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7B102-20F5-4E25-AD80-9DB9F00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42A99-F372-4222-97CE-27675BF0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36D9A-E200-450B-9D92-B9EF8074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113B9-9BAB-4A62-8BA1-1122D27F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52E24-62EE-4F3A-9B25-B99E3F81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A92DB-3714-4B72-9F5D-335D58F8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795C7-1FC8-4BAB-8650-7CE766DD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B47A-7848-47E9-B9B1-FC6B7D6DC0E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4C4B-4A91-4A50-8B4A-9C2E6DB92E7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1872-4843-4AE8-BAF3-C7F46BFC2C1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35FA-61A6-4488-87DC-20EDF972C7B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C48E-B6F0-47E9-AA33-1BA98889A96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B67B-CC45-4B8D-8C6A-88C4E69C2FB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8BFA-1599-427A-B2C8-AD147CA3B58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2B2A-1633-488A-B8B7-A89999E29CE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27BB-B6FE-4F3D-ABF9-872A5746ED02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820B-F7B9-4AE2-B39C-410C66C9445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2988-5B67-4323-A97E-BD506E80750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D6F9-8740-40CB-921C-78C8D0B3B3A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93DB-D08A-4323-A07D-7D317514884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6395-4114-4B06-9D67-0C0724D1EDC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02D5-8852-4D36-86C8-8E755935A4B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7BD0-EF4A-47BF-ABB4-F5B678F69E2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E55F-C4F6-43C0-BFC3-A53D724DAEA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D3B4-60BB-452F-B5FE-D88ED87820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3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3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3BCC-A9A4-43CE-87B8-CB98C9E868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6672-0816-4774-BED4-BBC2C175B7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81A9-512A-4D32-B27C-2E9DE2C42C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BE89-7D16-45C3-A51D-74BD7B61F1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4F05-32CA-4ADB-B59E-6F0BC50CA1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1FFA-B7F5-48C3-B1D1-05F2D83B26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006B-C420-4ECA-B1F5-70D9ECEB84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CB79-1BC9-43BC-AF76-D62372B46B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13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52AD-27AF-4C41-9D35-08B5F3E2E8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EE19-646C-4DC9-8D4A-A2E3559217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0CC9-7281-48C4-8F33-CC7357E302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294D-A0D0-4008-ABBC-F854F7CB26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9334-9D22-431E-9977-B18B064BE6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1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FE19-DEBD-469A-A3EA-A74EE23B2B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5F46-96C8-4A39-B5D4-1152D50AFB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FEA4-FED7-4A78-875F-76AA511D6C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0643-62D0-4443-A354-6C65396142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9E36-F1FE-4228-ABAD-7CC49A0B91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4519-FAFB-4F83-B392-28AF43F096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451C-55FE-4982-9A2F-EBA86E3A54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6960-12F4-4333-B023-4BCE153611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E778-F564-4359-9C9F-08D48FE13C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0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5AB8-ED7F-4962-BFC8-7113155EB3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790F-9BC3-4383-A7D3-3AC9932973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99A5-1F60-4808-960E-DC36E8893F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42F7-20E6-4898-8EE4-A9652153E4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3006-5C39-425B-A1C8-FCE36A87D8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DE6E-6E7F-4D43-88EB-DD670EC649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6341-FEA6-4F5F-BCBE-CB17927153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1424-479F-43AD-99D7-4E2D1088CE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1635-C12E-4969-8A79-7B8D9ABA8BD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398F-983A-4B51-929C-4139E243F6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C797-2479-484E-8F27-7003E50354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0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10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078D-548B-470F-ADA4-EE10159064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E616-8A07-45A8-B3A2-D3C3AA71E1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9826-843B-4EFA-9C8E-55955CAEA7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2BE3-564C-439B-900A-B649D3FBEA3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E0E5-0FB4-48B7-9357-A4CD9075B3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2881-6D90-4D96-8531-68AB023BEF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FDE6-4FD2-4A3F-9A97-727A77CDBF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9153-43CF-4A12-8F2E-C0C870361F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C580-F4BF-41C3-9A2A-1A69555DF0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FF60-BD13-4F17-810C-07E0B81109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9173-FDB0-45DD-A262-FA7D38A87B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2D74-8B4B-4596-868F-A34B3A6295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B5B1-AAF5-4544-A8ED-4C31484EBC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98B6-3693-4135-AAE4-CA5F881DC9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1F0C-9B80-4507-943B-ADA70658A8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1DEE-19C1-4BA4-90DC-A7621DD36D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6E64-FE2A-4E6A-A13D-EF713F28E5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8523-EE99-4831-AA3C-7ADDB24447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630D-897E-4CAB-98D9-F8620DFB70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A313-0FB1-4F12-B7AB-F09FBDDC70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C184-73BE-41A1-8070-3DFAD75DFB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10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0361-495A-48BF-A2E3-4EF41D4465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8AD8-9602-428C-8986-18C19B0822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E156-3194-484E-8774-49DE333EB2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8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8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8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3-08-28T11:02:27Z</dcterms:modified>
  <cp:revision>98</cp:revision>
  <dc:subject/>
  <dc:title>Aims and Objectives</dc:title>
</cp:coreProperties>
</file>