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161-24DC-46BC-BF2A-EDA1A6D0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EB7-E4BE-4698-A9D9-A51427FE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11AC8-83CA-4EDE-BD3E-4FB72AEA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DDFC8-1582-4789-9BBD-5DC57C93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98283-AA40-4DED-8E28-02FACA11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985F4-D6DB-48F0-BF9D-F5E38DF7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E859C-9413-44AA-BAEA-033210B0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21BF2-40A4-489D-9DF0-DFE578FA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4CA14-A82C-4B5D-A3B4-AB17A83B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578A5-6277-4237-9661-F00E72AC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498AD-D57A-4F63-8BD1-4513BA02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DB270-4C6B-4106-8E1E-ED075C14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016-C00F-4EE9-9FB9-E13E08D4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DC803-0C0A-4E03-AE82-243750E1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EBF66-29EB-4C85-B233-FAE6BF0A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7C6CC-94A1-416F-9C08-C7F57148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9B70D-C090-476A-BB18-656CE871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28AAE-5DF9-496B-8994-128D412D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3D7A0-B8F1-4940-A799-D739884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838E1-9A7F-43A3-B772-95135038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7B017-A1C7-4822-8B12-070D92DE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95AFE-2934-48AF-9C88-DDAC75DD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3A986-991E-42AD-8073-1EA96022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73D-9FEA-45CD-B4B8-01B670E6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F9E04-3437-4364-A17F-E47E3E96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C0AF5-D1F3-4E08-B414-47DFC394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B05A1-51F2-419E-A961-23ACD057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A68BD-9C8F-4CA8-BC93-5A4A7403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7418A-3C98-4B8B-B53A-E108236A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0F59D-B16E-4D16-AE0F-FAEBAC31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CBBB2-45B0-420C-9AEE-687FC058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26E24-F5BC-4D88-BA7F-E19C7B87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DEBC5-957E-4294-9A55-46B003AA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36F3D-052E-4A09-9454-8AFA040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C1D4-747E-4283-94F9-4428FD2B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9CA90-78A4-4392-89B6-A17C352C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E28D9-17FF-4A85-ABB5-6196CB29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B587E-6E6B-40BD-B816-50EF4372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0B034-4939-418B-8DC6-CFC5D266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D8E00-5A06-4151-8450-84FC4331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771D1-13C5-4AB4-818A-E8D86C53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EBFEE-B038-46AF-90BD-981612D6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21DA8-3817-41BE-A444-34B240BC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9D696-B9E0-4DC4-83B9-CAD3AD77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A716E-1911-4C86-84C4-FFE24043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5189-93B3-4232-991C-AC03B332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8E688-351A-4E5E-92F8-A16936E1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31FA0-4F41-4FC2-BB32-589D2FEA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071EA-0B49-411B-8BDF-A087CC57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40343-C19C-494F-9107-CE57140C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C7D5A-BF80-456C-9CED-ADF9E274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0EFC3-3129-4025-A1BC-E7C4D563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4FFDD-12CB-4367-98D6-607EA7E6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5429D-78C8-46B5-ACBB-9C1A775A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8357D-7232-4814-94F9-B0BC8658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2C361-1F0C-41B3-AA96-25522EF9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3C3E-4333-48DA-8677-904BD33E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986A9-900E-4366-AB87-668F48AE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1DC62-86BE-4414-A3CB-3FDA056C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56A71-BFA9-45FD-BEB7-E5AE37DE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55CE0-BC9E-4971-8925-90160146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9B1C1-6A6B-449B-A3BC-36818C6B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1C8E4-8617-45A8-A437-E895B069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11AE4-084D-46F5-BF5A-C60E4B29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A807A-5D9A-4B74-A963-55AD39DB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644E7-8D35-4420-8AAE-B4D0FEB7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2045C-E576-4679-8B34-1A8706A3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4593-E7CA-4350-B0B5-66ED18DB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FC5B2-4F3C-4FB5-96D1-A98D4D74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65179-58ED-45A1-A925-58CDD28C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75465-28F3-4488-A9E4-18390222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09989-9409-403F-BADB-632022B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DD7C2-6329-4F11-A3E5-CFE84C5C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F83F5-43A1-4278-A67D-7677283D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5B29A-B5F0-472C-B514-4F4209E6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6F8ED-2989-4BF1-907B-82429AD6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8F9DD-A6A4-46D7-A98D-B229930E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76111-7E17-475B-9B8C-C8EAA117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02EF-D1FA-48E9-A2DF-87435D0F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5CC99-66BB-4099-8C25-383EE287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3FDFD-13BC-4617-B95C-FF83D5D5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2BA63-F452-4841-A286-CC07E626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EE35A-EEAA-44BD-9CDB-281F0853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861EB-BEF8-4EA7-9CD6-3991CFB3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51546-9843-4CDB-B648-4D03620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FD5B04-DD49-49C0-8AB8-DB033538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CD829-0ADB-4B2B-80EA-1069AD3F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93E1A-B91A-46FA-8950-1C034F5B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4F2FF1-E999-485B-82DF-730412B4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BBD7-1A7F-4F16-BBA9-22818DF7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530BA-ED56-4880-8CE4-2784FF36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BA36E-3EC3-4DC4-901A-8512BB7D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27BBC-3034-4336-B234-06B12B80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EC8FD7-24F2-4ABE-A4AB-FC12D7EA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104A1-903F-4F37-B622-984AE396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67C50-E26B-4719-BCF8-0319C8AF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132FA-7625-4A66-A47B-BB46A6BC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F72D54-E768-4D46-9480-F0CC8256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FB9989-CC63-4589-9515-F41D0DB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55B6B-1715-452E-B58F-E7A7A671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8FE8-F8C6-4476-91C6-B3C93E1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19BB3-189C-457B-AE41-6B3BF621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77E5D-B437-44E2-8AD3-F010909E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4B1E9-7E0A-4AA9-A591-609143C3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3CCED-08F9-4C0D-A25A-C0A63B1A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2B8AF-0ACC-4530-9574-B309767D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65CFA-BA96-445E-A31D-7E2F4494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45AE3E-1225-4810-8E06-A377640E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76B83-378F-4842-9FAD-D14F33AC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F2AC8-797D-4F75-9990-828DF1B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4321B7-79F9-4899-B6F2-589D9DA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456-F14C-4C4D-A0B7-7004E352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3062-346D-4776-907C-BF85FE07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24347-BE88-4E0C-AA10-B4C0EA1E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1CDC1E-5015-4362-BC53-E425D2B9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8BAA87-A328-432B-A7D1-755CA654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B8AA5E-109D-4BE8-A04B-168E1B65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7C5BB-B153-4A0B-8177-ED4E194C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765B2-C95F-4481-93BD-751B6FCF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261D50-E53B-40A0-BB62-BF961CD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CDBBA-3C0E-4E9B-BD79-081D3482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D8EB55-668B-4B0F-9381-8272DD40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31116-538D-4C92-A4C3-C0DC8EEB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6B43-014C-48F2-88C0-CABCEA7C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3164A-A707-4C44-B837-C762846A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742B27-EF0B-453A-BF54-85C3C006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5EB852-5D51-435F-BAC6-979EC6B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E9E83-11B1-4391-BEAD-A02B8B6D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CFB71-8BE3-450B-A726-2E64DE9D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DF5781-ABBB-4209-BD4B-EA56F904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E4613-30ED-49F1-BFE5-21EEB732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1247-9432-4746-97B6-6567F669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E03A-6DE5-4D27-B55B-6C484818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C102-EC34-4E77-A2E3-5C5BC2F3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30F4-4B54-4DBD-A63B-B5E86DA2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3E56-D700-4DEC-BBCF-FC6EAAF2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157F6-536E-41B9-B475-BCF7F048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86FD-DEB8-4EBA-AFD1-4AECCFA7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42C8-8632-41D2-8437-27E8D638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113-153E-4F89-A75F-B70C6B86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D1A4-D297-4969-955D-AC3D1170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03E4-0F70-4276-9277-D551E4C3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5BFAB-5DD1-479A-A8F5-3C3C7718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5EF8B-8386-4D54-8BA0-D0F5DC48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F958-CB6F-4FCA-B206-6A3D84A0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9316-6B35-42DF-BE8B-30BAE758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15078-2188-4C10-8170-57E42A2B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A08C9-2A89-44DA-9939-D9D7995B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8FD45-155F-41B2-BD6D-FC5ACE6A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18D9C-DA2B-4984-AA1C-41FF229E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5DE-E3B2-4978-9D8E-73EC9C07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11171-2D9E-4691-B698-65DAC9DA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1EA26-8A20-46F4-BFE8-03489EC1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53969-3EA2-4E01-8C01-F18A1ACD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5014-93DB-4A77-B817-5302AA48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92AF-B2B5-452F-8542-EE94756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989F8-1269-422C-9E88-6A064928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E21C-595F-491F-BB8E-DD8ED54E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A8D4-AD22-4C06-9513-7A82AC16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DE1B-9BA5-40C4-8C35-21F9DD40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1F489-E2BD-4496-B7F2-A6C400CD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13D-E388-4153-B86D-89EFF1C3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712D8-A83D-43B6-841E-AF270131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8651E-2F4A-4607-AB26-A4370048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D8905-DFDA-4BA2-AA3C-6BECB58F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74978-1E20-45CA-B59A-10DF1A93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D10F7-2F34-40F3-81B6-FADD1665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9E95F-CD78-46BE-BF35-5FF5A273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08E26-2C46-4F86-AE84-595F7226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6BDB0-B323-4CCC-9C79-44C19063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7A54-5EE6-428D-B526-1058F8A8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FA7D4-6E18-414A-8FBD-30CE4924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32C-C0A6-46E3-86C0-9AC2E40F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CA04-57ED-499A-81F5-3948E45B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F8A84-1F1A-4AB8-9ABA-716498A4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6F8BA-35A2-4E80-B814-0F0B12DE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A78F2-74FA-4842-A015-DCDEA3B4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85F86-8104-4FC1-A2AB-DE21F148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AE9D2-1FA3-4029-99DA-6FABE357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9FF4F-FB9F-43EA-B9CF-6DAA57AE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B7894-73A7-49D6-B174-A900F156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0B5B-1EEB-4209-A49C-98A85685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6DFBC-42A1-4BF1-8054-BDA41AB8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D04-8B58-4FC9-B746-E7D23014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D69A3-99F9-4979-94BE-89F96FFD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68288-FD7E-4116-BF0F-BD63A4EE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42ED-5EBD-4B46-80A1-01BA0682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25A2B-9486-43E5-B576-FA362324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AEBF4-43E5-4ADB-8541-0D09047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39CF8-BDC9-49CD-8F5C-AB99A1E4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1396-C064-4E8E-AE01-597AB69B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768EA-A49D-4BBB-8E91-B1974CA8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58652-1716-41F9-A0AB-677AC8FC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7D801-9C06-4DA0-B734-9F21B1C6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66A-783A-49EC-A1F1-A64A3A20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627D1-4738-47FA-AABF-1B473B4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9CDEB-E9D6-45F4-A7B9-380699C4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62BA0-C34B-484A-AEB2-A00AB0F0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39F00-C281-4AD7-8C45-5876FCDF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3A358-E789-4AE9-97AB-FBADA249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FA1AA-49F3-4CC0-B8EE-E8E3FB78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406DC-3C97-4EAF-9C66-4662B0FE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21625-C2D1-468B-982F-A49FD2E1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419E1-7793-4328-A52F-16C2E769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D939E-BB56-4CD5-92EC-5B7200E6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965-C2F4-4971-AA6A-36A61BBD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2B07E-C12F-4738-8A26-795E56B2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89AFE-195E-4999-8D92-F561157F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D9FE-ACA1-439D-BDB7-8FC68AF7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CAD7A-026B-49A5-9198-DD28A97C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A546A-B89D-4FA3-9D25-F3EEDBC0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A4B4-442E-4999-A31C-818FCBF8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855F5-F300-41B5-8722-F3736A7E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26319-F47C-4CF1-9C05-8EB21204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4CF4A-2398-46C4-B4B8-6EED45E6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4D057-12E8-40EC-BE2F-979DF683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886C-09AE-49B7-B649-F15D2677D7A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534B-A1F5-49EC-BBEA-630B2D8EC4D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041B-B066-48EE-AC20-C530F57D9F2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D0F3-AD56-441E-92AB-8F79E0B5749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76C8-E8BD-4200-B07F-3CC893651D9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AE11-D2E0-4272-8CAC-F8D5281D08A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201F-7FFD-4046-97AE-4831DE53A9C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90AC-C525-42B0-974E-2FC1BEE83DC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EF63-B494-47EA-91E4-536758FF591E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2CF5-ACD6-4A83-8F52-4AC8DBC92EF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FAF2-6475-4C9B-899F-7A8C8237AA3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CEA0-EB00-4FB2-BF23-68E477D17FC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C9CD-322F-4563-BBA6-9540D859BC7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10A0-D999-4552-89B2-E2E80786772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EAE7-D438-4B52-AF7A-239A8F038C7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689F-AAC2-4563-A33C-FC1587D58BF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3D8E-A42F-4856-BD52-705F3348706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ACC4-464F-42E0-B068-F14AF3BF04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3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3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E27D-8A3E-4E35-9457-9A1135FB6A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C8BD-1D26-45AE-937D-05570BE9C0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4AE7-F20A-4D8A-ACFC-D76C374856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A3EC-B00F-44EC-8D1A-39EE7DAEA2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C971-7757-4838-814F-91CB2FA4F6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2B9E-D962-4886-B57A-AEB3C22B1A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D8F8-36B0-4F90-9C59-C51F3594C4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0769-4AF2-455D-AED6-B0D4E6487A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13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91EF-F2A9-4952-842A-324423C7F9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4958-F0A9-4139-B3E8-453AB16B9E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19E4-CC3E-41ED-BB1B-7117CEE525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5D8F-B6AE-4B51-AC78-DCAA3DF0D4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B1F5-95F6-4584-8B4C-E5D723DBB2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1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7059-BC6F-480C-B24E-26922DD304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60AD-398E-4CF6-A5FD-D246CEF9D1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F244-C3D9-4DBA-A9CD-19C1EF8393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44A3-9184-4BC0-93CC-0359FBF5C7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50B5-5401-4C30-B58A-6607A04A3A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2075-991A-42CD-8A7B-EF17471D53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28C2-417F-46F6-9E74-D4A4A5BDE7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2285-7BC3-4977-88B8-81A4ADA81E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619D-989B-47ED-82BA-DDBF217AEF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0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1CB8-210D-48AF-ABFF-245D224108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3467-1845-4898-A128-22AE1BD275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AA3-D6A1-470C-BBCA-1CDD21EF73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D7DF-606D-4979-8DF5-1011DB49CC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3392-6C81-4931-A89E-3EBCED4E4A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C22C-09E5-44F2-B2BE-C25972351F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F430-12A7-4C07-B951-6CAF14A7E0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E83C-6A75-41A0-B954-4B4C1D588A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31AF-8894-486E-8078-3EF0AFB51F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5987-6B88-4674-9A86-5495E73F71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6B69-359C-43C5-9F29-1917D5CE97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0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10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7F75-54C3-4BFD-BE5F-F8DB078EFD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B453-379D-4D5E-928D-FAD2CD2DFBF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B758-AB5E-4F91-BB02-89C2C9B81A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6EAE-192B-4B0B-B156-E4AE97A3E2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1377-2EA8-41F6-8A1E-B4345B0BD6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CD8B-1D7E-44CE-AEE7-13B60AA757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3B23-1AD8-40B6-A784-09C7C800AE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5F01-4F4D-447D-86B9-64B38324D9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C124-AE6F-4754-A373-5042B51335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CDD2-FECB-4831-A92A-111B4DDCDA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ED3C-6545-4675-8B64-FF86EDF85C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B95E-0F4E-4CF0-894F-362ED83F35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A7A0-C8EB-4C53-BB4F-DAE98D02F8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E5E3-BA34-449C-B58F-11BABFFEF2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36B2-684B-4A80-9A46-6EDC02099C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94C2-288F-411A-B533-E4FC6D940B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601A-7A21-4F4F-B61B-D28E42ADED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4BA3-8EC4-4120-A7F9-7D76E1D17B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BEDE-8983-4027-AE4A-7EB98E242C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6F20-D749-4D16-9DBD-AE1A68DDF0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6B82-0CE2-4286-BE99-D90B8EAF33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10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825E-4176-471A-9289-67930E2373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35D2-229E-48A9-A2B7-5ADEC6A6DA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6701-96FF-4428-B160-F8F7141E5D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8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8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8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3-08-28T11:02:27Z</dcterms:modified>
  <cp:revision>98</cp:revision>
  <dc:subject/>
  <dc:title>Aims and Objectives</dc:title>
</cp:coreProperties>
</file>