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  <p:sldId id="307" r:id="rId71"/>
    <p:sldId id="308" r:id="rId72"/>
    <p:sldId id="309" r:id="rId73"/>
    <p:sldId id="310" r:id="rId74"/>
    <p:sldId id="311" r:id="rId75"/>
    <p:sldId id="312" r:id="rId76"/>
    <p:sldId id="313" r:id="rId77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slide" Target="slides/slide52.xml"/><Relationship Id="rId72" Type="http://schemas.openxmlformats.org/officeDocument/2006/relationships/slide" Target="slides/slide53.xml"/><Relationship Id="rId73" Type="http://schemas.openxmlformats.org/officeDocument/2006/relationships/slide" Target="slides/slide54.xml"/><Relationship Id="rId74" Type="http://schemas.openxmlformats.org/officeDocument/2006/relationships/slide" Target="slides/slide55.xml"/><Relationship Id="rId75" Type="http://schemas.openxmlformats.org/officeDocument/2006/relationships/slide" Target="slides/slide56.xml"/><Relationship Id="rId76" Type="http://schemas.openxmlformats.org/officeDocument/2006/relationships/slide" Target="slides/slide57.xml"/><Relationship Id="rId77" Type="http://schemas.openxmlformats.org/officeDocument/2006/relationships/slide" Target="slides/slide58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BD1F-0C32-4D28-9647-2853AAF8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4E4C-0856-4538-BD3E-7EBB04C7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6A81D-EEC6-41C4-8FBC-4BA5DD33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E004B-8498-4D3E-8B11-E8735328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5C750F-748F-4B67-86A7-AC162131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E5812-E4F7-433F-AC30-7FACE13E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471A5-2DA3-4F1F-9D15-9488F9FE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ECDA7-FFE9-4964-811F-63D93F58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DC113-4C76-4D50-AAFF-59F44621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68042-59EC-4046-8B9C-AAEE3B98F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A69CC-D615-43C5-A773-BCC401A6E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49827B-C44B-48D7-8B6E-AD06191E9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9367-1370-4CA4-9A35-0CDCCC082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0F4BD8-B8D1-4107-8A40-03716E3E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510A97-96AC-4664-AAF2-F99AFD26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D5440C-41C7-4430-BFE7-BDD20B8A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8A4D8-1E5C-410E-B930-4C545845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ED8B02-9A25-4D5E-B3C4-F130503F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AB2D5E-91FD-4827-B2D7-40C022D8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C8FC3-1E41-445C-B57C-4CC5E865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EE1F1-112F-4350-9C48-1D32E5FA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EE1B0A-A501-4526-BD8C-35559059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D8BAB9-2709-4B36-B955-06F0101D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1713-9F9B-48A9-8011-3833592B0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EC85DB-A2C7-434B-8F60-2543F5A91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9E96E-0C38-43BC-BE24-253FF31EF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2B25B-025C-406B-83B2-0A14B70A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75EF6-3198-4BB7-B61E-9AE31849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F4DA6-246F-4E75-B03D-9B0B0ECC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682DD-D2E7-427A-8CFD-3D93656C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0F1B8-175E-45FC-B5BF-9F8B0BB6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A22C2-B263-4DDE-860A-A6B33D62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E8DB4-4EDC-4FC7-B332-8F02B37A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2839C-F394-43C9-AB33-DEAD404F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74BC-3573-4BBB-9CDB-CEC199C00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2B246-5FF2-4F31-8DC3-26FD769D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2BF99-3B1B-4898-8C41-7DCD8C036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4A564-1AE0-4130-9F68-AAFF5BFA3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3481CA-9A08-4806-92C8-689FAF8F6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AD8D33-B8D0-414E-9B26-DCFAC4DE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EFD5A7-502D-43CF-85A8-387C51E1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E6E003-64F8-493C-91A5-9318E4F4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D2ADA6-FA05-4AB8-A006-AAF6A477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76E808-009B-43E1-81A6-6B0D7CE9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BCA0A1-9742-4094-9AAE-CC0C4939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D076-9A49-4F3E-9B61-33330FB9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C8F493-6E94-430D-878D-FEA7E6FD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841E2-3C61-4222-ADB4-0267B562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E53E85-5F57-4295-9469-DFB8A2DB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724E3C-3A17-4937-943F-8BC5AC953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7C7C45-046D-4AF0-BEF5-F3899AFEC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DCF809-AB79-4526-89F0-3CA671C43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D96942-4003-4DFE-BD0C-F1A2125C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D56DA3-C52A-493D-BF91-D5AC7939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05F4D6-80A1-4E9F-A075-97E8F2DD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ADF3FE-8AF0-4C0B-9D31-DAF88DB8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C9FE-2D5C-4229-A32A-383616D5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C4E1E1-83BA-4092-870C-DF159E72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7686EB-3D7F-4C0C-A4DD-149621B4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1675BF-14E4-4163-864D-B74C0D07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52A5AD-CCF0-4ED1-B87E-35BEE4CC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47960C-76AD-44F6-94D4-3131B534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045B10-BF82-4CF4-BB58-EAB652231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EA4047-608A-43DB-909B-02050A1E7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3DFCFB-CB30-4675-815C-AE1DC39AC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6BB666-0A63-40B4-88D0-03C8FF2E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C2856A-14C3-4CF2-90DB-43B7F39E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0DFB-BAC2-4101-B3DA-23F7640F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3F18F9-1C11-4060-9B5F-E4901A34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623216-2969-4010-B23B-B59FF4E0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FE08F4-0B5A-4953-B7F9-F9905931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85A61F-40EF-4C07-AED9-FCDED49B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93EB2D-58BB-495F-BE0F-DE0AF95A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64DF47-4769-44C4-BE23-7E1CFCBD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D8320F-6142-4E50-828A-19F93E24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37F5FE-7BEF-4F2B-BDC5-38935FDA9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BC2F50-C002-4F58-97A6-29D4BE616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870231-FBA1-451A-9413-61AACB74F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7491-2C2E-4FF1-9892-CC86AAA0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8062C6-7077-4078-9228-DAC2A1F1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28523D-7513-418F-BD8E-05614450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A1038A-6FB6-4366-982D-47E3C51D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C29244-2C3A-4064-8A43-68A02736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014A4A-6E7F-46B7-91D5-54909651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6B3F61-958D-4992-9BCC-EF83F395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9E56C4-CDE1-48B6-AD6F-E1852847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AF1BED-19E5-4104-A743-6EBCDA0D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8D3AC9-BF4E-4A52-81E2-46C0EDFD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CD8D89-900D-4C42-A53D-4190FB30E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EEAD-AF47-4C15-9689-881DDB90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CE4EA2-083B-42D2-A65B-3FBDB7923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E10257-125C-4C78-A223-1C443ACF6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02B0B7-F51E-42ED-80EE-80114671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39F1BB-7991-498F-A2DC-4EB173A8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01A0D7-1DE9-4FCD-99A7-6CACD515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EC6C0A-CE2A-4369-A7A7-767D1FE1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55EDBC-D1B4-4C44-9332-90AA6B78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160C25-ACFE-44DE-B075-A4C894B0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363CB0-F698-4095-9B59-DD62C8B7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B5F897-CCAA-416E-A8D7-64AFBF0F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8A49-CD6F-4FFE-BA78-A19FB2C0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632E90-EEB8-4C18-9B08-4177F99C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2A7D18-EC3C-4A72-BAD3-D4F5B7D94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EE2986-AF36-4846-9DA9-A83601A0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EBB087-642F-449B-8AAA-4D214C261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9EAF8F-C4FE-4149-8891-D8501F06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4C9FA6-4D36-4361-B5F9-22F80AD2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F5B853-2488-4E4B-AFC8-D5C3A21B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84F180-EBD8-4658-9A68-37AF78EF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D8617E-C23E-428D-9016-8164C8F3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415809-21D0-4C10-AB98-2A7EC4E8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5F72-1AF6-4D54-888C-C5AE477F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C3F0-FAA1-4396-BF53-3AA20C13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6C9F8A-3236-42E3-9D8F-670066CF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7A2FC9-6B4F-4AAC-9081-A894AC9C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F20187-2721-46B1-90E6-11296C25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8C3141-B808-4BED-BDF6-81C17DBB7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539C09-93AA-449E-AF40-F1C0B4B55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FAD954-1864-4804-A58A-C32B8D84C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821986-4E05-4205-B647-5D56D446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334B89-CB5E-4BAA-9077-84ACF245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DE6CCC-AD32-4003-AA36-0E6C05FC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CE781C-11A2-4B67-8072-A7BFB269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884D-4A35-470C-8626-D450425D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926B53-DD9A-43BB-9253-D612859C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F7C8C8-03EC-4124-90B8-20BEF06E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8FDED9-B3EC-470E-802D-9D544061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8DE8EC-D048-49CC-96D0-3D5DFF42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011ACC-4732-42E6-98FB-FB58C5B3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8A6F43-2608-42A7-AD4E-2F1294CAC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9D9ED4-0AFC-4FD7-B9D5-B66BAFBD9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AF8F-47EE-4FEB-8CAE-F20E3AB7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C973-031D-4F2C-B04C-B4CDD25B8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7926-0A4C-41D7-BE2E-F4F13A4F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C50F2-586D-4033-994F-F076C9CD2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2F892-AE00-451A-883C-F2FCCC6E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FE988-5132-4ABF-9459-548CA106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56809-B14D-4F9A-AED8-0DC0A891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06082-42C6-4DFE-8FD8-217D9B26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E76C-EA7A-4003-B2F9-E99F5B27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724CE-EE1A-481C-97BC-3F65C252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58A64-BE28-4566-B1F5-A6285AA4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077FB-0ED9-496E-8FC4-C93C2150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2E96E-25B2-4D00-A56C-5EA15A41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86B87-8842-4B88-86DA-86F797BD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B979A-48C2-4F3C-8998-DE0C7690B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5E03B-4899-44FC-8C3D-8BA4E96F8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DFD3C-6A67-49DE-A629-9827D458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48688-F802-4DCA-8CC8-258E49F6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71471-8D4C-4762-8212-1E9FC1A6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821C-3662-495C-91E8-B4FF12F0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FDE90-2F5B-4409-B42D-9DF35244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B7B2D-CDD8-4887-B7C9-6778000B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55531-12FC-4865-B29E-64C710CC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FACF7-2844-4930-8B26-5DB57581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76D03-3E29-4046-9560-5BFF3467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E278A-C3F3-49AB-A628-A9284583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3138B-E25F-4F97-8F7A-F7A0822E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4C768-0153-43FA-8DFF-2E01852E4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824B3-144E-4155-9B69-0E8859AC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2F97F-95BF-405B-B86C-A906616FF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94B3-FE6D-4C07-94EE-27FA72AC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21783-ED1D-4979-AEC7-19D7B7F7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4E8AC-618E-4395-82EE-8C5E60AF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4F263-6386-4CE7-BF7F-630C7492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A75A4-B0A7-4E16-806A-A778A322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FADB7-2AF4-42D3-839A-BDCE44D1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9A393-39C5-434F-8319-3820E87B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4787F-1CF5-4DB0-AD96-E82F6187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C4EEA-D71D-4DB4-B5BD-A98E7D9E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8352D-C653-4918-B61E-DA1970EE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B3728-BF35-4442-B383-2AE273237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1C12-46DF-4422-8982-D24C17DA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2571F-8B5E-49E4-9021-386C23307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B6967-B10F-450C-B9EE-0867AB5EC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725FE-0846-4965-9067-6701933C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3EF70-000A-461B-9551-FFF7DD21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9D366-4D01-4883-9850-53DF9964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0A4C0-6D5F-4958-B237-2FBBE7E0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F04BF-3FC3-45DD-9C22-BBCD9740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40FD4-6768-4A9C-BBE3-A8378319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176B0-ADC9-4B80-B356-C391242F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52807-E20D-4334-92DE-97D21BB1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E7C9-9B70-4A20-88FD-12DA8D1D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02932-0672-4DA4-BEFC-3AF99DB1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F52E0-7C3D-4718-BE1E-4A9BFD5C1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9B4DB-1DC2-4DE1-B112-AA9819709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B1C9F-C151-4CFA-8DFA-0EC2A70AF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63AD5-4B75-4A43-BBC1-F56B75BD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C55D8-DB2B-4116-A995-DB25EB92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99A08-5BC6-4216-8865-05D70235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20089-9FD3-4899-A847-C5197AAD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C7E4A-A72F-4014-AB9D-0E269AD1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CF34C-4ED1-4051-A619-057F163D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0333-BC20-459B-9275-E251CBB2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3C249-3AF7-4F12-9FFE-9AFE23C9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23472-EC42-4543-A067-F6A7C3EB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E9546-1A06-44F0-A943-7100F626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1B05B-E691-48F1-9DF7-E40F4D6FD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A667D-E8FC-4669-98E8-785AEE843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3D5F0-1D7A-4C0E-920C-852835854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39230-ADF8-4762-9B30-D6E9F681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C50D6-C729-4127-985E-EE080ACF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DF6D2-A721-4BCC-BB6C-38A4FA58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F0F42-8E88-4825-8076-8898834D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1EC8-0FA0-4BFE-AE76-6FF68E13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D0BC8-9BC6-4779-BF38-24D1A478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01CBB-79A3-44D0-9B08-7B2D08C8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B7B35-A31A-426C-9EE7-DAFF5CCE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1502E-FA40-4A30-8A04-60F40D96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39DEF-C639-4B99-95C3-B02BBBAB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FC55C-0151-442E-A75F-E6DE4B7FE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1E5C2-9ED0-477C-8915-F5FFF87A8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916D6-8AFE-4411-A1C8-0676E9279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B45C0-1C94-4C6F-9B57-59037FAB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5C623-DF4F-4653-9423-9C417865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F47E-0E46-4613-AAC7-9643D580A4C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4D12-E87B-4EB1-A6E2-694871D719A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B8B0-E556-4B99-BF8E-F411BD53920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1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B76F-85A9-426D-BD34-2982E8F8916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7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6C97-3CB4-4464-AA49-C6B220BC02B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ACE5-7E43-4F3F-9D65-5049AB1E25D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7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3B02-C14F-4EF7-9379-1779189C261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E8ED-A77C-4CE8-B970-6B206A394BF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00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dt" idx="5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 type="ftr" idx="5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 type="sldNum" idx="5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5646-8235-418C-86AD-0A40228BFDD2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F62A-7E83-4DBE-BF6C-50CEB2E0C5C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8361-F012-4F79-AF22-223C6B2CCD7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9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F7FC-A15D-49E6-B224-D1B0D84E7D3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05AD-B7DE-459C-8E82-948D416DD63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9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317A-3442-44BA-8288-BF5D81B0B8C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8102-F7EA-4AE6-9D4A-C2B06DE9EE5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2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A98B-849D-4650-AA9D-BB917884C0A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8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BBAD-2EE7-407C-A49C-8C2EC9DED14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3C63-34A4-4BDB-9376-F51B891B3FF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3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3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18CE-4A99-4126-BD71-73A29913CD1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10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7C4D-8F7F-454B-B441-7C94A202CD9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98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A4B6-0A83-43CA-B833-888FA039E7B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3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5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0" dur="1" fill="hold"/>
                                  <p:tgtEl>
                                    <p:spTgt spid="1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714D-D6A0-4F8D-A5BA-3505AB056D8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0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8809-96B2-4136-9941-6764F9BEA61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16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E0B9-49A7-4CB7-850B-467E4951DFA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2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2" dur="1" fill="hold"/>
                                  <p:tgtEl>
                                    <p:spTgt spid="11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04EC-E572-4C43-A6D1-821EA8CF8E8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27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28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EA2D-C724-4891-97D6-91C753A67DC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3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0" dur="1" fill="hold"/>
                                  <p:tgtEl>
                                    <p:spTgt spid="113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D056-CB3C-44F0-BABC-C41F3031198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9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4" dur="1" fill="hold"/>
                                  <p:tgtEl>
                                    <p:spTgt spid="11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1F4C-7B1F-43F4-8C71-43424E82A8E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46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3" dur="1" fill="hold"/>
                                  <p:tgtEl>
                                    <p:spTgt spid="11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14" dur="1" fill="hold"/>
                                  <p:tgtEl>
                                    <p:spTgt spid="11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D903-A85B-4091-A508-DD6C8858936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2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31 October 201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DAA6-A3BA-48EA-9FF7-0FA8E33449C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1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8" dur="1" fill="hold"/>
                                  <p:tgtEl>
                                    <p:spTgt spid="1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84CA-0A56-42E5-B636-6B23954B6C2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8" dur="1" fill="hold"/>
                                  <p:tgtEl>
                                    <p:spTgt spid="115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31FA-E3E6-45E4-A4CC-0508B9152BA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7" dur="1" fill="hold"/>
                                  <p:tgtEl>
                                    <p:spTgt spid="11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D6C8-E67C-4C7A-8F0D-C61028BA69F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541F-80B9-4A12-B683-2F74DB33013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2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29E0-2AD4-4ED0-A3A9-150AFDCEFE5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7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894E-3ECB-47D8-8567-0F773C0A9BE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3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4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5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6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7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8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89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0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1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2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3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4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5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6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7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8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9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08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09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0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D8C0-9EA6-48DF-9516-09A160294B5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16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7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A480-760A-4139-977B-3FCD530423D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3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05E8-45AF-4A38-9EFF-30163439BD1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9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5D5E-348D-4C02-A169-2C1B0B6A7B8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" dur="1" fill="hold"/>
                                  <p:tgtEl>
                                    <p:spTgt spid="105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8E2C-6203-4FEB-A696-4799F2DD365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5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4F11-A5EA-43DE-A79C-8FD8DBDD143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1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2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4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5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F6E1-87AB-48CA-8C1A-96B89BFCA2D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7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8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49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5D48-A4D3-40CD-9F7F-938C1BFBF2D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4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9" dur="1" fill="hold"/>
                                  <p:tgtEl>
                                    <p:spTgt spid="12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1A16-1496-48AE-9646-CA58E5278D4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9872-A46D-4F9B-A88D-C9C7F6DC860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66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5541-5D7B-4C99-9155-A2C045D1B14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1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2" name="Text Box 4"/>
          <p:cNvSpPr/>
          <p:nvPr/>
        </p:nvSpPr>
        <p:spPr>
          <a:xfrm>
            <a:off x="1303200" y="3952800"/>
            <a:ext cx="769140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5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434E-7798-4C5A-829A-3C8CA2EF2D1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77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1379-CA5C-4390-82CA-858E64D919F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3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6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B611-0290-4013-85EE-40B3B97715F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88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89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0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F963-A61F-435A-9DBA-20811D926D5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" dur="1" fill="hold"/>
                                  <p:tgtEl>
                                    <p:spTgt spid="106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5" dur="1" fill="hold"/>
                                  <p:tgtEl>
                                    <p:spTgt spid="106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B147-1DDC-4FD2-9936-6F7AAC1C9B4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B3F6-2D14-4B56-ACB3-367F818D701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1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3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DA29-AE91-427D-AAE7-8D54E3CD602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9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1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522B-3EFB-436D-8014-FB5F6FF16F7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7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9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77BE-ACE5-4DF5-A157-89B9EEF6F21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4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6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86DC-DF11-4173-A117-20DD63A6CD9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D68A-A746-46A7-8287-2F47E47F003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37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38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0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1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9717-E212-4C47-AE4B-40AAB7B7E3F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46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47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E7FC-B4A9-457B-8A87-D9A67836410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4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5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6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08D6-FD4F-4091-B98E-B71B62D614F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2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3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4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5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C5A2-D5FB-4638-BAC0-A2B85552A3E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9" dur="1" fill="hold"/>
                                  <p:tgtEl>
                                    <p:spTgt spid="106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10" dur="1" fill="hold"/>
                                  <p:tgtEl>
                                    <p:spTgt spid="106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3F42-E94A-48E3-967C-B91A1349551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1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2" name="Rectangle 7"/>
          <p:cNvSpPr/>
          <p:nvPr/>
        </p:nvSpPr>
        <p:spPr>
          <a:xfrm>
            <a:off x="271440" y="4076640"/>
            <a:ext cx="86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88E4-4166-4BD3-8C87-07AF2BEE132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BAF3-1482-4D4A-99F8-DB4561BDFF4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3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3" dur="1" fill="hold"/>
                                  <p:tgtEl>
                                    <p:spTgt spid="13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3C17-67C3-46DA-B435-F3192DBF47F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9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0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1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805B-AE9C-469A-A06B-8190AC878F9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7" dur="1" fill="hold"/>
                                  <p:tgtEl>
                                    <p:spTgt spid="13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7285-381F-4E87-98D9-49033E60804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1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2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3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6C96-DC5B-4EB5-B96B-4814D315B8C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1" dur="1" fill="hold"/>
                                  <p:tgtEl>
                                    <p:spTgt spid="140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F4FB-DBC7-4FFC-ADC9-11E0662D8E0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0" dur="1" fill="hold"/>
                                  <p:tgtEl>
                                    <p:spTgt spid="14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222C-6F78-4E5C-97C8-16334D766CE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BD51-8070-46D7-A23C-3C2204353CE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4" dur="1" fill="hold"/>
                                  <p:tgtEl>
                                    <p:spTgt spid="10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D303-5494-454F-9C3D-3DE9AC3B032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8" dur="1" fill="hold"/>
                                  <p:tgtEl>
                                    <p:spTgt spid="10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1E46-6A58-478E-8C64-51209AA17C5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3006-041A-4E42-B928-541D640457C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4" dur="1" fill="hold"/>
                                  <p:tgtEl>
                                    <p:spTgt spid="108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5" dur="1" fill="hold"/>
                                  <p:tgtEl>
                                    <p:spTgt spid="108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6" dur="1" fill="hold"/>
                                  <p:tgtEl>
                                    <p:spTgt spid="108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7" dur="1" fill="hold"/>
                                  <p:tgtEl>
                                    <p:spTgt spid="108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3-08-28T11:02:27Z</dcterms:modified>
  <cp:revision>98</cp:revision>
  <dc:subject/>
  <dc:title>Aims and Objectives</dc:title>
</cp:coreProperties>
</file>