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B7B-F928-41A6-98D6-C9FC2B96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FA7-E66D-4C11-ACB5-CC63217E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703C8-C3E6-4468-BFBD-F6D82076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BF0D8-3F96-431F-94FB-E2BC545F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5C15D-E02B-447C-A242-38AB2E8C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44D92-F08D-4733-8A51-4F61D0CF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BD4FD-A0B4-4C6F-9AC5-C0FB6311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CCF14-3E4F-4F8D-8F3A-B59DA09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C4282-4205-4B5F-BBA1-1B398A3B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B7CF7-B45B-4F34-90EE-D2A198D3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4DD60-E94B-488C-9D9C-7D2ABB821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DA859-BAF0-4803-941C-4B42C1E2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A4B-A729-4B6B-8B1E-7C9B8F9A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D0410-0DB5-4EB5-8C86-7ABE0819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55BD1-2A4E-4E41-A1A3-C198A598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84D98-4A79-4F55-8D3C-C447C622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17ACC-3F18-4311-B7F4-3356BACC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951FE-5486-45FD-9A24-6D3B39E5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5F537-2FC1-4C9E-8B8E-A77BFB02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95773-D219-4A57-BD93-6B9A9D76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AB8D2-4117-4D1F-B369-EACC9A6A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81996-A4D8-415F-A29A-29AF18CE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711BA-1343-4A2A-8FEF-2A47C4C9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E29-9ED2-4A3A-9017-BCE0BBA0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A28C8-F686-4D56-9864-6891782C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18371-6128-4CD6-B43A-9C5ADF19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E2300-72F0-4C02-95C7-4B866F9F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74A03-D629-4FDF-9D9D-E7280190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4C02F-05F5-44DF-B4BD-DE2AB02F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E9258-53CB-4964-812F-2122CB43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D077D-1CEF-4AD1-8A62-64E43043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15ACD-197B-4959-AB47-E9642C20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1E37F-3DF9-4396-8390-5D906B5B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721E5-47DE-4CB5-AE18-7FB7148C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E709-CDCA-46CB-AF6D-62B8D137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7FDD6-008D-4D94-8469-DA9F740E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A4B10-D736-464B-9F2C-B920F5CB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02F6E-3E24-4EB2-8091-F912FEB7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372C0-E9A1-483A-988D-DEA4DEBA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B21F4-8352-4D9F-8759-B3A28CCC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6F3EA-9C47-4AEB-A9FC-CD4367F6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52D9F-2084-4331-926A-38454F5A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A82A7-9022-4375-AEBC-64CFACE5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3B32C-F7F3-40FC-BAE5-AC311EBB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DD2EE-9F19-4A37-87FB-6172F5D1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B139-393B-4035-B9C8-764FE464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6793B-482B-4317-B387-46F523C2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9C941-3AD1-4D2F-BFBD-984CCDF0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A420B-B3DC-4DA6-9B44-5CBD41ED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9E73B-B15E-4C0E-8ED5-F939709A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BAA31-D232-4943-9D78-008237A4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AF540-CF5C-4AA4-94DD-4153170F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F93A3-1D88-45F9-9786-83466D3D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52DE1-CA78-4F58-9B45-A8C3C760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1E42E-1EB8-4BFC-94D8-8E8301D2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E64D8-005D-4FE3-BFC7-6BEBC97F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D243-C5BF-40AB-B809-69AEA391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24619C-74CE-4C53-896F-79514D41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586C2-4B9C-4BF0-ABE6-C3252F79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1DD9F-E5F5-4065-B321-AC6E5746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00946-E80F-40E0-9125-BB96BA08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3978B-1302-4CC0-A009-AAF04320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75769-8120-4A0A-8166-6F0D0662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5F4EF-D214-4363-89EB-C9ED049A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DFB36-EFBF-46DA-8975-01DAE062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38471-A4EF-44C4-8886-01F0E475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C92CF-D3FA-4801-99E7-EED939C8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98FA-2D71-4B22-BC7A-9DA2E453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14F65-6E41-4BD6-B8F2-C40D7B04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5B3D9-DC91-4F77-A07F-F5BC797B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9C07C-3921-4A85-A9C4-7C776ACE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D1398-E83C-4DBC-844C-6C68089D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00D601-3852-42C5-A30B-29918C3F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1F8F7-995B-47E6-962C-97DEEE60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96A69-8133-4240-AFD3-44A5674C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98E1E-8964-42F3-AF61-493CC70C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7B514-5873-472A-A1FA-11BDA336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9C4B0-9C4C-42BC-B89A-E0E43E5B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7349-4B7A-4E7F-918D-5B0A896B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CBACE-27CB-489A-AFCE-77D85F1D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1BDB1-148F-4E81-945D-EBECDC61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FFCF6-6E03-4B6F-B522-D46F1A13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D3717-6B86-4B8A-8DCF-2F17B83C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B73F4-2168-484C-9729-D38E4119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97A111-23FE-4864-9E48-D2CCDAF3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70809-A32D-4B92-990F-D240C92F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4036C-85D2-4C34-9607-8452E2C5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01CB81-3024-41C8-8DFA-2CEEBF5E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BE62BE-F67C-42BD-9CE0-BD498BEB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7651-54E2-45C4-986D-5E2DDFB6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2EC6F-5142-49A0-B1F2-A1198792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28C30-469D-47E1-A025-A3E00717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F559F-C88C-4A92-831B-F6596D2A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BD2CB-09BE-4134-B690-D373BD2B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73E9B-E4D3-42CD-8E31-49210E7C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57E3D3-9B68-463C-A2B8-FB8EE1A1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BC1B4-0D20-45A0-BAE9-05DEA517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2A3ED-ED86-4EEA-A15D-7B9FB870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77C69-F058-4664-9288-7184B024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72777-D2D3-4DCC-9699-D06B7F1D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A26F-C0B2-4DA0-A364-41F43E0E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74755-23F3-46E4-B50D-F15D1E27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4A925-2291-4927-94F6-54834C73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356AC-74EC-467E-B65C-F25ECFDC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48175-FEBF-4D7E-933F-43705FB0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5B7C2-38F8-44A7-A32F-8B02F940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A1E87-8764-4B40-8381-A6B37482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344C4-ED62-414F-BE74-55823D04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C729A9-39FC-414D-B97E-B1040DAC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09A95-2A80-4EBB-99A3-B30A4F71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79CE6-67C2-4755-8632-B78F129E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384-81B9-420D-924C-8B6DF8CD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09C3-B2B9-4146-A4BD-5C5CBE3B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0823B-CCC2-42EC-831F-0566333D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CF2F3F-00FE-4AC3-8DE5-C4FBBBE8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FEFD11-439A-458C-B6C4-92B584B7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62162-A6FD-4976-9B6B-84322B83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8899F-F602-41EE-85B4-C703A3BA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A37E6C-AC53-4A8E-B541-7BB1F1E3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1C422-5E0E-4021-8DE7-5392550B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1EBE93-D21A-4FF0-8A51-3F7E610D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395D4E-1E82-438C-89D1-1072449A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1BA81-72E0-4398-9989-A6F1E7C0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32FE-813B-43C5-8A39-1E3ED684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6B3F9-BA04-4AE1-9953-65B7FECF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E09B9-1DB9-4B14-A5DC-DADFE66B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41D6A0-6C06-4CE9-A105-6724340A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9AC0B1-77B1-4C97-AE1F-DACE843B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05818-FC61-479C-8882-F004FA0E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65FC7-EC8D-4CB1-84A2-C513E7B0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BFA569-BCF5-43E8-BDB7-516E3B1F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2636-5916-490A-A065-D29CF421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A744-B53D-4BA6-BF25-37559216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6373-E6E4-41BE-A904-598BF12A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6B16-E41E-4BE8-BEC3-178D3DE8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3E9B7-D451-47AD-BA7F-91C1D5EC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4BBE-B052-4ACA-B6ED-B2A52682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A384-F1EA-4C40-B7D7-E2E8F99C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3F45-9AFA-4764-BDE7-2C73BA68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048-18CE-4B0D-B34F-C3AD204B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82C40-C16C-4C93-981E-8B3AA594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197BE-CB3A-47F0-91CE-5043865B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CA5C-75DD-4E34-A5E5-8B10BF75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86A67-3E27-4480-8E65-50C4698C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60875-7986-426A-B175-20EC9DE8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7B62-E465-46B8-994D-089BAFF1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606AE-A652-4801-83CA-0D410030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EC2CD-D1FC-4D4A-B3E8-019F011D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43F27-0C2B-4D78-B4D0-79D42223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369A5-BBA8-498E-A744-4D73630B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A656-A747-4DA7-8223-529C970C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631EC-0F13-48AC-AFAF-AF7E1F6C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FFC1E-4CDF-47A7-BE35-985A5C70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25D3-760A-4AAA-8D4A-76C9E83C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D6F2-8BA7-498F-9479-B59E12AB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CB7DF-E410-409C-BE13-C37AF833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32F40-55C0-48A2-8269-441E9168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954C1-2809-4283-B7E8-F766B592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53DC-BEAB-4BEA-BD6C-13597A11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8E410-65D5-4F1E-A17E-721C0CF2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30E78-C452-43FF-8FEC-CCA64A79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63A-BE33-4047-968B-4F24A63A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A3ABB-B879-434D-A052-691A9BF6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02C22-A1CE-486A-A81C-B1B14F43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9B765-DF74-48DD-A210-CE7725CA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12025-AC74-4870-975D-8BA18C0A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C082D-6951-4645-BBDB-CD555F2F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62B45-6320-417E-8A0E-E2F4A0AB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E0E9A-A501-44E2-AA33-EBC6060C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95085-AA53-45B5-83B6-45C1BDD3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EC191-2169-4CC5-AA9A-EC9649EB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C7E81-A231-482D-9A34-22C0E5B6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CB1-1145-4BDE-951B-FF1CD46E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45666-308D-447F-BAD6-9DC79987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B9A37-1FCF-4172-8A80-96E3F907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71E22-1E8D-4B61-9E52-46E4A465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A1C64-96B5-4E46-B4FC-45760FE4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F03FD-2AAB-4711-9AC6-0BBEA569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66428-485B-450C-AA00-54E0185E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8277A-7A9F-41A3-9D08-EDF33072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CCEB0-112F-4BCD-9C57-5782FE00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5083D-0670-4225-A494-2669B19F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0A8DB-65A7-4842-A936-41D33288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A9D-D28C-4BC1-9A6B-C810AA3A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E7445-F78E-4F22-9091-C9D11346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2D54B-B7DD-4E39-8388-E60E89A9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373B8-C6BB-41C3-9CB1-16DC4714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06DFC-29D9-4047-BD57-2FA56131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5355B-DF5C-492A-9EDF-74538D52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6C24A-DDD1-4C74-8276-1A35481C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71AD2-F149-49A5-8BA8-9E75CC1E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F3FD9-0096-47EA-BA40-CE23676E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036E3-BB27-4150-B5E2-C79B731E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7CC44-FA6D-4208-A028-B1D786C8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E6B-CC2B-4C1E-AA29-4C844D73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F9D0C-4765-46BE-95B2-C37E2C9A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058C8-5D6A-4AAF-88E9-02CD8F6A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000C5-187E-4474-8745-893E4FF0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D2501-2A5D-4A40-89E4-DC92BE80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C161D-A5CF-4416-A889-10696DF8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F6FDD-EA98-4469-BD5E-E6441805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E1455-CA5B-4D1A-8C29-26D11558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607CF-F928-4871-862F-CDED579F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B3184-33C5-424D-9763-3391414C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37595-0DB0-44C6-9B1C-CEC5C176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A0D-D827-4FE5-BD0B-7EC522F9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260B9-41FE-4803-A3B3-ED1CD943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A34E6-BFA1-4691-94C1-B9AD7A51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C4E87-5B94-400B-AB70-4C38AD6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DB4FF-1C98-4530-9933-97084490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75301-F06B-4270-A6DF-BEA52730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5267E-72A3-4AE2-808E-3E80C357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7D7CF-2A50-4A16-9DAE-349F6D52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75544-5C92-42B2-89A0-2A2F5E48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8F100-EBB4-407A-9755-9E0E8B15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05867-C2F8-4A69-B61D-D5956D66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6CCC-E15E-463B-9345-E6A8F01F585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31C1-2A31-4491-B44C-C76F1928AC4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BC94-3585-4E10-8563-2A07F106FBF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ECE5-9805-4747-8605-958D395177D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AF6E-4B7A-4B8E-A3CA-77FC052925D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2B5F-8945-4AF1-A02C-A0052DB66AE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23C2-C7F4-4322-B34D-9D385DA721B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1F73-C20B-4BD4-BB6B-2733DE24400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F103-4072-4970-AAFB-DD82E71E8E6D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54D5-D117-4C11-B8C0-19EFD5AE6E2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243D-5D9A-4123-8883-5BB69FEE43C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6C50-4470-4855-A347-255E8F86083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4FEC-A475-4153-A67A-8200E10D9B4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E0FF-FB15-4C46-9553-2DEADFCB1C4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21F9-83DF-4D73-9C10-48F046E5DB6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72F3-39FD-4891-B04F-8C6A71233F3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th November 20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2857-2EA1-4FFE-AE95-C3AD457E903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8E5D-95E4-4F5B-966A-CC4F337818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3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3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FA6F-AEF5-4C84-869E-D5B0AFDFE5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0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D262-74C0-4CF2-A789-1E07DF5DA5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34EE-19ED-4151-A8ED-97E3B89D1A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6A54-D9F2-472D-9584-3B2AE6F136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A0DC-9B31-4290-BE00-962C35FA8E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49CD-7000-4670-A7A0-0A9B4158CD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A9F2-60FF-49AF-A14F-235878CD27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FAB9-68E7-4EAA-A244-8DEBAFD907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113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B9BE-03F4-4ED3-9F82-EE5B539A6E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CF19-48F6-467A-AF5E-BD8F5145DD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E03C-D70E-4818-BEE5-7F9CEC49440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31 October 201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D23F-1A10-4266-B13F-B5A38D2BC7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1847-F161-47CB-A79F-E5783367DC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1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8AEF-F73A-4252-B80C-FD94F487BC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A88C-2533-4EDA-B3F5-1F6EE9F357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14C9-611C-4557-880E-B9460AAD07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30B1-F1FC-473D-A1DA-199D837D27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6D65-C3A2-4C29-A17E-6627E5882B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B781-20F3-4F2A-81B7-0815CC7F71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9FDA-6F66-409C-A250-558B49CF639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4A9F-A1F7-47F5-8B5F-3368C19AA2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E17F-F2CF-4C00-8F21-C8381539AC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0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21D5-50A5-4463-BDC1-C8C2BC22F45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20E7-175F-469F-93AD-D5BD95F664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E6AC-553D-4A16-B6B0-8B668E7E1A9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9D40-CDB2-4557-9D91-DEC40B58BF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89AE-8044-4917-894F-28FE284EB4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A5F3-F268-4409-9B14-AFB8D3497BE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C29E-4569-42B3-B6A1-924D3E120E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BBA1-D4DF-468D-9DD2-3F052B17D9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CAE6-2AFF-4900-BBA1-93906E319A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974E-35AB-4591-9F6E-6B2CC016E2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42AF-7168-4BDB-9246-70CEBA87691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10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10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AC80-751C-43F5-B88F-BC1E5B3957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CD45-E847-4820-A9BE-72ABD0CACC2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E29D-C878-4215-B457-0D1092FD1A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78D1-6E4B-49AA-B026-36D87957BF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8374-FD6D-4448-896E-A9C037F0EF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7C77-04C2-4930-B556-BA49E466C9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F35F-0428-4EDB-ACC4-F36DEA6C17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748D-E17A-495E-982C-6FA0A4E217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3A29-27AA-4945-A8D7-9B3BEE0337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C982-C98C-4781-B181-519ED23347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CEA7-03C6-4EF2-82DB-999D08C7BB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D6D9-9BAC-44B1-8454-FED6DBE217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2056-F3CE-485D-91C3-2CF5ED66F20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B34B-E9B7-46C3-B4AC-BB572C2011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13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96BA-19A7-41F0-85E3-F7211D42DC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8500-CC05-4583-A539-F079D4CF6C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13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A549-6E96-4810-AD50-5E801F2EA4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23A8-002A-45E6-92DD-6E714DF72F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4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B6F8-1F8C-46CE-A401-EE5C5C5680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74C2-97FC-4AAD-8F07-9CD53035E5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1F06-4131-45CF-82B6-0310B8A92D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10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E43E-AC9D-4950-9E55-C98D24FE8E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2A58-A1B9-422C-9BE5-49AD0CF6644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7th November 2013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3763-130D-4347-98D6-369B594396A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10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108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108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108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3-08-28T11:02:27Z</dcterms:modified>
  <cp:revision>98</cp:revision>
  <dc:subject/>
  <dc:title>Aims and Objectives</dc:title>
</cp:coreProperties>
</file>