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D07-6DD9-4E86-8A17-12BE201D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4BA-F52F-4EFD-B347-3823A658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012D9-F783-46F4-8A4B-6C1A820C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9D93C-228C-4C9E-AE25-5322BC5F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9B51E-35B2-4A2D-9F01-F0E1E8D9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86FCC-84ED-4E25-91E2-19E8A1AD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615C3-B306-4382-A3AE-7833311A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D66E-F776-4F23-9F22-84245890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95A0D-59E5-4323-9E7D-033A1F82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1797C-0CF2-48DA-A469-8DC2C49A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D784A-EC97-4AE9-A450-6E732C96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99667-59ED-4731-ABF0-AC4BD2CC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532-F2FD-4760-A85C-785C6AF9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36F30-5888-4CEA-B43A-771393C9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0AB0B-2D6A-4916-8943-56FA7CD1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D0AB1-9E15-4A11-9136-8DC00721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2D875-98CF-425A-94F0-01312278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60326-037F-4C35-93D5-7EF86401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D6722-F277-4007-B177-9EF45F07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4C997-83A9-4997-929A-954432DF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AD5DD-C7FD-4003-BE29-5983225F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5F586-DAF6-4B62-95C1-F10F1F70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F649E-5A59-47B3-B2FA-2897C631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85C-D280-405D-BE38-2FDF3326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14DD3-217B-497B-AB0D-186404A7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68D61-7FCE-4138-973E-439F8D2B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9E31C-8BA2-420A-AF25-A37500F4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667F5-A8C7-4EEB-B013-B17B5C2E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0133A-AC88-4BA6-B6BD-31896094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8D4F9-889A-4795-850E-943E1C0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3F9FE-BDE0-4C42-9BBF-F06358CC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9C5A0-7CF5-41DB-B4D4-C0EAA4EC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E2DE7-7483-45E7-8BB9-4E0BDA36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3182F-05DD-409B-9184-D9021431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C312-E1E2-4722-AA17-76C84C8C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F9C13-6A50-4BFA-A9D3-B946D395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76142-75E9-4ECF-8CDB-F9457232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2C1E1-A5B5-4A5A-B5D5-18F55CD4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3A225-2B00-4EB8-B532-2AB73063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891C4-CD7B-4981-A6B3-B9CA0E02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6222F-547C-4BAA-95EF-0AECF920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7DD36-6A8F-42B1-A2F8-DAA31D69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1500A-9AAE-46D0-B93E-C2C0ADB8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FEFDC-4664-4BF0-817E-46AE4202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C2C45-1773-40CA-B339-556F4555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3EE9-1EA6-4E67-A73F-E8520B7E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68EC8-7928-4005-A222-02534C8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46F02-7599-480F-93AA-A7C2E78D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32A31-C85E-46D4-A3EF-505D0B4C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88918-2745-43FD-9A16-348C83E3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DFA04-11A4-49BF-98D4-4E6CD67D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AC8E4-173D-46BC-8EBC-05E142AE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1805B-746E-4F9C-B0E7-B710FA51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1A357-7A86-4C5B-8180-2F832AF8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4B558-EB2E-4EE6-807C-60FD0E64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3B7FD-F9CB-4A6B-8023-B3459885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0FBF-AA89-4013-9C5E-E7F4BB58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DA19F-BF95-46A8-A7E4-8274D3E8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00644-CDE4-42D6-A4B8-00C57B9C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E2B0F-47B1-4E0D-9DE1-3C366413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221FF-5251-4D34-9650-675FDBED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5C403-975C-4279-BE38-7BFD5E30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229A5-969B-4C3E-8209-9D146575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6FE03-E19B-4CA3-A8FC-A109FDC0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B79E38-B52A-4697-982E-1FFEC29A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F91A1-A6F7-46AC-825A-D6BAD1BF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5E5AF-58B6-401A-BFF9-010CF97D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BFE3-0197-4E18-993F-7C71EE49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D1C13-AF2A-47E5-A3CB-E2684D50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22616-41F9-45F0-853C-B5E5C720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5040B-E036-49C0-B994-18892A0F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486ED-A8DD-4A22-B8B0-78A3560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C477D-84CB-49DD-8B91-2ADF1D20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5B52D-4CDB-42A0-B55A-8DD2286A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28EE3-7DEA-4EAC-AB48-7989D26E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86677-8DCA-4142-95C3-83353156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6562E-1DC5-41E8-90BE-7CFD6183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78F6A6-3EF0-4395-9CDE-EF2BE4A9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AD1E-D214-424F-98CC-3EDEAB48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17E34-D3EF-4B85-AB6B-46492D2A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00A5A-BDAD-43F9-B97B-6C50ACF0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9FF1D-0323-4F71-B7AD-323BB2BD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A4E91-4BDC-4F2E-AB26-AA83A56C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8117D-5C57-4ABD-A7B9-5BBC81F6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5D051-4099-41D3-AFD3-35E9A41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7E28D-5CBD-4FD3-947D-02B44BC9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E1978-8A72-4393-9841-87F0A22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4D00CA-7DFB-47A5-B41C-28B1631A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187C7-1E7F-4D02-88AC-73CC7D48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AA47-723F-42E2-9B79-565F7AD4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31461-3966-4A80-AFFD-B51A6BC7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F1615-77B8-41F7-9008-93570F1F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4C6BF-2319-4794-B75B-292648DC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E174A-33D1-4F6A-9266-3C9632B4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2AEAF-A88B-43B5-82D4-6CB88672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2FEAE-D3EB-497A-9D00-23028AE0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8AB4F-7826-4E78-8EC9-3BA61CB5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57F62-7BC8-4C7A-808E-A4773EC9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90568-BF02-4FA4-A632-F366DDAD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BCF97-8A19-401E-A1C8-27165A56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9994-A28E-4724-BF4E-F45347E2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193FF-280F-4C75-A562-B7FB8D79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0C6DA-3A8A-4D3F-990E-E0E4B416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67158-0990-4D7A-8814-16DAAAE6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9D26B8-9F52-4F6B-9FCF-86B8B2C6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8F8CC-1B31-4D44-9DA1-636D99BA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265730-EACC-4170-B7AC-57958721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A9366-30E1-4092-BA34-71AA18AC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D735A5-BADD-4900-9364-97375F74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FC6099-BBAC-4985-922A-F851302B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54891C-D488-4FE6-B1D4-CA9F339E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4AE-A637-4B90-A58F-A66DFA2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EFFA-869B-42D9-B955-C1CAAF34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A705F-CD0F-4D7E-B0C2-3EE916EA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63113-31BE-4DDC-BD2C-9E254A77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26381-C431-40C9-A6FE-66E575FB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E9941-55D2-4396-9365-2727D6B7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8DD189-BDEA-42F8-826C-A93CBA8E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5BB4A-29E4-4D17-A308-3C5C33B9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A2366-014F-4D80-9FF0-901F424B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1F17A-DD39-416C-AAF6-98590231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8EC42B-C896-4675-B116-3E80B200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C479F7-4337-4BBB-84FF-3BCBAB04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92F4-63DE-4F48-B49C-0B6C071E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DC26F-E19B-4229-B702-3462E2A2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AFBB41-069E-4285-81BB-4CF300D6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1D4605-4BDC-4504-B0A3-D2C67205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5FDFD4-4542-4AA5-B1A0-47EA24D3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9AF95-333A-45CE-879C-2369CC62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0B7E3-6647-45A9-AF87-4EF7B7F5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A37A2-03B9-447D-807B-E913F51D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538A-5DDD-4098-ACE2-28E7DCF8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08E2-4148-4F39-BE2B-DC52F22C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E894-2271-4E9C-B4FA-53B03D16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3817-180C-4994-A63C-707915E5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F4F5-F90C-4E4B-963A-A15B6C23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8C7E-21A0-438C-ABE3-5E924E75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DCCC-EA19-4DED-AD37-80ADCCBE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2F2E-264F-49C5-9A55-8D28D0FA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051-8032-44A9-A43D-9A282797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52B5-9E08-407F-9657-40C636F6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D7A6-092B-4375-9F50-DB3B016C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B00C-746E-4AA9-8742-9C94B781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E6E9-EDF2-4B9F-A280-B1A99383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5DF3-7985-4D4A-907F-BACE3F0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16F8-1E40-4C05-BA9A-92CC4743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965B-58C8-496A-B980-E66C6C50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C05C-209D-4AC3-AB47-772C43E2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A256-CFD2-45F0-AC13-C56F1197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00FF-E99D-4A05-94EA-8BC81B93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689-DAA1-42A0-950C-E5ED6FC8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2514C-52C4-4DF0-BE3F-62760913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FFFA0-E6D3-43B4-B104-D87A011D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5E06-385A-4757-9578-8EFB3C1E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B9C4C-74B3-4E80-8922-1460C1A4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2D22-D6BD-465F-BA44-4B26E829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0B79-7358-4BDC-85CA-88C19F0D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61F83-63D8-4B2B-A3B6-70C42617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93F6-2B2A-4183-858B-BE11A595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9357-7C30-4227-B9FE-E0C71343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CAD9D-D097-4A1D-B9BE-300E4D48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220-731D-4294-B197-5ACF6A40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8A733-F570-44B3-98EA-C685AADF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DA1C7-ADC7-4A88-AE00-25882354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60BDB-A37B-4913-B968-13575E23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8E8F6-77C0-46A4-9BC8-848907E9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23222-0830-4D7A-8F25-566DABAD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A7B18-3DE3-4813-BD36-57D53F7D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887E-569F-47C6-A815-5F5FAB5E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39F3A-CF70-41AA-BFAD-EEBBCBD5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4A097-5C5C-4E05-8292-F4A4521D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9C1B5-CDC4-4059-81FA-BB50E98D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140-68B5-4F8D-8BEB-7A7E958A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64ED3-203F-4F65-91B4-BF5F4F94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1947F-B72E-4A49-81F9-13523CFA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C6A07-CB24-4B2B-9BB0-E309EE8F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F2458-28A7-4436-B698-898BD67A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1412C-D136-49A0-8162-CE4F292D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C35F-2625-4A21-88EA-EF689601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D245E-805A-4714-8372-372F973E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2438A-9721-4921-8F9F-6D8F986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2C99-5D95-4176-B2DE-BD3BB1C5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5E2A7-ACAC-418A-84FC-E940A53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AAA-5AF3-49D6-A6BB-40532079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9749C-B513-4D3D-B328-0122B97A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67185-EBFC-4CC5-B042-64AB6E2B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85CD4-AB49-4B36-BEF5-D87B81A3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36BA0-7C4A-4C90-8B97-CEA9CEED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83E66-9A6D-4E04-B043-464B1254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A7CB6-C133-47AF-9D92-FB59A11C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4623C-E176-4AD4-8881-FD9F1304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4DE12-F739-42D6-AC40-DC1CA65D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1F406-B478-4A04-B0D8-D40F2DCE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B473A-542D-4F5F-88D1-F5CFA50F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C6F-06E9-4540-BEF0-7690F4C0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B1E4A-4859-426D-879E-CBCC6D08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FADC3-FBA2-434E-A453-CC50DAD1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7D5B4-CCE4-4B35-A424-572261B9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D9ED9-6098-4CFE-B1B9-16F22983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E2932-84CD-4CA3-A1EC-3451009D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0FE65-A9BA-4B99-9F6E-D9BE6D9E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40B2B-6765-4D5F-B07B-7CC067F7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ADC42-3AF7-4685-9416-AEE12F7E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4D6DA-5AFC-44C5-8C67-09AABD16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E7A16-3E38-42FE-ADA9-DB243DAA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B99-0296-4B12-8C41-F3BBA562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2786E-6C17-4FBA-9175-D17EAD62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0AA3B-98C4-408E-9F0D-DCCB1BA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BE527-C74D-4275-AABC-ED9A673C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5707D-F0EA-41C6-8834-2857D657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6DBAC-FAFB-4EB3-A05A-7759977A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34C26-211E-4F87-A29B-A2917787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663E8-4F7F-41F2-BCF6-3E22846C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EE2F6-689B-4120-846A-BBD0D919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AA98A-71B6-43E1-9777-7E5D2A8A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DA7F9-D576-4EC4-A574-AC518510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B4AE-55A4-4AAC-A427-0BBD44B5474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89CA-1997-45B9-81A7-ECF9BEC5B4F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D142-8AF5-4569-9A6A-9E210BB1220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9604-40D3-4B7E-AF0C-89698A54D3B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59DD-64F0-4051-9001-072B487E079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38EC-1B5C-498E-9915-74FF791BB1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AA09-D90D-4B80-A531-12C60A5F12C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891C-CCA0-47A2-A2A9-319C430B03C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78DF-78B6-49F2-A87E-9FD2731F4A5E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F262-371B-47DA-8108-A6531FC131E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0D17-8955-4FD1-BA6D-FE3E3801CEE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D4F6-6190-4DA6-8ACA-685E07E7537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3D06-45DE-44CE-A733-8F503F59340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1C38-96FF-4A0C-BA24-3FD1B21AE7E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5653-B0E9-4881-A339-0EF306509F0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C4DF-C2BD-4B4B-A5F4-95C49A987B4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ECAC-AD0B-4044-8562-5D950241B5E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81DD-F1A2-4007-B372-C01567CC7E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3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3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EC7B-EE75-4F99-8C85-9373A9B9C6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7EF9-4100-43DC-8CFC-67015F9A32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F228-A18F-434E-9AF7-118F473DBB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710E-1F03-42D6-9A06-D6D87668F7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13A9-92C1-495A-A426-FEA4D9DF51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0B91-7A40-489E-A384-E62C03AB5F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BA2C-2433-441A-AE07-51B1C4ADCC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258D-BE58-49A2-A98F-D94CA1A59F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13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CF00-5E8E-43F2-A1A2-BBEB280C6F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17C9-7557-4A1C-B185-9F920ABF62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CB06-EA90-45BD-B3FD-90D473B582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E2CE-7E6B-4F53-AEFC-BA5DE409DF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C4C7-93E1-4141-8E34-3276DB8F2F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1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0E7B-D7B8-4563-B07D-D79AABC1F6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B194-4D3D-42D1-A91D-92C9E2F46A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348D-F301-43F9-AC50-AD0A8E4A98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051B-C3A4-453F-8EA5-10910CB64C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0CFC-3D62-4AF3-BE98-D4603B16B5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A43A-16C2-43DD-9A29-38AB5C3C5F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BAE8-ECCA-4316-8AAD-20D6B8A4A3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68D2-0EEF-417D-990D-C8FC6CDB65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8F39-9932-407B-994F-3CE25EC3F9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0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84E8-EB2A-4DD6-ADF5-3BF2F6BC7C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34F0-BFB2-4143-B0DB-A848500A78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96E0-139D-4916-A402-07D514CBA2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1120-AE51-4FA0-9F96-2DD72CCBBF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6625-635A-4734-B66E-CC3C25A9A1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0DD8-774A-4D68-8DE1-1F505AB073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C359-B96B-426A-BDC2-0F62D9112D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9833-A6A5-40DA-BE96-6C95F76ACA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E700-3683-4F86-B8F9-D21F7C11B3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C2AE-7B4E-4696-AEC5-E1E71C41EF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910-1BCA-477D-9189-4CAEF52FDE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0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10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B178-A79D-4F96-8C4F-4ED069B788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F982-6B99-4127-B84C-5BA4313E57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DD05-4F53-4345-9912-8A02BC93CB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6AB8-32D5-498E-8F57-B72BFC86E9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F364-D8D6-46B7-89CA-5937EB0061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D2EE-D408-4BEA-82C6-E3C0683796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48FE-AA12-45B0-B6BE-540A4F7521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9A0B-9DCD-4C1E-87A9-02419A594E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9B70-D360-4B5A-9B87-0A2C37E825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44F0-066B-4FB8-99AF-37EE0A6FD05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D067-4620-46A2-9830-9D1EEAF37F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4628-50FA-4564-83AB-051A49600D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4DBF-CCDD-41B3-8F13-FF0831D51E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98F2-947D-4AF5-AF17-6E8F2884C4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D617-2255-422F-932B-7FE416DFEA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6501-A3F7-4EE2-8EF8-3A3844F899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77F6-E973-4E8C-99EA-AB0687BE14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1ABC-2282-4BF3-AB99-B7762A2C3F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5DA0-FE83-48E0-A16D-506CF550B9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ED27-9A28-4DEF-9980-17A2A8EF045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701D-E635-4798-88B5-0F780D3077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10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101F-F488-40DF-AB82-DD2C92E280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CB2E-5D82-4E28-9BA6-D8E84F462C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29D9-9632-4786-80B3-4C0093BD11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8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8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8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3-08-28T11:02:27Z</dcterms:modified>
  <cp:revision>98</cp:revision>
  <dc:subject/>
  <dc:title>Aims and Objectives</dc:title>
</cp:coreProperties>
</file>