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8C47-C278-4177-871A-BB171CDAA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220B-1133-48ED-9AAA-E2FCCB099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58A0-53B6-4A0C-B7B5-975118D7A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E4CC-8F51-49FD-98C8-BDE0E58A7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F7BF5-5302-484E-B53C-03A7B21C15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703D9-85E2-4F15-BD31-2E757F9FF1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58A19-23F4-4A96-AE08-ED3EC544CB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2D8AC-1C28-4F74-9F15-8AFB503315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23B98-BDC7-4D6A-8EF5-A462D69487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42DFC-4141-4889-B269-EF85C2FE9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367C4-943B-4907-9CC8-40461FBAD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F86F-4850-480F-8371-CD7217930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4B2BD-697A-4EC4-B40D-3409D2914F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8704E-3747-4157-9A5B-BCA53336B2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8A844-42E0-4D6E-8C86-7561051007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163AB-C53D-4977-944E-E1CD180545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93AE5-5C59-4399-A6BB-0F3B210BC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FEF2-BAE2-479F-8BC9-5678D6AE2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A173-C3C3-4E64-8F16-DCFE03758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0C8D-04B6-4FD2-92AA-7813C512A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56B5-4A5D-436A-98A8-7AA46A89A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BC2B-BD96-4E7F-8EDA-BFD2D2561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25A4-E8C4-4F44-BEB5-4C766BF43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D3DF-7184-4B74-B716-E436BFDF1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5C1581A-F5AC-4439-992C-46091432C98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BFAA8BF-2CAF-4A52-9DE9-D6740B099B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53CBF48-F7A2-46F0-857F-073F4C1EDB3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9DC7998-FAE9-4A4C-A959-8C902C576E6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3-05-13T11:23:25Z</dcterms:modified>
  <cp:revision>347</cp:revision>
  <dc:subject/>
  <dc:title>Exploratory Data Analysis</dc:title>
</cp:coreProperties>
</file>