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DA9E8-C4AD-4DD1-A465-26386DFF3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E3026-3368-46BD-B357-3976061244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5F0C1-5294-4DAA-801D-DA5E267943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C628A-77DD-492A-AC19-63EC3DFCFF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76CCA-66B9-4BF5-9E73-6D7E3BA0E5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F0A7C-7B07-4E4A-8442-1AE1A5396A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4E37C-8CAC-40ED-8E6C-387F98635E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DA68A-95F2-4C86-92F5-2CEF3D040A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C87A4-77B7-46E7-A9A2-2DD9AFB952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A8E15-3D3D-4033-9839-DDB6D9D237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9025C-1E14-4DBD-809C-82DF014697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E2FB8-86F2-4A7F-AE14-1D3B37CE87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4598E-2767-4B09-BA0A-4D166F14CB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B6254-6832-4D2E-A6E5-763E31F258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DCFFB-64BF-42D0-BCE0-6F03EAFEFF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4155A-B37C-4535-B008-BC6FB29A45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09D89-C329-4348-8AB0-B15B472CF5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7B609-C6A9-4401-9E0B-9C5629A180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90188-9086-46AF-A09F-7994D5D6B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BD2AA-9B5F-4440-97C2-1BB8EFBFE4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13FA4-ED6F-4F64-9AD4-F706D8E184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E64E9-D3E9-49A6-9E01-6CD1362A38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872E6-2948-4B18-BBC2-B38693720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3D278-45C8-42C4-9919-5FF4C8B47B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2928ED4-CD08-4449-BD32-3E3B493CF2CF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9D1F3E0A-D885-40A8-AC66-942727C064B5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D86BE16-7835-4003-942B-18845413E3F2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D5FF73E-0CB3-448F-997E-746CF3E366F1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add-on module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6" name="Object 4"/>
          <p:cNvGraphicFramePr/>
          <p:nvPr/>
        </p:nvGraphicFramePr>
        <p:xfrm>
          <a:off x="1433520" y="160020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3520" y="160020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876560" y="236232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6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9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3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1" name="AutoShape 65"/>
          <p:cNvCxnSpPr>
            <a:stCxn id="339" idx="0"/>
            <a:endCxn id="338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2" name="AutoShape 66"/>
          <p:cNvCxnSpPr>
            <a:stCxn id="338" idx="7"/>
            <a:endCxn id="340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3" name="AutoShape 67"/>
          <p:cNvCxnSpPr>
            <a:stCxn id="339" idx="7"/>
            <a:endCxn id="340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94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7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8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9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0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4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16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17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9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0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2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3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5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8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0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2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5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7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8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87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1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3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4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5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54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C455-7D22-41CF-8369-B20C885AB82B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1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3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4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8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9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2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3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8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9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05" name="Straight Arrow Connector 96"/>
          <p:cNvCxnSpPr>
            <a:stCxn id="604" idx="1"/>
            <a:endCxn id="595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06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how many factors “best” account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2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5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6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39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3-02-28T10:32:18Z</dcterms:modified>
  <cp:revision>327</cp:revision>
  <dc:subject/>
  <dc:title>No Slide Title</dc:title>
</cp:coreProperties>
</file>