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A382-1031-417C-8E82-38486E9B7D54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C02E-FF46-49EF-A1C3-B04B974B002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5AC5-95C1-45AE-8DB4-C4016FC8499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3255-3BA4-4F85-9438-006EC6F0E25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E8AF-5609-447B-9C8F-B04BE761B8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1F1C-9BBB-4DF7-8355-166016EE16B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30A9-8F47-409C-969B-F0271244EC1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51F8-27A2-4C53-B5EC-6087F6DA8E5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89B4-B6F8-4F91-9143-D2F65A5DD73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EFB8-7D8D-4225-B6AB-C4DF23F7AE1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F1DD-8187-4FD6-9213-26CFEF9B78D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9899-567E-44FD-9E53-AB1EED4FAE4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EF76-D691-485F-9A78-FC9F2C99659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0536-01E4-41BC-B56D-51A9403A79B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0669-1092-413F-96DA-C75BEB26BB3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3710-8D39-434A-938E-B91289F29F1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2C94-5DDA-4522-8FC7-DA8AC947709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ABC9-BFEE-404D-9806-776ED609D05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15C0-A6F7-488C-9EA0-2C1335856A0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F6E1-DAAA-482D-9FD9-C2E4FEB33FB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5B88-17E1-4C79-8486-0223816419A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8BAE-EE70-46E4-A0A4-75DA8B040D8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57FA-10CA-4D30-B1A4-25BDAF65AE3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B334-4FDA-43C2-9CF9-EF74F6DCC78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8FE4-EDF3-4790-A41F-66C72B70926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ED19-3C6B-428C-9C02-298F4D51F8D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AF5D-EE29-4450-ADE2-B19EEBB9964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39A4-30EA-4CED-A8C5-5AA1D8ABA41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3BC1-3DC0-463C-B377-518F6B3D3BF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2CF5-4FCA-4052-AE5E-6EBA767BCA4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83D8-3636-481B-976D-D9321FFA51E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5903-A983-4A8C-86CA-1082AEB60B1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5E33-2BC5-4F41-9FA7-7EE9D06E36A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32E5-D3CE-4825-94A6-508A038635F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EB2D-29D5-4849-A1F4-B577E788535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655C-3C62-4A06-A34D-CF165031BA5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CE18-1B15-49BB-9430-C0A4DC4DB81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163B-4D95-42BC-B233-2909CB8A701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8900-3FA2-45F5-AD4A-B04F9A904F9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D7F4-58EA-4E92-B31B-63BF0C95A6F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9422-CF01-4DB3-972B-E0F66EC1ED7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2F5D-57AF-429D-AD7A-9846D41A047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02B5-D9CB-4A1C-AADF-316D2D4F51F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0F70-3138-4C5E-847E-14CDA28FF30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1253-F326-4272-84E1-FF3B6FCFEC2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6A35-8846-49DA-AAF6-3A91D8FDB0D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03CE-EDF5-40D6-9A16-BDF5E339CCA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B4BF-DE87-4A05-9780-49690FFC329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D560-1982-4837-8F8E-46ABBE5509E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711C-F2BE-4EBF-B79C-57DC17078D1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98A2-109E-4861-B402-54AF81A203D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6975-D064-42F5-9A7C-8735F7341CA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11C9-BABB-4169-A3B3-BB20EDA95A4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54A2-DF67-4B51-9895-5F5AD1C25FF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F2A-210B-4E22-952F-70FE47AF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8E11-5E3D-43A0-97E2-C64867CE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DD47-C6B7-40E1-9A82-DD824AFC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808-48CE-4228-9649-D96A5B88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6CA6-FE29-46FF-8E55-6EA4C733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90F5-EF7E-43FB-A698-7EB40F7B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C81-C4DA-4112-A452-3E09D034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AAAF-E557-4710-95EB-8BB4841E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56AF-BBF6-4A74-B97F-1B819E7A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4C43-2E7B-4EAE-828B-AEF905DB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2E9E-E50E-454C-BF03-CE134E1C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2908-F0F2-479E-B19F-6C96A687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3726-8555-444D-B6D4-BB3AE85F5DE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18296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3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17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3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36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8" dur="1" fill="hold"/>
                                  <p:tgtEl>
                                    <p:spTgt spid="1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5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1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8" dur="1" fill="hold"/>
                                  <p:tgtEl>
                                    <p:spTgt spid="21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2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1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5th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9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8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3-08-05T08:39:43Z</dcterms:modified>
  <cp:revision>94</cp:revision>
  <dc:subject/>
  <dc:title>Aims and Objectives</dc:title>
</cp:coreProperties>
</file>