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A255-0DB8-4A53-8648-1F990F75BBF5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09D4-E75E-485B-8137-49C287C0A0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5335-2966-4A3B-AEB5-C5376618AA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D1E-1826-46AE-A15A-383ADB6A7B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CF64-72AD-4B51-89D9-9E100189C5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B330-BBC1-4A7E-807C-8AF3082E14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346D-FB0F-4DAA-A85F-C1B78E7734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F8DE-DA7B-4C5D-9601-56ABBC734C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95D3-1FAC-4730-9147-1624AD273E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4A12-4B61-415C-8D2D-E59EBDD7A2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13C1-42A1-420F-8EB1-EFEC9A458B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426C-F3E7-4EC3-8BB8-5DC697A771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BB3D-89AB-46E0-8D9D-E97F0B438B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99FB-05DB-4D30-9967-80F38F4B0F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FFBF-444A-46E5-8CCC-591E216914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361F-2911-4EB6-B626-9F7B0CDDCE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2E7-80F4-42A8-A99E-2C4DC12171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B978-3000-4119-848E-C922843927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F3ED-4938-48FD-9B08-A19EC011EE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AFA7-1C6E-432D-828F-FDA7B21175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BD6-4D70-4F42-8D57-50C6EEA9E5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89E5-181B-47C2-8D5C-81424AB8FA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AB27-18D4-4E52-B2E6-E05A3BDB3B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C51E-5F2E-4694-8675-74D702F4B2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7AF3-CE74-4F24-B546-B4F2D6337F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E288-234B-4D4E-9D1E-67BDB6A24A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160A-A82E-411B-B86E-97C37FF725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C08E-6BFB-40FB-B1DF-6D648E8CB4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33E0-E7B0-4016-A351-F92C70F370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FE58-78A1-41B2-A6B5-FB905140E4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F771-2F02-4882-AB37-9AAD9F7C19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29A0-B27A-4CF1-9307-FFAC2D6D68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1BBA-21CD-4EBC-A279-121AB7700E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26ED-3CD7-4A5B-9A69-4151E7380D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632A-3C0D-4AC7-8479-A78C9CC3AF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33E5-6E80-4BF6-A7A3-0D9C789E986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F4C5-EE48-4270-B0FF-4D6A65F1D1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B327-2480-49EB-A8DE-84FD07D1CA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FF2D-2E3E-4853-8E66-066E0D50F2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EEBE-A6D6-4F3A-9EA6-94368E9B3A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4587-4B20-4C49-804C-8CD84C31C4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ADE2-1370-461A-AC99-9657C7CBBE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2710-3A79-4509-85FB-2976DB679A7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A474-E82F-4519-A70D-7316EC3D13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D842-5FDA-4D64-9236-6C30AD401C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CF8C-9FCC-49A7-939E-E5A30F4D51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6A64-356D-4733-B191-F63C30A712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A112-A1A1-4C88-AA96-E1F49A8F87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165-7AD4-44C0-94A1-983D2D31D2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B146-3145-4933-8641-30928E4292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4D5C-DB77-41D8-B2F4-77FF772D1D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678E-228A-4AF4-B2E2-0871292E7C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3DF5-C1B4-48FF-B7E2-69731551C1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A876-EEC4-495C-A17B-65DC7DDF22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2A5-7FA5-4048-B663-526C32A5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D00-A00B-4D36-A86A-624FA25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656-494B-475B-B0EF-DB09A060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A39-73F9-41FD-9445-25B7B3AA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134-9D56-40AD-8CDB-A0D7B5D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390-215E-42CB-9203-0EE0461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AC5-D812-4781-8B4F-91290507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AE7-FC73-4076-BBF7-357FD7CC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A99-4190-4FB2-B731-FC202AE8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CF9-A9E0-4E70-A624-C44F9B33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497-435C-4188-B76D-C35BC1B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C4F-68A7-49CA-82BE-03EF5C18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7073-C848-4405-B8B0-4621CDF13F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3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5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5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3-08-05T08:39:43Z</dcterms:modified>
  <cp:revision>94</cp:revision>
  <dc:subject/>
  <dc:title>Aims and Objectives</dc:title>
</cp:coreProperties>
</file>