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3575-AD91-4694-933F-2144ACFE21F4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9B7C-94B8-4499-850E-6CFCA1F8B7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876A-25B2-43FF-80BD-A94902301E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FAB-0871-4E78-9454-C28265BD6B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AB70-A561-4949-8221-9FDFF485F0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EE5-E9FE-4885-9088-573D0B1B8C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DF74-76A3-45BC-BCC4-1AD83220B7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42E0-8CD0-45E4-8B17-DFE3EEA1D7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255-840C-4D34-B63C-6680F014E1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7E47-CE1D-4627-BC06-B5DBC6019B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5C6E-5124-4AE8-B8E2-D4A924304C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F3F-09DF-403C-BA67-2815E3D639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38B5-4861-4D84-9E93-524B5CDB57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3EC-78DF-408E-A1E4-1C9426D89C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C3E9-44A1-45D7-B69D-D990E5FE2A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B1BC-ABFA-435E-8F44-C56CC12291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5AB7-E306-435F-8FB2-CABF7E10A0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9734-FAB9-4149-ABF5-74CDC0B76B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6B5D-CD75-4D5F-89F7-AD33DCD368E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163-E78D-4C93-9F89-181C2FF575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9B1-2B4A-4CDE-BCC8-88178ED687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760-C571-4ED2-B3CA-CCE5E42C16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92F1-CBE3-48D7-BB78-2B8D644B92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C43F-83AD-4809-8D62-7E225614FF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13CE-8202-489E-93D9-9D63C1AC92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CDF-6F53-4B7A-B85A-09A6D29664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66D9-7EE0-4590-8D6C-30D78AEF34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016-7076-449E-9E5A-AC25031F34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876-15A8-4343-9A54-8E75D292E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A91A-7960-4BD2-A2EA-58A30BD152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DD87-39B0-4432-B72B-27A7D022B8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7F3E-33BF-4920-85B2-57EC4F36E3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DBFD-3578-4ACA-9F6A-0EC28CBE87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4D8A-A519-49CD-84C3-483A1EE32F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70E-CBE3-4116-812C-B0F4E21E4F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0661-1F0D-41FD-975C-9A55A19E8D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0BCD-5FFC-47EE-82F6-883D19F197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E608-BFD3-4756-8BB4-0D9076A6DB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8529-2285-4850-8544-8B5E147830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881B-C7E3-4532-A4ED-0F45F2D0A8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F8B7-8AE6-4F61-9526-B4787ED770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B525-680A-4C59-AC7C-3F05B21F03E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718C-AE1A-469E-A054-C999D51782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C151-6C8E-4B11-B48E-6C7B375F4C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30D9-8913-4A3B-8A82-DD5A72DE05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9D7-F6EB-43D0-885D-661E7F77AB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A986-5F3D-4478-897B-AED46BEF418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66C1-A1FE-4964-B93D-6161CE90DC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E3E-BBEC-45DC-AB0F-49CA614AE0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7DE7-86F0-4B93-8D3B-065ED314FE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B8C8-0B0A-450B-97A9-F0E441530F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00C6-A54C-47D6-BB98-3466D16EA6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2BFF-0692-4A22-8435-AE185D5AD5C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CA6D-F16C-4B36-8C7D-BC9B9E1F841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8CC-24E7-4170-B78D-994AC098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34C-5F74-4E96-9738-01803BC1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27F-B832-49E6-A6A2-3E0C2DFD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720-017E-4D54-A5CE-24F8ABB9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5D29-C173-4263-96CE-DE3B00BA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727-39F5-4B45-B96E-3F8274E4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B68-4975-4836-82A3-3E9B1DB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C33-E847-4EC3-B007-793B1D1B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74D-1A4A-4A23-A24C-E03619B4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63E-3E4B-49B5-896D-FEF555E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22-A0CE-4E63-8F91-FDB782F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FAF-9CB5-4D26-8691-B2F880E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52BF-A752-4992-862D-43D352F2C2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3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5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5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3-08-05T08:39:43Z</dcterms:modified>
  <cp:revision>94</cp:revision>
  <dc:subject/>
  <dc:title>Aims and Objectives</dc:title>
</cp:coreProperties>
</file>