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4C414-4F5A-43E3-B6FE-BD7A78003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4A919-DE42-42AF-AFC7-04CFDD0E8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45C1B-572D-4290-B7FB-E001E07DF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E0B80-AA75-45B1-B767-341D1F9AF9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A0ACA-8215-4492-A54E-7CEED46732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61A3A-1AE5-46BB-8524-897BF30544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578F6-6ED0-4471-ACCE-71907A8E7F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E0F16-3249-4AF9-BA0C-F3D11ECBA1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14A2F-BBEA-46E2-973D-BB1C126107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FA398-422F-47C7-A8E0-483648DCCE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54E2C-DEDB-4E3A-860D-B403CC0C4D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3C697-EA31-4E5E-9C7A-CBC09B1B49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C17B1-EFFA-4E8C-A3BD-4A71E92642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B0D0A-C8BF-401D-A9B1-FD87AC8E4F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AF2E7-8369-48E2-B07C-9A1BC7A5EA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1EFE4-6C08-4A1F-84E0-3349A8FD10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7344C-9D7B-4D7A-9E3E-46045607A7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93AAF-B115-4EF3-9D31-58248FC07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A74A0-2EC2-48EB-B683-EAB310CDF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449EF-7A8D-4A40-BBEC-9BD812FF08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6803F-1F8F-4275-A2AE-0F7B950C6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EA9B1-A4F2-41E7-9F85-DE8AA2D9E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9B28C-382F-40E2-B489-198C816E7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BFF78-346A-4525-A8B9-3A98704EB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3C013DE-A0FD-41D9-BED2-A3820F76708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C7F406A-6E4F-4211-A9D9-40740CE6E55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F40E8C8-16D6-47EB-98BF-5B7A55EFF55C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0650C3B-7528-4DE9-9F2C-DD4F29417798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oton.ac.uk/~cpd/anovas/datasets/" TargetMode="External"/><Relationship Id="rId2" Type="http://schemas.openxmlformats.org/officeDocument/2006/relationships/hyperlink" Target="http://imaging.mrc-cbu.cam.ac.uk/statswiki/FAQ/Doncaster" TargetMode="External"/><Relationship Id="rId3" Type="http://schemas.openxmlformats.org/officeDocument/2006/relationships/hyperlink" Target="http://www.albany.edu/faculty/rfh64/power/power.html" TargetMode="External"/><Relationship Id="rId4" Type="http://schemas.openxmlformats.org/officeDocument/2006/relationships/hyperlink" Target="http://www.aprendelo.com/rec/power-calculato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rField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cancer sibling study: 222 possible to sample but 80% response rate and gender matched siblings will reduce sample past 120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maging.mrc-cbu.cam.ac.uk/statswiki/FAQ/Doncast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3"/>
              </a:rPr>
              <a:t>http://www.albany.edu/faculty/rfh64/power/powe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4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rFiel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3-02-28T10:32:41Z</dcterms:modified>
  <cp:revision>222</cp:revision>
  <dc:subject/>
  <dc:title>8: SAMPLE SIZE DETERMINATION</dc:title>
</cp:coreProperties>
</file>