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D8D8-7BAE-493F-9C31-248C2B32F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DC56-D843-45F8-B244-C0DC0CE34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5872-3F6C-425D-B7AA-E8494D006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06FB-F22F-41F2-8C90-0181CE557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C7926-9F72-4A7B-9446-D5FDD8D0E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6454A-718B-45AC-B2CE-679C0DA43B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2A9CD-5355-480E-923B-238AE4382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82182-EBE4-44D6-B02F-E9FCF414EA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9A914-4451-42FD-84C1-81EFD75EF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F51FE-32AA-498F-860F-9665CF6F7B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9176-70E4-4D1C-974E-98A09C7EC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2062-CB00-41B5-9A21-0C3044B4E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F876-92C6-4526-A4FC-FD3B051523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54296-164F-402B-9137-0BF85F44A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B916-A9D8-4CCA-AB9F-7C4D3ED986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EDDC2-71BF-48F1-B711-21166E883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19C75-D9E1-40AC-B676-E861884A1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4525-99FD-4FB3-975F-1326D7F8B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7B87-D992-4FC3-BCFA-3E69CD038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4636-6C1F-46D6-B4FF-78AEB12DC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76AD-0AD2-4E0A-A0F4-D367193EB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8CE6-9B20-4F7A-876C-CB4C401DA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AE13-C959-46E4-BD5E-DD19DD95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253E-C4E8-4D9D-851A-B05B81B6D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88D97CE-1633-4273-9649-3B2D7CC9FEA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D416D15-EC8C-44AF-A1B7-9C68C1F9F0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E15D02-BBA2-45D3-8872-9906A654057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044E08A-E905-4A40-BA80-CC3E76A1D62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3-02-28T10:32:41Z</dcterms:modified>
  <cp:revision>222</cp:revision>
  <dc:subject/>
  <dc:title>8: SAMPLE SIZE DETERMINATION</dc:title>
</cp:coreProperties>
</file>