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1.png" ContentType="image/png"/>
  <Override PartName="/ppt/media/image28.wmf" ContentType="image/x-wmf"/>
  <Override PartName="/ppt/media/image16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6543C-0D65-4087-921A-1FF5909D7E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6FA84-B219-4557-A179-F5AA73D946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9EC73-23C7-4E28-9CA3-E1E9EAFBBB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0B9D9-AFF8-48F9-808E-BF49DD4FA8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33496-A68B-4695-9716-E79969F774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1CDBA-DBD6-4F80-9F07-CA3F38A995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B17680-7AA9-460B-9CB9-3BF3206818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BF834-77B7-44C3-8D7D-E0D944691E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8DFA4-1B6C-4124-82E4-D745E95C6A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B3A36-67DB-4D95-9A7B-560A9D77DD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8B0D2-F561-41BB-95EB-42FEFD6F77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B4026-363C-44F5-9102-7BEDEECA3C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E6C1C-A726-4496-B919-17C1E6AFCD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10EDC-4CED-4E73-A0EE-B78038C4E7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37ED4-D43E-4F5D-A5E5-6293772A4C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6A909-D4D6-40D4-95AD-BBA5FE16FB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5E3CAF-668B-46A7-B5D3-0D9FA1543D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6E8E9-002F-45BC-A575-67FFD91330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04B69-C1B0-4307-B653-09E75EF3E3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6C39F-1A12-4AA4-8FAA-7EAAC9862B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7D9FE-81F5-4162-B57D-DCDA7819E7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2466E-4BEB-410E-A35E-E9E5D33DE0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8AE4B-EBB8-4280-A1BB-2C46A3F9CB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962D2-3DED-4313-A355-EDD1802660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C596619-FAB4-452F-B881-93546641ED48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968EAF71-19AF-45B5-9E9E-A4252FCD82B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6965AFE7-2C96-45D6-B33A-335A2091CF46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92FE4C7-BA5C-4E0F-A010-B4100A07E4ED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rcentile Bend r=0.24, (downweights outliers; Alternative to nonparametric correlations)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arson r = -0.0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85" name="Picture 5" descr="U:\My Documents\PERCENTAGE BEND R\pbdat.jpeg"/>
          <p:cNvPicPr/>
          <p:nvPr/>
        </p:nvPicPr>
        <p:blipFill>
          <a:blip r:embed="rId1"/>
          <a:stretch/>
        </p:blipFill>
        <p:spPr>
          <a:xfrm>
            <a:off x="1619280" y="2133720"/>
            <a:ext cx="64087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8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5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***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path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* Partials may also be used (Dugard, Todman &amp; Staines, 20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6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0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un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on statistical significance and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erba and Pek (2012) Individual Influence on model selection.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sychological Methods 17(4) 582-299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302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n TWO weeks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he General Linea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shara AJ and Hittner JB (2012) suggest a rank based transformation if outliers are a proble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13-08-05T08:32:50Z</dcterms:modified>
  <cp:revision>303</cp:revision>
  <dc:subject/>
  <dc:title>REGRESSION ANALYSIS</dc:title>
</cp:coreProperties>
</file>