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2F472-D4AB-45C3-9F60-60E172605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23773-CCF8-4C65-BDAB-67014EDD7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D8EF3-5F98-4FE4-9E06-72D53A9C4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6478E-150C-43E5-844C-A97506014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4153C-2B59-4278-9BB4-27D45992C8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F4371-2DAA-4292-8128-0C9C39A7DF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FA056-8FD9-46A7-9922-DF9333669F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59C48-FE39-4DE9-A201-F6F8B32B02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F22A9-B330-4AF1-80AC-2CA1A0CD95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DD2B8-8EE5-4DFF-8399-3976227CFE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23346-42E6-43DE-971F-4A4EB12C6A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4A18-83B2-4A7B-9A73-128DCD088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B86FA-CA76-40F9-9CB9-AB95AD3586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562E0-C525-4D44-84D2-48916AFFE9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4651B-D8DF-425C-B1F4-D69A54E1DA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A370E-B65E-489B-AEE8-19C41C3558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C54A2-B683-49AB-9908-62C1B6DD21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4569-4807-45F9-AA9C-EDDAC14B4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3A3E5-5725-49A4-9503-1494F64BC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DD3E-7859-4392-A96D-D01B00660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AD9DD-8703-4EEB-AA54-091E98BD6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B1E9-5030-4617-877B-01D43FE50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55FB-FA58-437F-BC41-CFA2D977A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85D37-D1F6-4816-B208-37F10D32A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043634B-502B-4970-BD4A-A9BA5D47371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5BF2D0C-E165-4A15-9C31-8B7693F00BF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E50965E-66BB-4E30-BF66-E55D1A9D3A9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27E020C-65E3-4914-B100-5999999EA8F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path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3-08-05T08:32:50Z</dcterms:modified>
  <cp:revision>303</cp:revision>
  <dc:subject/>
  <dc:title>REGRESSION ANALYSIS</dc:title>
</cp:coreProperties>
</file>