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2.wmf" ContentType="image/x-wmf"/>
  <Override PartName="/ppt/media/image25.wmf" ContentType="image/x-wmf"/>
  <Override PartName="/ppt/media/image1.png" ContentType="image/png"/>
  <Override PartName="/ppt/media/image28.wmf" ContentType="image/x-wmf"/>
  <Override PartName="/ppt/media/image16.wmf" ContentType="image/x-wmf"/>
  <Override PartName="/ppt/media/image27.wmf" ContentType="image/x-wmf"/>
  <Override PartName="/ppt/media/image15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F7D3-289B-4BBB-A745-6F6FA20E4E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FE3BE-7B87-4401-B7C6-E32934E29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E3425-6C99-4472-817F-11D243C0A1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AA88-32CB-478D-A8DA-E54E645C8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DA7111-6575-4206-8945-9C546CBB40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B9CF0A-E118-4921-8172-7B84BEAD8C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E5C8C-721E-4C71-B5A0-0B2924B7EF9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6BBFF-9CF8-4106-8E1D-B69DCDA86F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504605-A6FC-42BB-9208-9703FA3163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A54BB-0194-49DD-A005-756D819B05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BA64C-9385-4F29-856A-DFB4CA4CA8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86025-1B26-42D6-96E4-86448C7E0A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27D79-2270-4479-B0E6-8061DB90C6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A5616-7F83-4DF3-BF04-5A5292CCCA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2E44D-9A4A-43EC-9AB7-63D7BE9557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57E7BE-D505-4BD4-8260-D31DFF564E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99E4E-6D0B-4476-BABF-4B5AEC6DC7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2A11B-4DDB-41FA-97D7-25415FE43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B6FD-3402-45F1-AC85-824E42FFF8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C2BCE-06CE-4A15-9D15-F04DCAB38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719E-BE28-471A-9552-2D85DAD84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97CE5-5E04-4EE3-839B-263363F09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6A07E-0278-45B8-BB14-8E13CD8541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7EC4D-96E2-4F82-97A8-140009C9D6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BCFD39E9-F1B1-45C3-8592-2F2E24125360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A25E9CD-22DE-4524-9A14-9A4EBA67D5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74182A4-4EC4-41B1-9891-9C52D69205A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2B70E99-74D1-4DCF-9717-F2AAB54B734D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-class.unl.edu/psycrs/statpage/comp.html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independent.academia.edu/JohnFHall/Talks" TargetMode="External"/><Relationship Id="rId2" Type="http://schemas.openxmlformats.org/officeDocument/2006/relationships/hyperlink" Target="http://independent.academia.edu/JohnFHall/Talks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Verdana"/>
              </a:rPr>
              <a:t>2 REGRESSION ANALYSI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9a044b"/>
                </a:solidFill>
                <a:latin typeface="Tahoma"/>
              </a:rPr>
              <a:t>OR Mixing the ingredient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a044b"/>
                </a:solidFill>
                <a:latin typeface="Tahoma"/>
              </a:rPr>
              <a:t>Peter Wats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reg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1" name="Object 4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16779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OUR DATA SETS (ANSCOMB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ach has outcome, Y and a predictor,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all fou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= 3.002  +   1.124*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between X and Y=0.8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 of points very important - don’t be fooled by a regression line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O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5" name="Object 4"/>
          <p:cNvGraphicFramePr/>
          <p:nvPr/>
        </p:nvGraphicFramePr>
        <p:xfrm>
          <a:off x="1187280" y="1844640"/>
          <a:ext cx="75438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754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W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116000" y="1628640"/>
          <a:ext cx="777240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772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THRE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042920" y="1628640"/>
          <a:ext cx="792504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792504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ATA SET FOU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1187280" y="1773360"/>
          <a:ext cx="76964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76964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HECK FOR GROUP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 = 0.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-0.05 + 0.96*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atterplot shows existence of grou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4648320" y="1981080"/>
          <a:ext cx="40384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40384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gnoring groups can ignore a correl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01, p=0.98 (N=11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Group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1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9, p&lt;0.01 (N=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(Y,X1) = 0.98, p&lt;0.001 (N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e group as a “third party” in explaining Y, X1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8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rcel strings (Joseph Petrucell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lity control (breaking strengths of strings) Manufacturers claim that breaking strengths of strings are 20lbs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arcel string tested every five minutes consecutively on each of 3 day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2" name="Object 1029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ing sequence into account (Days 1 &amp; 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8" name="Object 5"/>
          <p:cNvGraphicFramePr/>
          <p:nvPr/>
        </p:nvGraphicFramePr>
        <p:xfrm>
          <a:off x="0" y="2133720"/>
          <a:ext cx="44355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44355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6"/>
          <p:cNvGraphicFramePr/>
          <p:nvPr/>
        </p:nvGraphicFramePr>
        <p:xfrm>
          <a:off x="4419720" y="2209680"/>
          <a:ext cx="4435200" cy="364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209680"/>
                    <a:ext cx="4435200" cy="36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ay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lude - breaking strengths vary differently over time on each da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5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bababa"/>
                </a:solidFill>
                <a:latin typeface="Tahoma"/>
              </a:rPr>
              <a:t>What is regression?</a:t>
            </a:r>
            <a:endParaRPr b="1" lang="en-US" sz="4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Regression is a common technique in behavioural and social scienc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Explores relationship between 2 or more variable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ahoma"/>
              </a:rPr>
              <a:t>Aim is to find best fitting mode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tinuous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thods available for categorical outco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tegorical predictors need special coding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inearity of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Assumption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error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ll shaped centred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outcome the same for all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homoscedasticity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precision of model for all 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rcentile Bend r=0.24, (downweights outliers; Alternative to nonparametric correlations)</a:t>
            </a:r>
            <a:br>
              <a:rPr sz="2000"/>
            </a:b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earson r = -0.0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85" name="Picture 5" descr="U:\My Documents\PERCENTAGE BEND R\pbdat.jpeg"/>
          <p:cNvPicPr/>
          <p:nvPr/>
        </p:nvPicPr>
        <p:blipFill>
          <a:blip r:embed="rId1"/>
          <a:stretch/>
        </p:blipFill>
        <p:spPr>
          <a:xfrm>
            <a:off x="1619280" y="2133720"/>
            <a:ext cx="640872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constant variance (Funne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8" name="Object 0"/>
          <p:cNvGraphicFramePr/>
          <p:nvPr/>
        </p:nvGraphicFramePr>
        <p:xfrm>
          <a:off x="1403280" y="1700280"/>
          <a:ext cx="6688080" cy="472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00280"/>
                    <a:ext cx="66880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Line 5"/>
          <p:cNvSpPr/>
          <p:nvPr/>
        </p:nvSpPr>
        <p:spPr>
          <a:xfrm flipV="1">
            <a:off x="3059280" y="1557000"/>
            <a:ext cx="3124080" cy="152388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2771640" y="4076640"/>
            <a:ext cx="3276720" cy="1524240"/>
          </a:xfrm>
          <a:prstGeom prst="line">
            <a:avLst/>
          </a:prstGeom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-linear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ansform predictor or respon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 give a random pl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a curv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95" name="Object 0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nequal residual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 is observed - expected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or difference between regression line and actual va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ry a log transfor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EGRESSION CRITERIA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4648320" y="2341440"/>
          <a:ext cx="4038480" cy="324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1440"/>
                    <a:ext cx="4038480" cy="32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a pair of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199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Semi-Partial***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action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(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 / path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Williams-Hotelling test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t-test/ path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*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vailable using ‘equalcor’ UNIX program or a downloadable program, FZT.EXE, at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-class.unl.edu/psycrs/statpage/comp.htm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hich also does an alternative to Williams test due to Steiger(198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SPSS syntax for Williams-Hotelling test (rAX=rAY), Pearson-Filon (rAB=rXY) and Fisher’s test a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 cbu.cam.ac.uk/statswiki/FAQ/WilliamsSPSS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 WILLIAMS.X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*** Partials may also be used (Dugard, Todman &amp; Staines, 2010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omparing regression coefficients in the same sample using a single  regression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ing semi-partial correlations is equivalent to comparing regression coefficients (Cohen, 198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…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1: Dep=Crime rate; Indep=age, education get B(Cr1,A|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te 2: Dep=Crime rate; Indep=age, education get B(Cr2,A|E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of coefficients B(Cr1, A|E) = B(Cr2, A|E) is test of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Interaction (site x age) given site, age and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the correlation of Crime rate and age adjusted for years in education in the two loc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 age and education have similar effects on crime rate when adjusted for each other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(df) = (Difference in Bs) /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[V(B1) + V(B2) – 2Cov(B1,B2))]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gression assump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relation does not imply caus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ndles linear relationshi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apply outside rang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t least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5 tim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as many subjects as variables (Hair et al,1998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st make psychological sens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ultiple 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re than one predictor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uared semi-partial correlations (R-square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criterion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0&lt;= R-squared &lt;= 1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.g. R-sq(X2, Y | X1, X3) = A/area of Y circ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4572000" y="1916280"/>
          <a:ext cx="403848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916280"/>
                    <a:ext cx="403848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5"/>
          <p:cNvSpPr/>
          <p:nvPr/>
        </p:nvSpPr>
        <p:spPr>
          <a:xfrm>
            <a:off x="651672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of -1; 180 degre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07" name="Picture 5" descr="corrs_r=-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Where to draw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ion of y at x =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+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lop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* 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tercep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value of y when x=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y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(plotted on y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=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independent</a:t>
            </a:r>
            <a:r>
              <a:rPr b="0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(plotted on  x axi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general : slope = Pearson correlation * sd(y) / sd(x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How we fit the lin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y estimated from x by Least Squa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s sum of </a:t>
            </a:r>
            <a:r>
              <a:rPr b="0" i="1" lang="en-GB" sz="1600" spc="-1" strike="noStrike">
                <a:solidFill>
                  <a:srgbClr val="3299cc"/>
                </a:solidFill>
                <a:latin typeface="Verdana"/>
              </a:rPr>
              <a:t>squared</a:t>
            </a:r>
            <a:r>
              <a:rPr b="0" i="1" lang="en-GB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differences between observed y and predicted 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s r(predicted y, observed 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ans are least squares estimat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4 Scores of Y with values 1,2,4,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m of Squared distances (D) from th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ea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s always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inimum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an = 16/4=4; D=(4-1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2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(4-9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3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(2+4)/2=3; D=4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atterplotting the mea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X,Y means marked by cross minimize total length of red lines and total length of green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4" descr="means"/>
          <p:cNvPicPr/>
          <p:nvPr/>
        </p:nvPicPr>
        <p:blipFill>
          <a:blip r:embed="rId1"/>
          <a:stretch/>
        </p:blipFill>
        <p:spPr>
          <a:xfrm>
            <a:off x="4648320" y="2014560"/>
            <a:ext cx="4038480" cy="38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eta=correlation (one predicto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outcome = beta x (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standardised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predictor + residu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nd beta to minimize sum of squared residuals                           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 - Beta x predictor i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(observations i=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a                                     ( for observations i = 1 to n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dictor i x predictor 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{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outcome i x predictor i }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{predictor i x predictor i} x {outcome i x outcome i} 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Pearson Correl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becaus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predictor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i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outcome i) 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Venn Diagram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Total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S Reg(ression) + SS Res(idual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SS Reg / SS Tot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From ANOVA tab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% &lt;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lt;= 10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6" name="Object 5"/>
          <p:cNvGraphicFramePr/>
          <p:nvPr/>
        </p:nvGraphicFramePr>
        <p:xfrm>
          <a:off x="4648320" y="1676520"/>
          <a:ext cx="42670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76520"/>
                    <a:ext cx="42670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11970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SS(Reg)/SS(Total)=squared correlation </a:t>
            </a:r>
            <a:br>
              <a:rPr sz="2400"/>
            </a:br>
            <a:br>
              <a:rPr sz="2400"/>
            </a:br>
            <a:r>
              <a:rPr b="1" i="1" lang="en-GB" sz="2400" spc="-1" strike="noStrike">
                <a:solidFill>
                  <a:srgbClr val="bababa"/>
                </a:solidFill>
                <a:latin typeface="Verdana"/>
              </a:rPr>
              <a:t>(Simple regression)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457200" y="2617920"/>
          <a:ext cx="8229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17920"/>
                    <a:ext cx="8229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Oval 5"/>
          <p:cNvSpPr/>
          <p:nvPr/>
        </p:nvSpPr>
        <p:spPr>
          <a:xfrm>
            <a:off x="2590920" y="358128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2514600" y="4191120"/>
            <a:ext cx="1295280" cy="4572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4495320" y="541008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t(14) =6.76, p&lt;0.001)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4495680" y="3886200"/>
            <a:ext cx="381240" cy="3808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4648320" y="4114800"/>
            <a:ext cx="304560" cy="12952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it criteria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457200" y="2362320"/>
          <a:ext cx="8229600" cy="300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8229600" cy="30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Oval 6"/>
          <p:cNvSpPr/>
          <p:nvPr/>
        </p:nvSpPr>
        <p:spPr>
          <a:xfrm>
            <a:off x="2057400" y="3352680"/>
            <a:ext cx="1600200" cy="14479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Line 7"/>
          <p:cNvSpPr/>
          <p:nvPr/>
        </p:nvSpPr>
        <p:spPr>
          <a:xfrm flipH="1" flipV="1">
            <a:off x="2895120" y="4419360"/>
            <a:ext cx="228600" cy="144756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Text Box 8"/>
          <p:cNvSpPr/>
          <p:nvPr/>
        </p:nvSpPr>
        <p:spPr>
          <a:xfrm>
            <a:off x="1905120" y="54864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=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 flipV="1">
            <a:off x="4419720" y="411480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 flipV="1">
            <a:off x="6172200" y="4038480"/>
            <a:ext cx="0" cy="13716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3809880" y="53341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Squared correlati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5562720" y="53341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hecks predictors are pulling their weight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andardised residual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0" name="Object 0"/>
          <p:cNvGraphicFramePr/>
          <p:nvPr/>
        </p:nvGraphicFramePr>
        <p:xfrm>
          <a:off x="2484360" y="1628640"/>
          <a:ext cx="590256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1628640"/>
                    <a:ext cx="59025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Line 5"/>
          <p:cNvSpPr/>
          <p:nvPr/>
        </p:nvSpPr>
        <p:spPr>
          <a:xfrm flipV="1">
            <a:off x="2411280" y="1988640"/>
            <a:ext cx="914400" cy="228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0" y="20574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bs(SR) &gt; 2 - influenti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Line 7"/>
          <p:cNvSpPr/>
          <p:nvPr/>
        </p:nvSpPr>
        <p:spPr>
          <a:xfrm>
            <a:off x="1547640" y="2852640"/>
            <a:ext cx="1371600" cy="25146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arsimony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- obtain fewest number of important featur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variables in a model independently associated with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8000"/>
                </a:solidFill>
                <a:latin typeface="Verdana"/>
              </a:rPr>
              <a:t>Shtatland ES et al(2003)</a:t>
            </a:r>
            <a:r>
              <a:rPr b="0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iticise the over-reliance of stepwise on p-values and suggest a best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rrelation +1; 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0" name="Picture 5" descr="corrs_r=1"/>
          <p:cNvPicPr/>
          <p:nvPr/>
        </p:nvPicPr>
        <p:blipFill>
          <a:blip r:embed="rId1"/>
          <a:stretch/>
        </p:blipFill>
        <p:spPr>
          <a:xfrm>
            <a:off x="1619280" y="1600200"/>
            <a:ext cx="5905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2 kinds of stepwise method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Bottom Down (Back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move least un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ff"/>
                </a:solidFill>
                <a:latin typeface="Verdana"/>
              </a:rPr>
              <a:t>Top up (Forwar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art with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NO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dd most important one-by-o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makes a good model?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re are various methods which are used to identify good model fi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F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regression option in SPSS: find best one-variable model (according to hypothesis test), then best two-variable model with that first variable included, etc., until no additional variables are significan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tepwise schemes do not necessarily find the best model among all the possible variable combination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Akaike’s Information Criter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Mallows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 good model if its Mallows Cp is close to 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difference between Mallows Cp and AIC  is explained in Venables &amp; Ripley(1999) Chapter 6 for linear models, and is usually not great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hat are these fit criteria?</a:t>
            </a:r>
            <a:br>
              <a:rPr sz="2000"/>
            </a:b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R Using lm() with Step():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n ln(RSS/n) + 2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ing all possible subsets approa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p  =  [RSS / MSE(full model)] + 2 number of terms in model – 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ere RSS = unexplained variance (Residual Sum of Squar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SE = RSS fitting all possible predictors / its df(err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of form: model lack of fit term + number of terms in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 want to minimize AIC and C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 tests vs model selection cr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and Cp choose between models balancing goodness of fit with simplic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pwise F tests do not directly compare all models and focus on statistical significance and goodness of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REGRESSION LINE.SPS, ALL POSSIBLE 13.SPS AND MODEL SELECTION.TX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Kuiper, RM and Hoijtink (2010) Comparison of means using exploratory and confirmatory approaches. Psychological Methods 15(1) 69-86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erba and Pek (2012) Individual Influence on model selection.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sychological Methods 17(4) 582-299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Facilitator Variable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Median) Income (in dolla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le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 rates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0-64 years)                     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nd,1994)                              (Median Years in) Educ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fter removing effect of income a longer time in education has a lower rate; education has no effect on suicide rate on its ow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to take both income &amp; education into account when explaining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ample of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ynergistic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Line 4"/>
          <p:cNvSpPr/>
          <p:nvPr/>
        </p:nvSpPr>
        <p:spPr>
          <a:xfrm flipH="1">
            <a:off x="2361960" y="2057400"/>
            <a:ext cx="1904760" cy="6858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H="1" flipV="1">
            <a:off x="2438280" y="2895480"/>
            <a:ext cx="1905120" cy="53352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ynergy - verbal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otal verbal score = score left brain  + score right brain (deterministic); negative left,right brain correlation = -0.7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eft brain (score A)  right brain (score B)  total verbal score (A+B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                              4                                   6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                               6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                               5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                               2                                   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                             1                                   1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3%, score B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A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score B = 100%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.03*INCOME-2.17*EDUCATION correlates with suicide rat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5800" indent="-3258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OME, EDUCATION themselves do no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untain racing…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of footwear, temperature predicting time to race up and down a mountai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 (deg C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(roughness coeff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ce time (minut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0.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0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8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8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5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8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6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14.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9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etter gripping soles tended to be worn in lower temperatures…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(temp,grip) = -0.93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badly designed study!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98, p=0.38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19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L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2.04, p=0.11,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51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&amp; Grip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OGE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 R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95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5.04, p=0.01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ip: t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3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-6.63, p=0.00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mperature and grip predict race time together but not separately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 synergistic relationship again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ot have occurred if greater range of grips used at each tempera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emory - collinearity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rrelation in IQ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time1, time2)=0.98; both  correlate &gt; 0.5 with memory (y)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ollinearity (highly correlated predictors)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olerance &lt; 0.1, VIF &gt; 10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ould combine times or use one time to predict memory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4495680" y="1981080"/>
            <a:ext cx="3886200" cy="152424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5410080" y="243828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Times New Roman"/>
              </a:rPr>
              <a:t>Can give inflated Std errors, wrongly signed regression estimates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5468040" y="202248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299cc"/>
                </a:solidFill>
                <a:latin typeface="Times New Roman"/>
              </a:rPr>
              <a:t>Collinearity: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1"/>
          <a:stretch/>
        </p:blipFill>
        <p:spPr>
          <a:xfrm>
            <a:off x="457200" y="4419720"/>
            <a:ext cx="8458200" cy="1904760"/>
          </a:xfrm>
          <a:prstGeom prst="rect">
            <a:avLst/>
          </a:prstGeom>
          <a:ln w="0">
            <a:noFill/>
          </a:ln>
        </p:spPr>
      </p:pic>
      <p:sp>
        <p:nvSpPr>
          <p:cNvPr id="302" name="Oval 8"/>
          <p:cNvSpPr/>
          <p:nvPr/>
        </p:nvSpPr>
        <p:spPr>
          <a:xfrm>
            <a:off x="6781680" y="4191120"/>
            <a:ext cx="1905120" cy="228600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133720" y="5029200"/>
            <a:ext cx="1981080" cy="129528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Line 10"/>
          <p:cNvSpPr/>
          <p:nvPr/>
        </p:nvSpPr>
        <p:spPr>
          <a:xfrm>
            <a:off x="3657600" y="3200400"/>
            <a:ext cx="3352680" cy="16765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Line 11"/>
          <p:cNvSpPr/>
          <p:nvPr/>
        </p:nvSpPr>
        <p:spPr>
          <a:xfrm flipH="1">
            <a:off x="3733560" y="3352680"/>
            <a:ext cx="1600200" cy="213372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llinearity and syner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ountains example tolerance = 0.12, VIF=8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, just outside range indicative of collinearit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general synergy may result from highly correlated predi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the correlations will usually not be high enough to cause collinearity problem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ut check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WITH COLLINEARITY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Zero correlation; 90 degree ang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3" name="Picture 3" descr="corrs_r=0"/>
          <p:cNvPicPr/>
          <p:nvPr/>
        </p:nvPicPr>
        <p:blipFill>
          <a:blip r:embed="rId1"/>
          <a:stretch/>
        </p:blipFill>
        <p:spPr>
          <a:xfrm>
            <a:off x="457200" y="1600200"/>
            <a:ext cx="8077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hanks</a:t>
            </a:r>
            <a:r>
              <a:rPr b="1" i="1" lang="en-GB" sz="3200" spc="-1" strike="noStrike">
                <a:solidFill>
                  <a:srgbClr val="bababa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bababa"/>
                </a:solidFill>
                <a:latin typeface="Tahoma"/>
              </a:rPr>
              <a:t>to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avid Boniface &amp; Michaela Cotte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ohn Hall/ Joseph Petrucelli</a:t>
            </a: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Ref: Hair JF, Anderson RE, Tatham RL, Black WC (1998, 2006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299cc"/>
                </a:solidFill>
                <a:latin typeface="Verdana"/>
              </a:rPr>
              <a:t>Multivariate Data Analysis Fifth, Sixth Edition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Both in CBU library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John F Hall | Independent Researcher | Talks - Academia.edu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http://independent.academia.edu/JohnFHall/Talks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a044b"/>
                </a:solidFill>
                <a:latin typeface="Verdana"/>
              </a:rPr>
              <a:t>(“Crash Course in R”)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n TWO weeks…11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The General Linea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bababa"/>
                </a:solidFill>
                <a:latin typeface="Tahoma"/>
              </a:rPr>
              <a:t>Quadrant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3" descr="quadrant"/>
          <p:cNvPicPr/>
          <p:nvPr/>
        </p:nvPicPr>
        <p:blipFill>
          <a:blip r:embed="rId1"/>
          <a:stretch/>
        </p:blipFill>
        <p:spPr>
          <a:xfrm>
            <a:off x="395280" y="1989000"/>
            <a:ext cx="8229600" cy="4400640"/>
          </a:xfrm>
          <a:prstGeom prst="rect">
            <a:avLst/>
          </a:prstGeom>
          <a:ln w="0">
            <a:noFill/>
          </a:ln>
        </p:spPr>
      </p:pic>
      <p:sp>
        <p:nvSpPr>
          <p:cNvPr id="117" name="Line 6"/>
          <p:cNvSpPr/>
          <p:nvPr/>
        </p:nvSpPr>
        <p:spPr>
          <a:xfrm>
            <a:off x="3962520" y="2743200"/>
            <a:ext cx="0" cy="6094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962520" y="2895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rrelation - Need a range of values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quantity of the correlation is inversely proportional to the density of the control (the fewer the facts, the smoother the curves).”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An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correlate pairs of continuous variables that can take a lot of values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issing variable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owning &amp; ice cream consumption are positively correlated.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Why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striction of rang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underestimate a 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ull range of values 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86, p&lt;0.00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rehension values 34 or 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 blu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= 0.38, p=0.2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bababa"/>
                </a:solidFill>
                <a:latin typeface="Tahoma"/>
              </a:rPr>
              <a:t>Scatterplots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the relationship between X and Y i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line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for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raw Scatterplot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befor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you do a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ANSCOMBE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shara AJ and Hittner JB (2012) suggest a rank based transformation if outliers are a proble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1:36:36Z</dcterms:created>
  <dc:creator>peter</dc:creator>
  <dc:description/>
  <dc:language>en-US</dc:language>
  <cp:lastModifiedBy>Peter Watson</cp:lastModifiedBy>
  <dcterms:modified xsi:type="dcterms:W3CDTF">2013-08-05T08:32:50Z</dcterms:modified>
  <cp:revision>303</cp:revision>
  <dc:subject/>
  <dc:title>REGRESSION ANALYSIS</dc:title>
</cp:coreProperties>
</file>