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EF5-A6F9-4EE9-80FB-65B79D77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C49-2E67-4174-8252-446FDC5E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A11-78C1-4D4C-B219-7DB281E9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E28B-23B6-46AA-8298-CA554194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156-ED80-4807-ADEE-772BB74C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68A-939B-436A-BC29-B0D1073C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0229-FAA1-449D-A426-FDB2EA98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725-D733-415C-964B-D8216BC9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6FA-8F52-42D2-B029-D4E3544F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52D-FAB1-468B-BAEE-1584BBA3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655-692C-4E4F-844B-6A1F1A89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F92-D03E-4FE1-858A-D3CEA40B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7722-B16C-4B03-80EE-375D77E5F8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4 November 201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5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8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3-08-05T08:40:52Z</dcterms:modified>
  <cp:revision>76</cp:revision>
  <dc:subject/>
  <dc:title>No Slide Title</dc:title>
</cp:coreProperties>
</file>