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463-7189-4886-80ED-9B7CCD22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24B-BAAC-4635-A554-992806A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818-7D79-4C51-98FF-84E9B024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38A-C76C-49EE-BAF1-23ADF0FD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1D2-33BC-4860-81EA-2BCE73B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E67-CF6A-4832-A8DF-5CA28CA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828-4AD6-4B4E-8A1E-0A70F5C3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6C1-3B2C-49F4-8A74-8A52116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3A0-D79B-44E9-95BC-9314153E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C27-2AE6-476C-BD50-F935967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C8F-DC08-4EAB-B388-3FBFDD8E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D91-549B-4BE3-BF9E-9FE39C1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30EF-38DE-45ED-8934-94E236AACE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4 November 201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8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3-08-05T08:40:52Z</dcterms:modified>
  <cp:revision>76</cp:revision>
  <dc:subject/>
  <dc:title>No Slide Title</dc:title>
</cp:coreProperties>
</file>