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9BC-AD0F-45CB-A99C-81B89E3A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356-7695-4C77-823A-24552778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EED-18DD-46D6-9DD3-D913D0B0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0C3-3037-424A-A96F-E5A38267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E75-D976-4E77-AA9D-D1199CAE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050-B705-4F0B-9290-2625014E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35D-7DC1-43BC-83AC-B7E198A5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5BF-E9B6-4689-87D6-BE364AFF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C4B-6481-4164-B8E4-DFF0EF77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A30-F41E-4BBE-98FF-9F93FD1A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A11-5F3C-407B-940D-4DD6365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EF1-8EC8-46C2-A8F6-CD54DDAF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EC84-274F-4F76-B66D-E39B862BF99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4 November 201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8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3-08-05T08:40:52Z</dcterms:modified>
  <cp:revision>76</cp:revision>
  <dc:subject/>
  <dc:title>No Slide Title</dc:title>
</cp:coreProperties>
</file>