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D9E-73A9-4580-AFBF-A30D522C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804-F47E-4929-ADE2-A41C833B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432-A709-475F-A654-44517A0D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181-54E5-45A2-ABF4-2A11E808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471-DC2B-440C-9376-5AB2ED1B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354-93B6-4464-B73B-866BA693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290-D657-4403-B246-BE7F435F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8B9-6873-46A8-856F-D2D083D7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697-EB7B-4303-BCE8-7B50A04A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D97-8125-474C-86FE-CCF94A8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4D0-BA32-4D30-A89F-59B13610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489-60B9-4C88-909B-09436BF4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716E-BDDD-4D1F-A273-F18383D5C2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4 November 201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8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3-08-05T08:40:52Z</dcterms:modified>
  <cp:revision>76</cp:revision>
  <dc:subject/>
  <dc:title>No Slide Title</dc:title>
</cp:coreProperties>
</file>