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A8D-6D0F-4CDA-A11A-395C89BD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7D2-051A-4421-A171-DFC367E6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C3A5C-AB8A-45F9-9529-B7172D3A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7FECE-72D5-4AB0-8EBD-1A6ABDDE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F44E1-AD83-487C-9DD4-96ACFCD9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9941D-EDE2-4AAA-BFC3-0017B56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0EF55-FB60-4C6D-8C1B-50E15243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292A2-0722-4697-913E-7E280098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B00AC-9A0D-41C8-AD2A-647500BB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35816-8C15-44A6-BBA0-68F10549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2516D-58EE-4A8F-A989-4C3992D4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77FCC-1478-413A-A197-03D46203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745-1077-41E6-9DC7-390CE35F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8650A-CD39-4563-8BB8-3DF9B376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FE44A-084F-43F3-B7CB-F88CD3F1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FED82-8FEA-429D-9E88-558E8BF0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94C5B-A8AF-4032-B1A2-FE8FFC48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DFE88-C79E-4A3B-967E-4650EB96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53417-F0E5-4DDF-85C4-CC9A389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7DAEA-016F-4FBE-BEA0-731B8C0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4EF51-F383-4D5C-B499-12973F04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0894F-5D5D-4E96-94F9-86DF841B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072BC-C9BA-4A30-A970-F2C4CE44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A08-8642-425F-92EA-B5585FAF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57643-6C82-4DE4-93A8-7F83BBC2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FB9D5-7CD7-439D-9864-34A47B9A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6CE13-5A8F-4FA9-8313-AE46C4E3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F9E18-1785-421D-BFC0-BE25CE1A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03AB-B5FE-40B2-9AA7-79286B32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77434-693C-44D8-B891-6555A288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475D1-47E5-4306-B420-29F5A329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E8FC2-9EFF-4DAF-AB9B-C704A78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57B55-7A6B-4E5C-8FCA-08B30C8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E06AE-2400-4E30-A7F1-31DDD87B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3D3C-57D1-4F36-8D96-3766E1B1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630A3-BF6B-4F4A-8C0B-84F8A1D2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A45B5-E727-4207-94C6-C0603964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C8FE0-3D03-46F2-A434-1B201888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2591B-AE38-466D-8314-D200EC6E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170DC-2B55-4912-93EB-71A64311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60F93-6D0B-4DAA-B230-0E0EEC5A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D8DB4-968C-4880-A1A0-429F60E4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43251-60ED-4ACF-9DDB-95F110D9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08755-696D-4393-A207-3FF8461F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3F559-8068-43A3-9C34-2C3E16F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0638-70AF-4D45-8BF9-6CE227C3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E46C3-349D-4D21-BBBF-7CCF008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D8B84-2DF1-4D82-97D8-26395A5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EDC21-7091-4EAE-8D32-1D286AAE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5BB61-6033-4792-B511-C38F6EA6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3486A-2C07-4BF8-B74C-D1740C66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15327-68C4-4CD4-ADC5-D7CC23C1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434EA-4EE7-4A5C-8169-D4862441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B7620-B554-4ADD-9F76-A4F5132A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80FD0-9EC7-44A0-838B-DE2FDEB6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416D2-8115-465D-8DB5-35AC37A7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5860-E4D0-4515-A45A-320D9BF1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A2D49-0FD9-4A98-8DFA-6357B17D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A1070-502F-41A1-9E52-C83B1811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90812-CB49-444D-ACD3-1B3D31B4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C5DCE-5B25-4F3C-859D-6F93DB71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7C773-1FF7-46BF-B0DB-057B43A7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6CEEA-687B-4F57-B695-4EF51140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7FE62-5B8C-47D9-B62F-17740E66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CC5C5-D560-4048-B7D1-EA123C55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F1ABC-3563-445F-8100-23E535F8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8D97B-DD62-48B2-A3AA-E0A38BB9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6F5A-AC1C-4281-A6C4-A9702993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2DDA9-058C-436E-AE34-8A821E98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3ACF9-EBCA-40EB-9241-AE037E27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C8C12-0515-41F0-80AE-F0345ED0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75E6B-F249-4D2A-8D6E-43AD7ABE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C9F31-1846-4326-AADF-36966D2A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58316-8013-4A34-8944-48DD24E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5B5A9-3706-443C-ACB9-660CBB79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BF342-EA20-4F53-924B-5290A409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6426B-9696-4C39-9D42-DFC82DF8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EBA96-6C99-493C-AD03-B973607B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D752-1538-4389-9A84-C02728E1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FC446-DDC0-49BE-B3E0-49579B27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AF996-B88D-42F7-9E38-949445FA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B716B-9073-4647-88C3-93246CA6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60B14-26D6-473B-9733-C9AFC9A8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ABF93-B9BF-4562-A249-25055FD6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AAEE3-B60F-44AC-8EBA-7890FFD3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BE524-0443-4FD9-B1CF-9B1F52D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5A7F7-AADC-409F-9EA1-3A27320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44893-CF38-4204-9ECE-A9A841FE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A8552-8610-4B09-92B3-33A5EE42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AD9F-AF21-4090-8DFB-FF1EEBF9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44838-9AD6-4A6A-9DFB-291D23A0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8D138-AB0A-4A1D-AA25-072FE849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6A57A-5069-49C6-BC23-A60779E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0DD0E-832B-4D31-830E-21C85FDB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CB9DC-C8AA-4B53-A823-4B10D0FD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C6670-A773-42E0-97D9-FA685E61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D066E-D06A-4528-BF5C-9BF34676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C94B6-E011-4588-A2CE-2C1AD529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DE5CF-3DAA-4F01-B719-1F5C83F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CB0A7-A894-4A4E-BD8C-C649F46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D996-FD6E-47B2-90DD-B18A519D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B9482-4092-4D22-89F3-8023937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85D77-DFC0-4B2F-A50C-2AFFA85B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E09B23-49EF-4128-A819-7EC9BFC9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EFD0A-5FA0-440A-83E6-7EFA74E1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0E0983-A023-4D98-9222-D77E9E4B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B2B91-AC14-45D5-A229-806D0D88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7FE58-0746-45AB-B33A-BA2DCE71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13785-DB2A-4F64-B94C-8DCB7646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B8AFF-5BE4-4A60-8F49-81393DCE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C890F-C02D-43A6-929B-A69CE55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CDE-8135-4A71-88AD-0C04476B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08B5-0ADE-48C9-91D6-184ECC57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16B3A-8079-4982-AFBF-565AC98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0615D-1BBD-4529-8B1E-E95CDC05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077FE-E19F-435D-AD42-EB6225CF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A77ED-1279-4346-9337-BAE67DA9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A3C69F-FB08-43CC-9695-FF6F9DF3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9B6C3-0112-4C77-A293-2FBF87EF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F3161-3A9A-4506-815B-1C5A6792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933DE-E134-49A5-A8E1-78F81E3B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4B07E-16E0-4601-8DDD-1B2E02B5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DFEBE-BE68-4E0D-81A4-AC7C960F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5D9F-11D1-4C37-905D-E925381A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10A32-BC5E-467B-950D-A2198B05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5E49A-8010-463D-A7D0-6D5F63FE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48BFA-0600-436C-B4C1-AA0AD5F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BE2EF-B056-4CD2-9054-2E3F8C6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BDF9A-D0E2-4440-BE61-7A3606CB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009F7-941B-4CE6-92C3-B667671F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CE69E1-20AE-408E-BA4A-B8CDF157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D046-7FED-45CA-A918-8E9C62F4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7C0E-E6A5-4C35-9B30-C199138B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5A86-9B40-443D-BCB3-850E7314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7B00-B153-4500-8957-FC568563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2CB0-E436-434F-B25A-B0D6751A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2718-C2A8-488B-9CC1-4F8A8FFD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6DF4-C114-4A97-83DF-443F72CE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83D4-0FDA-4579-AFF4-829F0A94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E55-27FF-4CA2-9263-ABD34021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647C-CFBE-4456-B509-A697A19A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C98A-9B7B-4C20-8090-8EF693D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DF60-C536-4781-923B-737FDDB8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1FFA-F1A9-4481-8CBC-F003887D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94F4-2327-40D8-AFBB-A0803ECB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E1B4-F6E2-4AE1-91AF-C70CE31A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B191-9C1E-423D-B9ED-627E2A0E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CE7D-ED69-4679-97DB-1ED6BF25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3E4A4-05A7-4548-91A9-673130D3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1EF5-A3F7-4711-9BC9-4047482E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79A-C2F5-43C5-9ADC-A6455B91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EF63-D910-4DA5-8A01-3CFF58B7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19CC8-F668-403E-8AB6-7FDF383B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55B53-82B7-4E3C-8193-539C3FA2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082D7-256D-4003-B049-C1B7BBF5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DF75-EA95-488B-9A82-B06A1CF2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FFFE-707E-406A-AFDF-4D358ED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BE84-7070-4087-8EBC-49DA08C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56CC-6692-46A0-94F9-7131AB95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4575-4654-405D-B9C9-9DAC034B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1892-3F8A-4A5C-A653-2618D266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093-A218-4E09-9C18-71FE9190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BE1AB-E5ED-42A6-B400-9CE35B4B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B974-FDA1-4BA5-A261-C553EC8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18BB-70CF-4F1A-937D-D16E48EA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17AC8-C277-4031-8B4F-D5476AF3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1525E-BCE8-44AC-8AEC-A98557C8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ECB2-6C57-44CC-906B-8216F71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9DDA5-6A5B-48E2-AF8E-105C0BD6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33791-3569-4D91-9D5F-45D80B21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788EA-E1C0-4E53-82B7-910F9D3B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BB95A-B145-4E0B-B409-A9F495FE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4EF-A2D7-4BDB-AB2E-7C38C765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0DF3-70ED-4EBE-A45E-0BE228E8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E38A8-A0D5-471A-B8BF-4931D915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B2E85-BE48-4FA1-8440-CE8403EF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9266-20E1-480C-AE5E-9A54C3B3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AA4AC-C3D9-4273-8D82-A028F005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AD33-D21E-4F76-9209-841A10F6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B6FC5-25C4-42A6-BFB8-EFF38AC3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02AFF-A35F-4542-A980-21A2E68C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56B81-80E9-47B2-9D50-47F8D3C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E939C-CB39-495E-8A23-9D98F55A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21A-3ABC-4984-A2F2-F1368B3C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A42B8-E491-4B31-A68D-109F5102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309AF-FDAA-4569-8A09-DBF84FBF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D611C-935E-438A-A865-E7262338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20E27-0577-4DA2-98FC-521FE96D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29E17-78A7-4216-B77A-149FDE06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79AD7-920A-4811-8A6D-15332F12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941A9-3329-4EEE-BD27-D41BDE87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5813B-5523-4087-9C0A-99EBF4A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12ABB-7975-4694-847B-D4F993AF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656B0-9608-46E4-8064-D9CD5F8A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515-6BA6-4DCF-8C94-269F62A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64D4-5D8D-4F3E-8778-917220C3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F337D-2B2B-46B5-B315-B14D38FD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4213-CB88-44E9-A176-9E165A66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DE38B-74FF-49DA-BE2F-AF1595BD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BA934-45F1-4217-8831-18250936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A0CE4-BB50-4975-81C9-A2359EB1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25962-9674-47CF-A63C-236A0BE6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EDA91-D64C-40E0-956F-2052716C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802C0-85D9-44B4-B805-3B1133FB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B95AD-2D29-4CD6-8B69-133119B8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38E-8770-4069-8189-85E219F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40692-3411-4808-B279-1B84D87F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BC164-1F5E-4CAC-B133-96106B3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8D9F4-A0F3-4943-A631-8F4FCC05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38E0-6505-4184-B9DF-BDABE03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53F47-8B32-4BE2-99A9-34646F5C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A394C-7DB3-4A8D-968F-E7E5F492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AA487-3C6B-4052-A71A-5A0B220D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CE6D5-3140-4CB3-81E2-D32E36F2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74C6B-0B14-4B3E-BFB6-9C778098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DD7D9-54C1-4FF4-AECC-C5BFCDDC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1993-3C09-4050-A421-D99E6851688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C994-9FD3-49F7-9558-C6506A875AA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A155-EC5E-4D03-AF75-852772D30B4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14F-EF63-4572-8A26-78A2CC3BB21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ED44-4EB5-4EBF-B43D-6FF489DD646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E464-DC7D-4D03-88F8-54731744ABF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78D3-FCCA-406D-8C6D-D8A3FA29015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C03E-3206-47AC-994F-FBFADC32152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C148-793F-4D0E-A08E-564E67EC4CCE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982D-83FF-4055-A48E-9CD865DF003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6B92-D71F-47EB-AD1B-48722C790C0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B051-B297-4C5C-A0E8-CC604E78061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AA16-DB40-469B-B3F4-8AF9733AE65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2F35-4875-4702-9220-411C59EBAA6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1882-6BB4-4227-8D56-285B17E69ED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A41C-C7E7-462F-9B8C-3D449D68A71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th No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7280-8862-4B92-8286-8A65CCF33A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C5DC-A251-445B-B50F-D7E53E06A1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4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4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44D1-CD57-46B1-974A-0644CA03D2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5164-917E-4DFC-8B4D-137CEE99DB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C8AC-215A-4190-82F1-838559D853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D859-890E-405A-A2D4-58F014E925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5E2D-BB2E-4C48-9E18-1C00979D3A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D664-2481-4938-A9B0-4364198038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2D48-0BDC-485B-A24A-79493CA78E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A12B-F7D1-472E-8732-FE168E3071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EE63-2F90-4D38-8BF1-0CE66D294A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B5FC-F0EE-47A6-9F0D-F4552A8FCC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6073-73D9-4BC0-96DC-0B53723506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702E-6834-4F5E-8A8D-6CE88E95C5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5794-7441-425C-8964-8D703339E6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F542-BAD1-4FED-ABEB-56CB6B3C08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C3E3-A094-44CF-B6E7-E9C73F78D8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1ECE-A956-491C-838C-7AD62E6CB6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E6E-68F9-43B7-979F-E536231681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59D1-C307-4187-A8C5-FD9403F9F3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5596-866D-4D85-A643-EA0CD9996C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669E-C464-43D7-9AE4-01C2997FE9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D0AC-D722-4742-A53F-CB5586A1EC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E53-A86B-4371-ABBF-756604F3C2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A47B-A47C-407E-9C64-1FBBA6D497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7719-5015-4D9B-A9E6-ADCFA7A166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E1E-6E39-496C-8DD5-9777ED6A8C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3D4E-845F-49E9-BE63-3F106CDC38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8160-52D1-45F7-AB78-C929EB0DE2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CBB6-F89C-488E-89D7-4C5794FF15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84A-C55F-4C99-9FC6-B16A731B97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A6A-760C-4523-860A-1BF4D7B3A9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3433-04B4-4AFE-B8B2-47352ADE83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C6EB-E4DE-4258-9FD3-6142707CE1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F563-0CC0-4D8D-803F-B080B7C6A0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14CC-87FE-4ADF-A83C-DC2F3B4216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A091-28AF-4405-A2F7-A78CB8C7BA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A368-96BF-4F15-804B-60C3426C1B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0CE8-66EE-424B-AB25-B280B61AA1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0BC6-7631-49A2-A337-12E486D9F8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81BA-0503-4082-B24B-2060A2EBB1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F2A3-F4AE-4A67-8802-122058B826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973E-372E-4877-B8CE-A4F7A95D90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B83A-9EB2-4799-8D56-29DC4F33C2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1373-A033-42C7-A623-028741591A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5824-D62C-4E43-AC30-EF00399CD1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7C2C-D33E-4A7F-BA56-C4B8520511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14C8-FAE7-43C5-A7C6-0DB641C4B3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8FCA-5D10-42BF-A3A7-872E5DC05E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54B4-12AA-4ACA-BC71-609F8758ED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5ADF-5097-46E1-9C4C-3C8922BBF0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0324-C933-4D27-9996-820AD773F1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B4A7-15E7-48AC-9C2F-CE858FA2B6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4723-4C41-4FE3-82B4-591DC9A46C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ECD0-5603-4FCE-BF57-65543BC216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161F-AF32-4080-9399-83668A871E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C708-1619-4B0C-B863-19AC9D3A2B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341F-4AA3-4BA1-A4F4-CF4CA855A2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6th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7AC5-575F-43CC-A7CA-5BBD4CAF7E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4-07-22T09:46:15Z</dcterms:modified>
  <cp:revision>101</cp:revision>
  <dc:subject/>
  <dc:title>Aims and Objectives</dc:title>
</cp:coreProperties>
</file>