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393-80B8-41C6-B76D-643140A0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67A-1F48-4693-A6B2-C986F26A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9DBC1-4B17-48D5-BCBB-DFDE7193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E9460-4C61-4E19-8F24-7F175BAE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FA28D-568C-45BA-816E-03C89E72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8D714-43C1-4514-B490-40122F29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7D3AA-7C90-4EE9-9635-5A6CEC1F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50030-5F40-4635-8DAF-7DDF2666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B634C-6648-47ED-9779-1491C6FA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4B201-9CF1-40FB-8D50-7C079315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F0D7D-5437-4D85-8F6B-30F24BDE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5F1EC-1C67-4D91-B59C-2B8B3B74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61A-A934-4E3F-AF16-147287AC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765D6-F7FF-45D4-ACEA-2C2CBA85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1A66B-AE84-4FED-9E09-3A8C6C35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C4D39-C8BD-4ADC-8633-E53C6541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2A228-82EC-4297-A198-819A2985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6D848-D304-4CB9-BD44-E5591D86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5C2F3-4BC0-4F27-B73D-C98FD911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1143A-2D2D-46B7-ADCA-4455EC49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752EC-F40D-44E7-9D65-95EC0349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8C4DE-6674-49AD-85EB-233FA0EC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1F281-ED39-4E55-81BD-4814E0B9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8FD-9D50-411D-9E70-83A5ABF7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8C83A-1461-4DB9-B63B-D048DDA7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83B8F-F07E-406F-A8C8-334069CE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FC0F6-51B8-4F4E-988B-E5E8D98B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DBD15-FBF5-4373-9C87-561B0299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74152-E3EF-47B7-BD9F-63175263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1E524-88F9-4AC7-B06D-D0255F22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E7145-0F02-4F2A-98DB-B92B6F3D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46DDF-5E83-4895-B578-0957E87A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1FBD7-8369-4912-9978-E16CC3D0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AA80B-5CA6-488B-92E0-C811A2A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0FC7-B89B-45B4-8A06-5395A879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E5CE8-B1E1-4221-88EA-49192F41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36425-1F8A-4D4D-B036-67B1A79E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88C25-EF79-471E-ABBE-D999FB89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6B719-4B9A-4734-A943-1421C702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787B6-DCE9-4D3A-AEFC-2664E49A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6FC07-F10B-4390-999D-007D4A7B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FD0DD-F8C8-4996-9C7A-F5E179A7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A238D-9F09-45EE-9FD3-2ABEE283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D0AB4-B410-4611-AB45-7F31A1D2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0E155-0A63-4EEB-9A57-7756270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4F36-9293-4353-A94D-203A09D3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1926C-14F7-41C2-9CF1-C50ABD6F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62C6A-3815-470E-B5EA-7B62141D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15A3F-4152-42B4-8D38-429F0D73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0F1BA-B94B-4584-8F39-F79AF313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3C09D-ADFF-42A2-B5EB-E7F850A0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564D0-036E-411F-A243-37A120CC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60B86-730A-4D45-874F-CFC1283A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04FA7-DA7D-4C71-8079-41EED9FC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C1283-BBD5-4757-97F2-D158ABCA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073B1-AACD-4608-A00D-D14D05D7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9346-F6C8-45FE-8BBA-EA759CC6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E5748-C831-4B8A-9045-32450E35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218E9-D7DE-41B9-969A-878BB91D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28111-EAC3-48CE-BB9F-A1615225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A43C9-F239-44C1-8E34-9A3F656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4AD2E-9740-4B81-8537-F817A04F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A2B14-7F05-47A3-B6C9-8A40033C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81229-D23E-4891-BC09-CD3BB5B8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307F9-C875-48E3-9AFE-4DDCC6E1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EC289-0FCE-48C3-91DE-F7AA9A2A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FB1D5E-74F6-42D1-88C4-2103F85F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C86C-6971-4F05-A9FB-5A420A17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2399B-D981-4B0D-BD87-D1C02575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A29BF-FC97-4AE9-918F-1648F99D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36E2E-50B3-42B5-91F3-E972BCC2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71AD3-203F-4D65-A32B-911A6B4F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A9DEA-DD36-47BF-AC01-D59DA908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0E34B-5204-4DC1-9FA8-5CB68DE2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F8185-C19F-4FC9-919C-EC875287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06E62-19D8-401F-9D3D-C1994115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A0ED6-A976-45C3-BEFA-844954B0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9E313-528D-4EA3-9617-24B34AAE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1815-DF55-48D3-A142-592FE30D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DC586-C099-40E9-BBA8-85193841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B2CB3-D257-400B-864B-83BF3EC8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26D47-C563-4265-8ECD-4006F6B5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79512-C3BA-418D-880F-34FF50D3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4AE8F-897E-4F53-A9CC-427E848B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837BC-D0EE-4F10-856A-184B40E3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E2891-4A06-4AE6-A3C4-D60BE5A4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41C28-8911-4CCB-92C3-581614ED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551F7-361E-41DA-A2C0-881FD32D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3E530-66A8-4484-82EB-97F1E0F5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8ED8-5CDA-4E81-B5CE-48493B1B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A4244-978D-495F-A93A-5F1DBCBB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C5B43-9277-4497-B515-77ED6B2D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49D2A-3C05-473A-9324-A54069A2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1CE89-FD92-44D7-ADFB-64BF5DD9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74A64-7D2B-45BC-99AC-51110B82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10F29-3EB2-4630-ACCB-B8BEF4D5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AC86C-9EE3-43ED-96BC-08CC4DE2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1CAAE-3AA2-48DA-884A-88A4B3A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F65EA-3A5B-45D3-9106-33C54DE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A548F-43F6-438C-B165-2FDC708E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2EAE-6028-4BBA-BCB0-8C6A5AE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6E42C-2348-4319-BD4C-C65BE829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BA397-280A-40C2-904D-0B6994CA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7B1EED-DDF9-44AB-AC6C-B2CB3904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7A968-1EC2-4110-817E-63963D60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DD80C-EC35-4405-A39B-68CB8B69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E90085-E16C-4F0A-A1C5-31DD2856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7888C-1C10-4460-9991-1415DB9A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0BDFF-2CA1-4631-B89A-D5AA870A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391B41-77A2-4E52-A1D4-854D50EC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AD42E-57BB-42C4-9834-E28C030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D31-F766-41BB-92C2-56E001B1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9DB9-99FE-4131-96D6-0442B81B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ECD92-18B1-46E9-97F2-2D0FDA69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8AEA1-892B-4B0B-B785-A83EED52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7E6A1-F3E7-49A7-B8EC-0FBE6CEB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B2BB1-50D2-411A-8620-37208CD9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1F327-CFC8-4E80-A385-D90F00C3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5BEBD-7116-4394-8221-A62263BC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7A960-AE10-4AFA-803E-9E0AA7E4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C7347C-2749-4998-BF3D-5F0912C2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46DD7-1BF2-4227-87BD-2C34CD00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32CD2-643C-4E10-8A6D-74192CCD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91E1-ADA2-4B33-9196-8DA41F95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F3DD3-DA55-4FF0-A7C8-DDC19BA9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981D91-C1E5-47E2-8507-A67D9F05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A33F1-F80D-4ABF-BEBC-D8E12CF5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B45B82-F7A0-4ED7-B23E-85158310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600352-A99A-4739-A10B-CB724347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040F35-84AE-4D55-A72D-6E13C261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4DEBF-49A4-4996-A567-D77AEFED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448F-0857-436B-B89E-9E013648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33AF-3162-4131-9882-1870A2A1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EDBF-AE03-4DED-B48F-B8BDB45B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F6EE-5DCB-493C-BBDD-77ECD9A2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352C-8153-4F99-94B4-37969DE7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B332-0040-4477-BE79-F7774471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244D-9EB0-45BC-9E3C-32D629B6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06F8-99B0-447C-95E5-0ACF5CC5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FB3-3AC8-4798-A4A8-B51C229C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3851-C647-45C0-879A-D91F1E05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7791-0A1D-4BEE-A782-64D4E477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2DE1E-F4E3-4D6A-95D0-726423F7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B179-8E52-49AD-A153-056A7E9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A3AE-AE7F-4226-9C2F-3F8EA3C4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E239-52D8-4FC1-9BB4-8F75FEAA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1324-F07C-462B-BFEA-D07BD2CD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DD1C7-AC0A-44ED-9A25-66EF72BE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9D4C8-ADB5-4F72-A24E-6CBD3011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0B8C8-D557-4DBF-BC65-FCC92DDE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266-0286-42B3-80E7-1C4289C3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FFC2F-617D-4EA7-8027-79BA1937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8CF7C-73A8-41C9-B17C-7C2051DC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9674-6007-443B-9D17-FE86AAB4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595F-BC0A-47ED-857B-2DCC9C9F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7FA8-E97C-4E74-B5F6-2BDDCDA7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4E347-3132-47AB-82CC-B89ADFCC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41E7-AAB1-475C-9503-0F6605E0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2803B-80AC-4BEA-9CE1-DCCF3456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C224F-3740-4E60-9006-0F2EE4CC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12450-6C15-40BA-9A60-5EFF3EF8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23A-1CE7-422E-8F8D-275D4044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32670-CF6E-4F30-97F2-822B70BD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BB28-680E-4421-98DB-CCD08BDF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7ABA5-07D6-41B4-81F1-C98433E0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2E54-5358-4E48-B4E1-AB2E5BD2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45B6-B4B4-4F90-9226-B142911B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57E29-320E-4EE2-B048-48A15F8A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2A65F-DA01-4805-BD8F-9D679278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0B96-F9BA-46E3-9CFD-914F5757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E568-2C4D-4485-B6FC-E5E0F171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7CB9F-B8F0-4285-866F-1BF87428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C78-F973-469A-9EA7-E2B6DCBC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30A3-28DA-4113-A6F8-CB61F49B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4B3DB-8048-44D2-AB42-715E6D83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28F04-C772-4A28-8558-DE406BB9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42E12-3A51-4DCE-A8AB-9D8343D4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B89FA-A408-43D3-A582-3A547EB2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68E45-29CC-43E0-82A1-336A048F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22EAA-5D4E-483E-BEF1-E301A091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258F7-0DAA-4DDA-9C10-47410D1E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3EAE6-19EC-4E25-B093-B9D707FD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F3930-C2EE-44E6-AF05-2758FB79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CD7-D263-4945-8198-CDC813CD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9975C-093F-46C6-BA44-E47F62F9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C389C-76C4-47D8-BE6D-5C9EFD69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122C7-C605-4C7A-B4B5-943438D3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955F0-A2E0-404C-8651-9FA3B34E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8FF30-A3EB-4597-9A96-44A804ED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54F1F-A38A-45C2-905D-4CB28719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4AACC-19C4-4915-ACAE-EBF6ECDA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433D7-B447-4E7D-A202-0FF3FB3C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DEA80-19EF-410A-BF2A-4C52A6ED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00ADB-BA01-4C3E-911C-24B7B239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848-D209-4544-9297-1D12C917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8B943-1710-424C-9C92-CF8D1B4F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765DA-FC42-494F-893B-21562812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1048C-BEE4-430C-BE17-96DF871C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5CE5E-F698-431E-801B-779335E5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BC5F7-85BC-4546-AE53-BBF7C1F4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AE4E0-1997-42CC-A500-1B678A3A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F06F6-B976-417C-9B79-6C1ADD08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DE5AD-2D1C-4F3B-9682-8440E37B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734D6-A48F-40B9-AE17-8747EE7E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0775D-2EAD-48AF-8DAA-24B743FF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833-F3E1-490F-AFEF-5B50026D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522EA-3496-48EB-9DCB-71BC1A65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AB44F-23E7-49B8-8A40-B8309401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026ED-528C-49BB-B08F-E5CCBD88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CC620-29EE-4A03-80F5-5BAA4E0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6EE04-1458-40BE-BC64-8E5F9172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CE6F6-9016-4704-B39D-38EC58CE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B21AE-C0A7-4313-9B42-150D4B20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DBB16-EABA-4985-B1BF-5389F43C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4B26E-77D4-4E67-8B0D-F612CCF7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FB95B-5C2F-4726-9F3F-BC08835D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A16C-C5FB-4662-A46B-87FF3E6BCB0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6A9A-C9D2-437D-A548-8D7FD4F9578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29C4-C06F-4EFB-94C4-1E4B6D29E8C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8ED4-1FD7-41CA-82CE-5FD306D784E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B81B-1FCD-4779-ADA8-D81365CE050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54CE-6336-47E8-A964-F62C6915BD2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1958-3104-4F25-A408-287EC5B9C3A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1011-01C2-4AE3-8705-525B7728848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22E2-776E-4DD3-A5AF-28F386C176F0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4735-5AFB-4591-8F8E-B64ADE5667E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3B27-61E3-4B97-B63C-F083EAB5DFF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D361-D649-455C-BED7-8D3BA340DDB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4D53-47C9-437B-AFCF-D1AB9E14A95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CCCD-89B5-416A-818D-95E04F26D6B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041D-D6E0-49DD-90AF-9783582713A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4261-6E6A-48C8-A391-0D4D5436EA3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A3AE-05D0-4F2C-9AEC-16BA503041B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052D-C71F-46D1-987E-C19E40A4A5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4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4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E325-5234-46C7-B00D-BE2EC56C16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BB01-A93F-4CB9-95C5-D3493AE11B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20FB-933B-4ECE-939E-D1C2A2E6DE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6AF7-2AED-462F-BF48-2D909A8639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EED2-4699-453E-9A19-92FF3B5C5E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BAE1-C762-4F87-B92A-7F40407A7D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72D6-8A1D-4C42-A21F-4195716BE4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2E8C-6725-4331-A34C-2A1AF7C5E1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ABC0-353B-470B-A920-4611B20810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CBAF-5A1C-42B6-8B40-628F721267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B881-6CC3-4350-8EB9-2EE0DA925E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A754-207C-4876-9051-ABE1E38C6A5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8E3A-8F87-4958-9664-DCC6405EBA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5FED-BB34-4E55-A116-5BE898AC95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B7B7-3210-4B08-BCB3-1772265059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9C55-56C6-4BCF-A2AD-B2C7AEA92C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A8FC-7063-43EF-A094-FFD9245EDF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3E0D-C1C6-47CC-9CEB-74F119FF67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B736-29F2-41D6-8EC7-F9B247CB36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08FD-74C5-44EB-970C-2E0EE4DC0E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07C6-B0F0-4496-94E4-379B1F145C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9511-72D4-46A9-AFB5-168CE9B7B7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16D-492D-4E35-9ABB-DA96E3EEC4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6557-592F-4F74-9619-3B4EC101CB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C5FE-246C-4879-8596-1EE21A5242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BBE2-D4DC-4B9E-8CEF-C069855D8B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5AC8-0C6D-4165-A96E-37D7676F58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7B72-9D75-4869-9510-99B4A7FBCB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9DAD-FC06-458A-8FAC-929F98C913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E64D-E562-47C8-9BC8-CCA5D1F682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65C8-3C21-4276-BB99-B8F562CBBC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640D-13DD-454E-8275-56AA899A6D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5C57-E6EE-4D3D-B00E-B32DFE5E68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12D0-75FD-4194-9D60-C9669F0BE9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FC7B-6EE0-4313-B139-AC875095B1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F3A8-95D7-4B43-B736-1C7BA0BB7C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51DA-D988-4251-94B7-9E1BB8DEA2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04BF-5581-42E6-B90F-416211A7C4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F83C-CAC6-4586-B092-62850892B2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A552-44ED-486A-95B1-6E82048A41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8989-1035-45F0-A623-182173480E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86A1-10A8-47F0-9B1E-AAEF9C3F18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D264-24E3-475B-B494-BE1ADF3869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1759-2C99-4743-8B01-E6F1A05530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6004-0F1F-49D8-8D5A-7422C68D95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3CCF-5492-482A-8D76-DB515A1E8B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797E-CEF2-4171-A232-37E2781D2B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127A-9ED5-4ED3-990D-CBBF233A2D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C285-8D5B-4583-AF6C-ADCF7E9E9B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02E3-3E6F-498F-B623-6009B078F8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F21C-3E1B-4DE2-B37B-0193CE4AEA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9983-8919-4A1A-90BC-586310610C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D786-835A-45D6-9770-25D2D71657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6B9E-E62C-40E7-9CA9-D556321923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DD2F-E3F0-4B1C-AD7A-813A3D9250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0838-8546-4C60-9F8B-0EE4EF874D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A3A5-841C-43BF-8FC7-8394544A32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4-07-22T09:46:15Z</dcterms:modified>
  <cp:revision>101</cp:revision>
  <dc:subject/>
  <dc:title>Aims and Objectives</dc:title>
</cp:coreProperties>
</file>