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908C-2162-4176-818A-1A572FFC5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2647-9B48-4637-83FF-7F491BC37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E2CB-8C5C-48B0-8FCE-593F64CF2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5BD1-1DE6-41A8-BCD7-7FD4A7854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B291B-2BBA-46FB-9416-BE11F5977D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BC1E1-0369-4EEC-AC39-7A7F9C674D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574C6-FF45-46E3-A9F6-3EDA81C4A8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965CB-067D-4F68-B608-01DE43ED10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6B404-6225-46BE-8DA8-1F586896A4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5C2B5-0E94-4590-A6A7-C0AD8E9CD7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38CD0-AEFB-45A8-B0DF-39D590031A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EC19-4CDD-4CE0-8F1A-3555E6555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72A44-5342-44C2-B29F-8DDFCD13F8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93AAC-9F41-4581-9192-CD58034A0E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1F921-735E-4339-8BD2-AEDAC6693B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9117D-F498-4458-8D8D-A7D81CF46F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2B897-E7A8-444B-AF98-9B9516F127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847A-A32E-4150-8C8E-E1B992AFE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B75D-E2C6-4F03-9476-1D9A63267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25CF-662E-4943-AE38-C71B79ABC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A4CC-BD27-4BCE-BCE0-AFBABCA88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DFAD-D6FC-4A28-BFBE-C1F5C8D83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7D51-1DD8-403F-8509-CEC8E2B02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D92C-86C0-4408-BC11-9D0823AD6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41F736D-98CF-4D82-B30A-6D2B7E1885B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EFB05E8-3473-4A8D-8C84-FBF2D2E4B24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A1542EB-785A-494E-9CEA-228D017D83C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F5E9210-8CA4-4B7E-9D8D-675FC420C85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3-10-08T13:27:17Z</dcterms:modified>
  <cp:revision>348</cp:revision>
  <dc:subject/>
  <dc:title>Exploratory Data Analysis</dc:title>
</cp:coreProperties>
</file>