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3888-0145-40C4-941E-A51064711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8CAF-2B53-40D6-93D9-39D30DC69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8196-047E-40B0-8677-F98A18EE8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AB8B-9841-4A18-8EBF-F23001786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3D67B-45E7-4F33-B038-0C43D99A8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6102C-B067-435E-9D90-C43720E753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F9E68-1821-4EFA-897D-3922EE096B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6AFC3-36F9-49CF-A638-49B391581F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37C0F-83AB-4271-9EA5-E279AF485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6A9DB-2590-466B-92F7-E71226740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549DC-2FB2-4C70-889F-ADA479BC9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0324-3224-4D42-B379-4CB1CC4AB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9FF9-BAEE-4227-AAC2-DCD681BD19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2D8ED-4BAE-4B6E-8FE5-D806C711ED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F3DD3-4B2F-41A7-B35D-9B217DC24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12616-07D1-4FCA-B56E-B2324437E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5EE2F-0889-4EC3-B230-714A1CE55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90C1-E844-48B4-A0F9-95A18FEC5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C394-424B-4607-A8AE-EBEE10B24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BFC4-40A9-4073-84EF-28589DE3C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2BCF-08B8-4A0A-88BA-F5EEC3CE5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9BE3-7FF2-4839-901D-6C828C1F6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4E51-2792-4783-9449-3FFDC4588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B9DE-DA23-4055-BB30-952B6BC5F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37E8F7D-B975-405D-BEB6-D10A140279E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169399-F3FB-4D6F-A1B9-9D31ED5C98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CEF2C2B-A850-488C-A004-AD0C77E8D30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12AD862-DC0A-4F07-8441-B116F9CD21B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10-08T13:27:17Z</dcterms:modified>
  <cp:revision>348</cp:revision>
  <dc:subject/>
  <dc:title>Exploratory Data Analysis</dc:title>
</cp:coreProperties>
</file>