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68A6-14B2-4E4B-A49C-C3223D860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F79D-3384-486F-B105-C46A2BC81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8155-E027-4FB6-AC0D-FA3A4B38D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FC26-0ED7-4DF3-A97D-180897677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15575-1E43-4A4D-9401-617DE24C3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30035-11AE-4DBD-A92A-72DF4AB339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870C5-5A28-4E10-8B36-CA9FCDB159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D251B-8602-458F-99AA-94A87B3D6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1D219-8918-4DA4-8C8D-1B3249EA78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FBE5-0B1F-44CC-9B43-F6323E8D5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89B63-F88E-46B8-A8C6-5027AA5EA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49E1-7192-43BD-A52A-1C3C29633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92916-4DA2-434A-96D6-E6D404442E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1F9C2-DC24-4DC9-AF06-0D39E1C63C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BB328-6C41-48D8-AEE2-C934EE8822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5112A-F63A-45ED-95E6-235360491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9C837-4AD6-483A-BF3E-A0924CB7F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B622-3DB0-4947-9632-62278603D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D92F-516F-4540-9A77-03875E697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7BDB-979A-4539-8D90-AA1EC992D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DA64-A94E-491A-99F7-D79DFF543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AF52-8602-4D97-ABAC-71EA87856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2066-FFAA-4D15-81E5-2825648A0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054F-1470-4EAE-AB14-96D9D23EC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86ACCF3-725E-47DB-81E5-AD4789407E8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27CB040-95B2-4D75-AEE2-5BA7B8DF240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921E764-605C-4E09-A34F-460CC383F98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807017B-90E1-46FC-922B-40CCC70212C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840C-0FEF-4D31-9E55-2A02FE86F2CD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3-12-06T13:01:21Z</dcterms:modified>
  <cp:revision>331</cp:revision>
  <dc:subject/>
  <dc:title>No Slide Title</dc:title>
</cp:coreProperties>
</file>