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CE904-1EC8-41D2-BBBB-9DEE05F4A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51AD3-B851-4F91-BE62-3D2464A3C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5AC7-CD6F-4590-9424-7B085C1E8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80A14-FF1A-47CA-871B-9FAA96334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7C352-1641-4EEF-A31B-3FC1942A5A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F615B-42F8-454A-88C9-D1881513DC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A0BA8-CCBC-46E1-9BBA-D2AE258347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9EE77-99E7-4154-88D4-FC0EF22D5E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CC4AF-6587-4615-8FA6-D3D9E98246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F800F-DCB1-44F4-A810-75D306716C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32781-C375-4B43-B49E-784C400765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1D2A5-E8FB-4973-A614-D7CDFDC88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0B3F3-AD5B-405B-AAC9-D892123360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4F64C-EB0C-4D24-A424-FD197503A6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329FD-4704-4CF0-BAFE-E255848465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A2543-0F04-4825-8F2E-D03A590FF7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CCB1C-B4BC-4110-8576-4E33F11C8E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791A1-1220-4278-B03E-31BF2AED8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D7E39-BC6B-4C1B-82AD-1C9EB8369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824AB-4946-4662-93D4-2078EBB90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DF995-08A9-442E-957D-6B8399746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DD043-8414-444D-A174-D84FA267D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7D123-7CF2-47D6-AE90-C96A2674A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83548-6A43-41D6-A3D7-8D07FE8AE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12C74EE-40D5-46A5-939E-DBF920FD9F5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249E297-3BEF-4A20-9ED1-C1F8C7BDC6E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F7A810F-D24C-431B-AA18-326D5AC5B41D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EABBCBC-C2A2-49DD-A21A-E1F3CE288629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add-on module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58F5-C901-41AC-A5C8-F484D6031F1C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3-12-06T13:01:21Z</dcterms:modified>
  <cp:revision>331</cp:revision>
  <dc:subject/>
  <dc:title>No Slide Title</dc:title>
</cp:coreProperties>
</file>