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ACF4D69-1256-48DB-82A3-3290C238CC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30CAC79-77E9-4EDD-8F77-042B6A40B7CE}"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44BE9-317C-4C8E-94B2-C6999827C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0BA17-1485-4AF5-A98B-A25537356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41E76-6981-4D03-9BDA-4C48E1B72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6DF78-3AA4-43E0-935F-4EE489270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403EE-7EE4-4CFB-B9CC-B473A94DD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76AF2-51AA-44D0-BD2E-3D783F52C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A0492-D8C1-4B63-A957-61634BF31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96206-BD25-499C-BDC5-292D19CEE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22DF8-E18F-42CC-8E34-EAB9E5C43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9A11D-9079-43AC-9F42-06D1B7CBE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2A003-D636-409F-A828-EDEA5E177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AFBD-66DF-4D72-89E8-45096A1B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EEFEA-8D4B-4A90-8DD6-DFB06E26D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9486C-4BDD-4F7F-A0D3-0A3529C58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B921D-E8FB-4674-8504-C25B68FF7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8B4D4-56F0-4C8B-8B00-62A3818FC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FD809-4CCD-475A-954C-0FE34F481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EA50E-FCC3-4A1C-B67B-B077BD0A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78348-312D-4A71-8D05-33A45F936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7E2C6-FBF0-464B-A798-D18E2DC8C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712FD-D4AF-4EB9-B955-47448C328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3D2DB-791C-4DA6-AAFD-061CE621F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4822-F2B6-4D00-B471-2AA6CB2FB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EDDD5-A222-4F44-932C-C168AF8B3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3 October 2014</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E84D-952E-4570-9293-C13FDB546DA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3 October 2014</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0B85-D63E-48F9-B09F-52828722F26B}"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DB81-14F2-499D-B7B7-A7838A2962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E025-9F17-4AB4-A3FA-C35B2838B5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1707-F7EF-4837-AF53-7C921C43E1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B335-BA63-4449-A943-93F02D0F6A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65F7-133C-4967-AA32-D51672E32C0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601D-14CB-4E25-978A-69727A3E42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64BB-C729-4AC3-8876-82086BC15F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1A34-6C2E-4E62-AFD0-2C2F403D5D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515E-2C86-472A-ABC9-624CCC31AB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27C6-D672-43C1-AC91-D130D28ED4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7025-C948-4255-A1A4-B02EF94A9C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36EE-7C76-4382-A721-DF7AF1D7C6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4F91-12CD-4202-93D8-57BEB3553C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661F-962C-4258-A349-1944A54FD6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D9CC-BABC-4A0E-80AA-A0B700BF76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64B6-1B6B-47B0-B0E1-E99E6D1E51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D673-B937-4601-BA7F-FC754A612B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B193-8056-4532-AF4B-D2A05BF46C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AB81-0D0F-4A2E-A3EA-40A6F0F144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88D6-F08D-44D4-8787-F27654469C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DE05-6289-4E8D-B494-89BB2FB889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8C75-8CB7-4618-AA59-C8DB6DD69F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C6A2-3A73-4B10-9D79-D94420911C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C4FE-BEDC-4348-A9B8-725CD7FB73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7F98-F6AC-4DAD-B657-F73C9BD1F57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0A32-4BDF-45E6-B47F-ACF0D1E30B0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F66E-0464-4A1C-BA39-0010691A06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9DFA-90BC-4153-99C3-C3F1A1AC9D2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0BA0-C13D-4F0B-912D-E2A3920B69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48B7-3086-4CB1-AF90-DF6C699A70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C356-B060-4BE5-9957-DCF6732BFF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F816-1B87-4508-8DE2-A94788EAFB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295B-95B6-462B-A451-68197B9A3D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2952-4819-402B-9593-1B8E0FDBDB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C3FB-0AF5-46DC-BF93-77BEF07A37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DD8C-994E-44C3-AE06-C9523CB191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6</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1FD5-8771-4F0A-ADD6-BCAAECBF8A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E942-3C18-47F0-986F-8CFB67B4F7E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7071-E554-4561-854E-93B201F2EBC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2809-8DDD-4C9A-B490-D05ACAC13F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4399-1E5A-4FB5-A209-2B6581FA8A2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4-10-16T13:39:45Z</dcterms:modified>
  <cp:revision>64</cp:revision>
  <dc:subject/>
  <dc:title>Aims and Objectives</dc:title>
</cp:coreProperties>
</file>