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8D24-0F98-44EF-80E9-EE373C237798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F13B-68DB-4F17-8F9D-137A95B3CF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E14D-270E-49AF-B71D-6EE0E707388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B124-8E20-4FC1-AB9C-9C3359D262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BFA9-657E-454A-A780-056DDA1F47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0F36-6BD2-4CC1-8EA5-2999A01216C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7FDA-888D-41C4-A90F-46F2F7F22E3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AFDE-8784-4A13-B618-11EA5BE5FE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6461-7C80-4629-A4DC-5B4021DA9C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FBA4-4EB1-46A1-AD89-F09D15BC1D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6877-BA0C-4B98-BD0A-8977FC3783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B4E3-DF1C-4330-84EA-988B2EC7B0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349F-3BF8-4452-AA7A-56C3ACD601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E1F3-E492-43D6-9073-80CAECF879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8F6E-71B4-47B4-8504-A5403AE458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FC76-ACEB-404F-9EDA-346D742675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FFFB-3CFA-4351-83C6-1FCAA0BA199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9225-B615-4380-A00C-5975B9C180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4983-BFCE-42E1-92DE-833800C28D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8A96-6B09-43A7-A4E1-8FE202CBE4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CDF1-2CC9-4BF5-81D7-02A23D1E07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9D2C-5B51-4AD0-AF1D-9D5998705AA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7862-CD9D-4990-BF28-6CEEAFA006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FF74-2FEE-4FF5-996B-2ACEF8ED46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D10E-D207-4B90-B801-8D0F6CCDAA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D2B4-0ADE-4065-B783-18A0B19D62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6ED6-2D53-453E-BB4C-EB0541808A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4FDE-8802-4128-A124-AEA3249398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B68C-001E-4EA6-8AAA-9923C3AE29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C052-CA2B-46D8-97B5-2ACD145A0BB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A361-7CBC-4AF0-B347-AAB0EA62D93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2BA6-C306-4936-8C84-AA1E1A624A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D026-5510-4DD3-BAB8-13E30E56A2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CCA3-0530-4539-BB9B-76C45215B4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4C46-1F2E-42D0-AEEB-C856BCAD65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317D-3E0F-4622-8874-CECEEBE53D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763A-BA39-42A1-8623-7E6509FA2BB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742A-95B7-4D31-AA42-DA6F9F71CC8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538-1550-4E5D-B428-F2AACB71A02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B129-3D8D-4AEE-83DE-7405CFB322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2FA8-C0ED-47B1-8454-402254C0B9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19BA-87E1-4084-8808-2B82D382BE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C0F7-FA13-4BF2-8387-784A8C7DCF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D970-7A9E-410A-A699-F31C441C42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FAAE-1B5E-4CD7-BB38-D09A686593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71AF-4E1D-44BE-B188-85EB76E4DD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3FBF-1275-41D9-AD3C-FBB1E82950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9BC1-C3D0-4E41-9188-EBD8EF0C55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EEE9-8604-4A3F-A7C2-43B306F318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96FD-49F0-4600-9066-A6C2721DE2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E360-617D-401D-871F-6BB09564A8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29AB-C861-4EF3-BE49-360B672F2D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7488-BF07-463F-BE96-81334A7D82C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63BD-E832-44E7-BA3C-74F36F593A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9B4-9A5D-4482-BBB8-B35F59ED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975-A33C-4D9C-868D-030584D2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FEC-8255-49C0-AEC4-A622AF18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91E-4A92-47BB-B64A-321A967A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94E-B43C-47F4-ABED-905C67AC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705-420C-4437-B42C-0E1E875F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877-E962-4F27-A3F9-CA9D352D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848-E234-43A2-BF28-4AC909E1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BF9-A6CE-425B-B8F4-BD0E21C9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DB3-39FF-4419-8599-2B527143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5BD-296B-47C0-A69D-472C1A81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049-1BD8-4A6B-B769-11711ADE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9CFB-4B38-480D-9CF1-A0FCC62709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4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4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4-11-12T15:18:47Z</dcterms:modified>
  <cp:revision>99</cp:revision>
  <dc:subject/>
  <dc:title>Aims and Objectives</dc:title>
</cp:coreProperties>
</file>