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1317-89F5-4F0B-9CB1-3655F0174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B7E8-C455-42B0-87A1-F107DB2A4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A12F-22E5-4BDA-B76D-5E047B3FF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D2B4-8D65-41E9-8F05-47FBB9AE5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F233-E52F-432A-ADF1-1EAEAE0E38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22DE0-9A42-4E5F-B593-CBF0E0528B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CCA57-9782-484B-876D-0CC309C50D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6AD9C-81F2-4FC6-B5FE-0F5241A232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C6D67-F5BA-49CF-A680-899DCC5024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31FD2-B551-4989-A386-88665F6768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FE1CE-B19C-4CD5-8BC3-1349CD98B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5065-881C-476B-A28B-1E82C587E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4E6DF-CAC1-4845-8F80-D30392DB40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1F4D9-DC0A-45D0-B641-33497D5DE9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956BC-3548-4C19-AF10-9BF232BF65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9C457-04F0-46FE-A750-4DEFB5450E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E4781-0357-4A68-848B-A859DC2C7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5B09-E06A-42AF-9370-798A172A2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6B19-CF43-47BD-AE53-4C18F9206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7912-BAC8-42A9-8E3D-8704664D8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B666-6C78-4316-A7A0-07308C4D0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EE25-8DB0-412C-A06F-BE018EF87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965E-348B-45BE-A236-930E63EEF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F0EA-6A1C-455D-BB44-9F440142E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D71714D-6096-46B8-BF94-E5FEC1A76CA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743568E-625D-4B65-91F0-9A48958239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E673C4F-684B-4068-B496-C256D54D979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9377FD2-C323-4EF6-9B09-AC82AD1856E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4-10-13T11:30:44Z</dcterms:modified>
  <cp:revision>228</cp:revision>
  <dc:subject/>
  <dc:title>8: SAMPLE SIZE DETERMINATION</dc:title>
</cp:coreProperties>
</file>