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D717A-312C-4CE3-A768-AD22D57BA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6174B-EFFC-4EFE-A0A1-146942B8E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3405F-0503-4F45-B760-31B026C0E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223F-9A7A-464E-A786-3E6FBB4F7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2BB3A-0AB5-48CA-80B1-C892DA1363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27DD6-7BF5-4AA2-BAC1-A29E2F0B8B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E8E22-751D-4A8A-B0E6-E5D4F9E766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CC9B2-C700-4743-A1DC-29DADE5F6E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D4685-1FB6-4705-87E4-717E70AB5B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9F6BB-B5A2-4A7D-A563-A99FDEB7A7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55C79-9A4C-4108-BDE0-8B70AE12D1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6624-B6B7-424C-A218-3102CFE68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E7A83-3105-4A1D-A352-FADB785B03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A14EA-597A-4B3A-BDB2-FDDE3B8907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00031-9F81-4F2E-915A-5AFA2FEBEC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E8B1A-707E-4D3E-871D-5E7D6CBF83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7CF0C-4F04-46B2-9BB7-D1AF4FB2B3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C1749-3108-43AF-8630-55B505204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6EC47-275D-4C20-B1D3-D2D04C441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077A9-B8D4-44DA-AC1B-DC8A3D706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C9B16-2F33-46A3-A7D6-8D7754142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AB29A-AD1E-4888-93B2-2FB816B2B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4FAD0-1B5A-49D8-A1AB-70FD66476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2A884-447D-4C7B-82E4-194B8F1D5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4F39575-2781-48D1-81BD-91467445423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AEDE3EA-860E-40A2-97FD-BAAFFF60D67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4BD09AC-05F7-40C2-8DDD-B413F451B9D6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A5F3FBA-8B02-4D18-8142-AE512BA5D72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possible to sample but 80% response rate and gender matched siblings wil reduce sample past 120 needed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-help.com/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4-10-13T11:30:44Z</dcterms:modified>
  <cp:revision>228</cp:revision>
  <dc:subject/>
  <dc:title>8: SAMPLE SIZE DETERMINATION</dc:title>
</cp:coreProperties>
</file>