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6300-1CBB-47CC-AA02-EF3993D42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3D75-161A-4234-BBB5-8F0C79CCF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8FF3-763D-4FF3-A46E-B7700CBDA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AAD0-602C-4E5E-8B4C-B6FCD718A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4A230-79AB-4142-8093-7AF93FBC1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82A2C-65A3-453B-B48E-BE98A741EB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C4526-D8E0-4CA2-AACA-1AF77607E8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65CE8-E07E-4570-ACDD-0F4DD8C983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5E42B-C954-4CA3-908C-ADDBB1F37F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B517F-D25C-49E4-B42A-6956868CF9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03943-C456-4096-8F75-4E3555AF9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F86E-997A-4BEA-B74F-E14DA7C6A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01C85-5333-4A42-B8E4-2D56115B1D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FD5D5-C712-480F-A53A-0381C2CBDE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B009A-7DC7-48F7-AA29-700162185E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2157A-0B89-4759-A8FB-9A2222B12B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7E730-C037-44AF-AA2F-324F572348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68F6-471E-437F-92F8-F7FE39DC1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3045-9D7B-418F-8919-CF1A08ED6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2310-055B-4458-80D4-977E19DCF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568C-A151-42F3-9742-E336F5816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444D-27A4-46DF-9FF4-A9A9A391A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41F4-1F32-4697-A9B7-B58FFAD60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9680-E9DC-4C46-A2FF-59D84659E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8C71BFB-1B5C-48BE-9BFD-F0DF0B96DC5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0D657D5-B39A-457E-B127-E237AED1BA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1265728-3E3B-4563-B95D-1DEFF3C16A8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2A59C71-4595-4E2B-80C6-4C49E242A2A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4-10-13T11:30:44Z</dcterms:modified>
  <cp:revision>228</cp:revision>
  <dc:subject/>
  <dc:title>8: SAMPLE SIZE DETERMINATION</dc:title>
</cp:coreProperties>
</file>