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3EDA-9C10-4385-A179-F455DD20E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1811-1EAA-4FC5-A7E6-3AE731EF6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A083-B605-4FF8-BC4F-E91D60D1A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7FD6-140F-4A78-9AC3-9B238A4A0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F8368-5004-4664-9E07-EE2BBC93E5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2D543-B3BD-41EA-A9D0-E7425B1C2B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2D40-0DA5-4688-B3E4-C164FF92C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B1D9C-CC1D-4F84-BB12-8491D18C9E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98445-AA19-44C8-BD60-8852E177BC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B33C7-72D9-488B-8684-388A19351B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12859-EE3C-4683-A56B-766C4D694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019B-BE12-4390-8F98-F09629095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A3043-EE4F-427D-9833-B5BFE296C9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731E1-16D9-44F3-847A-6AF5C24BC0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54E8E-FEE5-4D63-AB93-CBD99FE9B6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957D9-A11B-4F35-AB76-0FBA34460D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CC910-E508-499A-AEB9-B71E3B7A4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EB81-6DFC-4F84-9263-8C8001A64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829E-50A7-4C0C-A205-9BCC00AE9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A3D8-FB81-4EC0-97C0-4BDFDD8BB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E8D1-2AE1-4A6B-B921-3B908A9DB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0D20-23C5-4ECB-AC8F-5D836ECCE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36D5-76DD-42FD-A401-A734BBC42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5F71-C838-4FCF-8247-5C2BCF87C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71C5E54-BF47-4F62-AB8E-EFAAAEEAD4A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0B7EA56-241C-4B68-BE8E-AAEAE48AF6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8E9D948-B73B-4C90-AEAD-798401FD880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3917E82-6DC3-402C-A4D2-F323C961535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4-10-13T11:30:44Z</dcterms:modified>
  <cp:revision>228</cp:revision>
  <dc:subject/>
  <dc:title>8: SAMPLE SIZE DETERMINATION</dc:title>
</cp:coreProperties>
</file>