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351-99D5-42B3-B776-F906D9D9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E95-45BC-4AD7-8569-C528696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B49-4BBC-484C-A8C9-66609199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509-08E3-43E3-9A85-30376B10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684-5C22-442D-8BE3-8CDCD72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F0D-BC2F-4852-AC99-32C16DD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73-F1BF-4B70-99A1-AD5930E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C02-88CE-4FF5-B646-0CC4C44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E16-B9C8-4CA0-B602-709F246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732-90F5-4432-9074-6AE34FF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331-DE46-487D-A9CD-B3F67CD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EDD-45A2-4EED-922C-F6EA18B4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58CE-D017-43A1-AC5C-CC554255B8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7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4-11-12T15:18:11Z</dcterms:modified>
  <cp:revision>81</cp:revision>
  <dc:subject/>
  <dc:title>No Slide Title</dc:title>
</cp:coreProperties>
</file>