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B61-316A-4AEB-BAB8-FDB6122A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2A9-2AF0-40CF-A5A0-3CE1ED15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667-79FA-4DCF-A521-E4392CE1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B79-62EB-44BE-8F08-E373984D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CAB-90CE-413E-ACE2-D7A4C5B2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88A-A981-45E7-8F19-706B1582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033-F872-4E2B-B48F-2E644EB7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20F-9FE7-4C42-ADCF-ECF52B55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526-DDCB-4151-B144-EA525446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7A2-EBF1-46DC-A3F8-71F3FFC6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A85-A0EE-41FD-ADB9-559714A6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550-D414-4A2F-9058-45A7661A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EFAB-D142-44A2-8EF2-8FC485F5D8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7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4-11-12T15:18:11Z</dcterms:modified>
  <cp:revision>81</cp:revision>
  <dc:subject/>
  <dc:title>No Slide Title</dc:title>
</cp:coreProperties>
</file>