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17A8C-C0C3-418F-BD06-55D92F3FF9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3583F-5E76-4086-BBC5-40CB62DFCB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95836-1120-43DC-AC37-176250B246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E68FC-4556-485E-B03A-EC3926CFDA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9A999-4459-47C4-A08A-11660A5877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4C8A99-C3C4-4DE7-842D-7C705905FE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697BB-7C40-486A-B843-83ACE40F3A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68409E-AFA2-446D-9CBF-639B869000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446C4D-2758-46C9-A989-69077E979F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E7569-EA60-4360-97FB-36E14326E9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6FD891-C3F1-42F3-B21C-BE3F682816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8877B-D5B3-43CD-B61D-BB3C29A75A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89EB3-D702-40B6-8CB8-8D95AF7C93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F112F5-3D5B-4846-B029-00D1149C66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C66C44-880F-4243-AF52-E5B3C6FE62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586AF2-D14D-444A-9F48-6CB78588AE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4E5DD5-1243-424D-8902-E8BE68E6B5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957A3-A07F-45A2-A4AF-9A70961A5A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12625-E1C0-4140-9360-2AE5D9BC78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6447F-0CD7-402E-A874-5ED3EA8D21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CFAFC-59F4-4BAE-B5A6-798D82E24E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03911-9AB7-4893-A150-D49D08CAB2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93362-7DB7-4F98-83E1-8546553E87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5B107-0770-4B96-80D6-B852723B09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E6E2B65A-9B52-4A6E-8C63-70FE31B75A7C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156D167-7741-4880-B96A-31EB4EEB045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FD0C7951-AFB2-4A1F-A20E-B44ADE8AFE3B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3C54CCAC-5BCE-45BD-B5B0-BA92232E448B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5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886200" y="5334120"/>
            <a:ext cx="45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2 task-group pairs have equal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604360" cy="2547720"/>
          </a:xfrm>
          <a:prstGeom prst="rect">
            <a:avLst/>
          </a:prstGeom>
          <a:ln w="0">
            <a:noFill/>
          </a:ln>
        </p:spPr>
      </p:pic>
      <p:sp>
        <p:nvSpPr>
          <p:cNvPr id="145" name="Oval 9"/>
          <p:cNvSpPr/>
          <p:nvPr/>
        </p:nvSpPr>
        <p:spPr>
          <a:xfrm>
            <a:off x="7308720" y="299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6" name="Line 10"/>
          <p:cNvSpPr/>
          <p:nvPr/>
        </p:nvSpPr>
        <p:spPr>
          <a:xfrm flipV="1">
            <a:off x="6659640" y="4221000"/>
            <a:ext cx="1441440" cy="1152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157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8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169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6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4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 (permutation bloc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uld also use a minimisation approach to balance e.g. MinimPy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30.50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66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8.7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2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5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8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241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247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8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66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70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274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89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93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9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300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4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2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9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0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4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54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7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128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8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13-07-18T12:34:18Z</dcterms:modified>
  <cp:revision>364</cp:revision>
  <dc:subject/>
  <dc:title>No Slide Title</dc:title>
</cp:coreProperties>
</file>