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0A6-863F-47D8-9C6B-512480EB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185A-9FFA-44D8-BD6D-35C02C580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17F5C-5494-41D1-8D1C-6D2685248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60738-F4AC-4133-9692-CE3E234C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BC0132-97D1-4712-896F-5194DCB1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F6701-1C31-41A5-996F-5DD6390C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4B534-9844-47C9-B20B-644D251B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C1DFD-C272-4A0E-B05B-62651545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8B9818-A38B-44EB-B59B-545AD99D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52779-853E-4D67-AA37-5A9EDD7C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40BB6-3387-4314-9434-23C3C91C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DCFC4-4B18-4E63-A8CE-98E63930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35B2-2EB2-4BED-B888-594E7A27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719AE-C2C6-4A48-9345-84B80CAE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04115-9BFD-4C94-8B07-8D1BB75B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7F41F-64CE-4A39-AD08-1F3A577A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5D30F9-7528-4A27-82A0-B4F2A014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89F35F-FD0E-422B-9A33-B3A214B3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72868-C26F-4ED8-89AE-BC40EC1D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B6C3B-5478-4026-9AF0-9D52FB1E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ADFBB-BE56-48BD-B554-470A4F13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303D9-E7B7-47C1-8312-2E39516C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7206A-AECB-447F-A749-2E5471C8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7EFC-1986-489D-A2C8-589EAC7C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DB00CD-9ED3-4058-80CE-6E34A8F0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9D71E-6812-4F2F-9A11-A3EEC17CA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5D634-EE52-4D16-BA81-FF973AB5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022EF-81C4-4F95-A3AA-A32DEFA2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29EE9-88F3-4AF5-AFCF-BE1429C3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5DD6D-DFAD-4984-9501-79CD624E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3C4E51-8DF7-4BAB-A4A4-25AA94B9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CE3E6-CEEF-4904-99B6-6EE08C57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7ADE7-5477-4731-A8EB-08DC8FEB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AB2F7-DCA2-40BF-9C73-A817F7E0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64E1-7B43-4D6C-A415-C1A1CA6D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29F5C-D645-4CBD-A644-8F4AF757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CC59E-095E-4E35-997D-0275F62E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8010A-5E38-4B7A-8D54-1466735A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D8E46-3B45-423F-9F48-1FB708C8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E3470-4007-4A5A-A16D-2435F56C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1CD90-B83A-49AF-85AC-7125CA95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E8F64-189E-4867-B045-BB152471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C1B01-A36D-4F1E-9902-040568EC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39021-B4B6-4C41-A375-E0B5E922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AF219-58F0-4AF3-9CE6-98260513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021F-2CE2-47F7-86FC-BA1B60B0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8A1E4-1462-4326-ABE8-48C50C02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04C46-B2C5-435F-ABFE-46F26436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1D065-03B7-43EE-88DC-6B6BA6E6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656E2-4EB1-4A0C-8F4A-06597B22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98A55B-C4C0-44B2-B894-493F7AC7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98CC2A-6BDF-401E-802A-7C1B2411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D27F5-E3EB-4881-AA1E-21753D47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A657E6-03EE-42B2-8258-A17D4383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3B3DE-4B9D-46ED-9503-2CEEE88B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0E412-310B-4F98-B370-C83FB878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C6E0-B762-47E8-8DA0-588F993A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81243C-0D00-4CA6-BF52-20B48092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0F0E6-9C9F-4D72-97B2-E2841BC6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D6F0B-1C11-4983-A8EC-ECE23739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2471A-9424-48C9-BF8F-1505A2C0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A325F-8B44-4B45-A911-506D6B7C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8F0DD2-76C2-4162-87A4-C0962953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26D87B-468D-4FBF-B339-696E3445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CFD582-2C9F-4679-BB4B-4B11C878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8D0E1-9E42-4597-A087-02A3575B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35A8E-A991-4743-B4D4-E3E75C4D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6D3D-6E9C-4B85-B96C-DD3F22EE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A5ACFB-6C8E-44A9-80ED-9D4A00B0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2D187B-477A-4A2D-866B-E7733784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105E6-F130-4F51-88CB-F8692A30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DA22C8-0279-48A9-B045-BC67E9BC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E14957-3895-4B9D-BAC0-61B4BD87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7000E7-DA60-4FC7-A9FF-3397893A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462518-30FD-4C18-A54E-19C7F850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6A672-B6A5-4132-B166-AF8A4F23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202E28-13A1-4D05-A697-C263B331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7EBCD8-74D6-4A61-8007-BA74B0369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B708-48E7-46F6-8FE0-8D5A050B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30957-55A6-49C4-B1EA-325ABF92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CF68F8-FC90-4C3F-A8AA-4A4C17E6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D062C7-F7FC-4108-B5E6-1E8233F0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45AAD9-E437-447E-876A-AAC0E50B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0061A4-554E-4234-90A5-83C2A40C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F01D36-C3B2-4901-8C65-E2C4DB43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197A55-102C-47EC-BBDC-405878B3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AFE7D1-A63D-4B5C-A76E-E0A170BD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BE46B5-0C2F-48FE-BEAE-B7C58F3A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5BCBF2-FBF4-4389-A5B9-921DB9A5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5CF8-8483-42C0-ADA9-9BA97361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5A3BED-5F6D-4D6D-B276-86B84F0A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1DDE69-6E75-42CB-A8C9-53949290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815B96-F11E-43CC-B3F2-85087E13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2A695F-6044-41B8-9B5A-F82BD3FC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AE8908-7258-4A87-9BE9-9CA7E8C3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9CB2AA-FCBB-49C0-9CB4-8C0EBFBF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F80E52-5E1F-426B-8DC8-8335A2CB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FD5E98-0A66-4DC2-A5C0-0366F808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C8B87D-BC98-470A-AEF2-294E3765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1DFA8D-AAB1-4F10-A98D-72A98192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1487-5CC4-4151-889F-D4A09CB7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DDA9D6-13D5-48FE-B901-1D81B0E2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24BD00-0CF1-4104-A882-266BEB8C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FCA68A-2806-4106-81A4-37D8330D0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2C11AA-45E3-4E78-A640-90753F3A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48CBBF-1EB2-46F8-A867-06DC49E6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92AA92-C563-4779-9B34-14BC51C8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87FE13-DF5D-42C8-8ED5-7FCAB90E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5F0DB0-00D2-4794-A6DA-EC2F2262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97CB81-9037-451F-9121-A6FBAA66A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CDB45B-A29E-4C4C-B441-192EEB3B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EEE-188B-42DD-9980-5EFD6C64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8288-A6EE-4B5D-9B5B-C287706F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311D7D-A093-4CCD-9CDA-22F9E8EB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68613B-C883-4FC9-A16E-6B548194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14130-7FFD-4430-BB8C-2CBCE77D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099AB7-30D6-4F4C-820C-F5321A5E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C56DFB-2B34-4899-862B-F6D18C0F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8FEFC2-9393-425B-AA3D-C372B4FD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4EB638-1076-44DF-A269-577B1C44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3AE9A5-1BB6-49F7-848B-047A6D3F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8B49BD-181A-4F36-B6AC-A20EC514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32E61E-7C8E-45F9-B5A1-34C96AB3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40EA-3A0A-4FA4-8827-AEDDDD97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640E5E-3D1A-47BD-8EF9-69D45BEF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6DA539-8D24-40AD-9EDF-1FE84CD6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E3C93B-BD79-414F-8946-8C9E19F3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1749A5-6D4A-47E9-807F-7C90765F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C260EB-7421-4364-927C-9A863082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DF6836-80EF-4ED0-846F-47C623479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5E8D6F-9854-41A5-B293-3D5ADD9AC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0153-2A41-4D14-8E9D-3FE3B677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29DC-C0BE-4A05-82C9-136C25271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76CA-BB0A-4F1B-8C4F-1319D7DD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13313-45B6-486F-BB18-25919930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437C0-DD9D-48FB-B7B9-BEEB6D35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C55C9-A79C-49CF-8FE7-6BFBC194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24DD2-D66E-4C47-A698-1DB09469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EE242-C4FF-4F56-81AA-B63D0A0F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00D3-7C47-4C2A-8BD9-44BAB709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038D7-0C58-4F4C-ABC5-81B18DC8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D3C43-1329-4D3B-A5C2-4C6973C8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AC352-EFF5-4C7D-AAC3-3C52DC0E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74E41-FDCF-4BEB-B6FF-9744EAB0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86FEC-4BF4-4FEA-8324-CEED33C0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DD95B-C20E-45ED-B54F-654C3FC0B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AB701-CC5E-4D74-89B5-D0A92CB8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8B620-7352-49D0-A4D7-0690A45A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342D1-FE78-4A06-90A2-BAB85E98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5B2DC-4201-494F-B75C-FC0ECAD5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6AE4-54EF-432B-923F-5E67E482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7C30A-2099-49BD-8C9C-0C06A2A8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EC4D2-2CAB-4EE8-B4ED-FD7C6C75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B1AA8-8907-49C8-BF23-334BF921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EBD39-8983-4C88-9FAE-F0B8896B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2A99A-AFE1-495E-B4E6-0A784529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71457-FE6E-4340-BC7E-4872AADC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BA807-ABC4-4073-8449-851254B3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336EB-C049-4A38-9AF0-B247B15F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3233A-14AF-466C-AAA9-9B891335A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391EE-28ED-48B8-BD82-5C82C765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7833-EDFD-4563-AE00-1BE1A64A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9777D-A0BA-458D-A9C9-21B87CDD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D3060-7635-4717-88A9-63317A77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D5C7A-D3F2-43BB-9B9D-59631187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A509D-1D8F-4011-B932-A63C94CC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FB2F1-BF17-4D48-A27A-442ED10A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102AB-7BCD-4521-B3CE-79861C7E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C63BD-98A7-4210-9EBD-4160AAC4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B4939-644F-4001-8871-0E283510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62B2D-C96B-4E65-BC50-1AA76805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E7114-A1A7-44B4-B0A0-54E7F170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581-2451-47A4-BDE9-7803D98C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9AF0F-A283-441E-8DEA-AD34419E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18C7C-4125-4866-98EC-5A8C4CF71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6DCAF-EA19-411D-AFAE-1043ACC2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15032-1026-4113-B8AA-5C5CC4B10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E31DC-230B-46E5-ACA0-E059BCBD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685DF-F93D-428A-978D-EC21C4DB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DF8E3-FF20-432B-AA40-EB06CB52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C8E27-5B00-46B7-B3AC-EA9E1CFA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19FAB9-7EBB-4DBB-83F6-7B205457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E7D28-83F8-4F5A-AF5C-ABA44D66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4824-38F9-477D-8B0A-AC74251F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0BF00-0F76-4800-9CEF-0983D9C5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B3531-E9DE-41DD-AD8A-7EA70301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D44F1-30CB-44A0-A73A-F9F3D9B2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FB8AE-5919-4DDA-AE0C-B3DEA4D0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B4196-58D5-462A-B273-43D8280B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7083A-D5F3-4985-AE9D-86BEAC0C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B067E-A3A7-40EA-8594-A75AB4E9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6E6FE2-3A9C-4C1D-BFBE-C21B8A5D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0DE92-DB43-4100-9FD9-66D468C4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71E8C-1EDF-4C3B-B070-7472E8F9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901E-3C75-4779-B9B5-39F5850F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A5659-B5EA-402B-B359-7F398186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13C6A-5AB5-4E82-A92E-9B2755F9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6E5FD-1B97-4D24-A52A-6BDFB8EB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D27CB-59A4-48F0-AACD-856C0489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C0EBC-C597-4196-AEA5-F5B4089D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07269-A59E-46A0-A4F7-9CF0D1C7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86133-E1EB-4C80-9371-204AB1C81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349C5-EF51-4A75-A599-556112C8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A22C1E-3D3C-44D5-959F-BED3206A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B72D0-CB13-45EC-B037-73052324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E6C-9BC7-4732-A241-D80A71D8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989B7-1937-4C6D-8345-50C979D5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AC4DB-F324-493C-943D-AA50721A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078A4-3A05-4EB0-989D-A68AB8A5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B0E35-85CE-40F5-8CA9-769F15F4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B0EC5-EAB8-49C2-8AE5-3C5D9992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78128-344C-4505-83B7-6D60317A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DE790-08AF-4B05-B693-739FB2BBF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4E184-CCAF-4FF8-9313-C693F4375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2F6B54-977F-4939-A531-2ADF936E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9970F1-4B72-4502-8FA4-5CBC73B9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2375-3E81-47F3-B47A-43FD3F47F55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6B85-8594-4D2E-A2FD-5E087D2DA3C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A4CF-A7AE-41FD-9958-8E54683AA71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1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2627-C64E-4A1F-8241-B63ECAB27D2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7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CD99-AF5C-4A40-845E-CC0E091EB9C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B001-9F83-49AB-B2CC-712C1007227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7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E169-468D-4746-BC38-B1EBB5DB78B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5080-A59B-4E69-8305-C61F36DA178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0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00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 type="dt" idx="5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 type="ftr" idx="5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 type="sldNum" idx="5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20D8-8363-439F-B475-25BD24858E67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40EF-1FE6-45BD-8D25-A24C55096A5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F025-0E52-4D0B-BCDB-D50EC226A37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9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E0DB-666D-4CA1-9E61-CAC64DBB58D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8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94E4-318B-4237-A6EE-54A3C7EE21F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91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3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4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5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6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2171-07F3-4B3B-B6E0-7D7CE935844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4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7563-44F6-4636-A5D1-9375E7AC9F1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7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9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0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21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22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DE6A-BB90-4EE8-9070-A75126B2522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5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7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8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9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8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904160" y="6316560"/>
            <a:ext cx="1484280" cy="4399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th November 20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58C5-E6BA-45AB-BF6D-8977C04C507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ED8D-5B37-4CFB-8FB3-C6FA179FC90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5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5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F94D-A896-42FC-9232-61FF91BF34F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E51C-E6E9-4403-AF9C-E341EFD58B0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8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DD97-82FA-41D7-B0A6-0C416C41574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3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5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D191-A3C1-44D8-9155-E2900F3E617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0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D9CA-CC43-4375-8E31-3EC02F5D05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16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521D-F506-481B-B3BD-3CE78BD0BDA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2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E301-1371-4247-9CBB-A25BA2B328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27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28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CEAA-770F-48D2-82C9-E6923C9979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3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D4C3-0DA5-40E2-8442-25FA4BA006D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9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1519D-2F12-4AA6-B5A1-33A1BC45DD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46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7DA6-9E8A-4699-8982-FE9BD3D4666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2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5 November 201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78B4-E7C4-4B5C-9F9F-EB81AA60DA8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1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15DC-FD7C-4116-8319-B839461616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A4D3-0B8F-4780-81F6-A9F04BB7AB5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9B4F-8918-4382-848A-EE5770F9A83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1066-8A71-400B-8100-865224F7775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5111-28E0-4322-8D74-15C741A0F74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DC84-B245-4E63-A9B6-9CBC7AA499C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3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4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5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6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7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88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89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0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1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2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3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4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5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6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7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8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199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08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09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0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E73A-3B95-4F8D-AA69-6388EC5D8D9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16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7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EA38-56E8-4642-93CD-D66FABE24D1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3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3FFF-BBE5-441D-A87E-69315726DD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9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59F6-3581-40D9-9233-4914B9DC782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44EA-7FD0-4419-A714-CC91D20E15B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5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9D26-9B96-4EDA-A915-A4C5F51D3D0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1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E8A0-4763-4B63-811D-008854E86B3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7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8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3BF4-C042-48DE-8682-6B3FA46B1D6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4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D85A-5945-40EB-8672-BEF4E3A3A2D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1C49-D037-47EC-AE10-17CF936196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66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7139-FADC-4F77-AB1F-283DFD94AA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1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2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5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1053-02CF-42D0-A222-8216A0F3BA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77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3713-2892-4EEB-8C44-D185C8BF297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3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6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0CE5-743B-45AA-97CB-F44AFE07340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88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0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32E0-248C-4A76-AC6F-5A7DBD3F2C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F12B-C814-4111-B89E-4B0E287C0D2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0776-886A-4D54-9962-32E9CB98B7E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1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3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88CC-396D-47B0-A2B8-27979F57190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9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1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D5C3-9AB8-4384-BEBA-30E343DE5B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7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9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0435-8F49-444C-9CE1-6450E323E2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4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6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7268-E4D6-4609-84F7-A4A5A9AD1A4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46E0-9B9C-4022-A865-A8F4527DAF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37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38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0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1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7BF6-6E5B-48AB-834C-E0BD43412A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46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47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3885-A379-4848-AB44-6B87A637E66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4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5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6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CB3E-4783-402B-B2DF-F26DD8C75EA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2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3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4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5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2ED6-AB46-46B0-BD67-D74AA3CBFA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0AEA-38B8-4511-AD10-4564B6207DF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1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2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F4E9-C0A1-4623-B824-83F86AFDFE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FA36-D147-4CC0-9EEB-8A1DDF92DD6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3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D20B-CFB7-4B30-8987-0A5D8708BE1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9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0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CA2E-991D-4F5D-948B-90B52A71D62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8F41-4E9D-47E4-9845-4F3B5399EA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1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2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3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49CD-79DF-4EF5-82F8-6B37BC71A6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3710-BFC7-4C54-80E5-E180AD50DD3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EF9F-96F3-4E2C-999D-878898F4E54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96A7-A370-47ED-B4CE-84818DB5FBA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49BA-95F2-483E-AC0A-7ECF65FDA8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4F82-985E-4E2A-91EF-A878A40B1D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5th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DF23-6F71-4282-86FC-DEEB2677D7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5-06-25T09:38:07Z</dcterms:modified>
  <cp:revision>105</cp:revision>
  <dc:subject/>
  <dc:title>Aims and Objectives</dc:title>
</cp:coreProperties>
</file>