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6.wmf" ContentType="image/x-wmf"/>
  <Override PartName="/ppt/media/image23.png" ContentType="image/png"/>
  <Override PartName="/ppt/media/image22.wmf" ContentType="image/x-wmf"/>
  <Override PartName="/ppt/media/image20.jpeg" ContentType="image/jpeg"/>
  <Override PartName="/ppt/media/image21.png" ContentType="image/png"/>
  <Override PartName="/ppt/media/image19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9.png" ContentType="image/png"/>
  <Override PartName="/ppt/media/image11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3.png" ContentType="image/png"/>
  <Override PartName="/ppt/media/image33.png" ContentType="image/png"/>
  <Override PartName="/ppt/media/image8.png" ContentType="image/png"/>
  <Override PartName="/ppt/media/image32.wmf" ContentType="image/x-wmf"/>
  <Override PartName="/ppt/media/image12.wmf" ContentType="image/x-wmf"/>
  <Override PartName="/ppt/media/image13.png" ContentType="image/png"/>
  <Override PartName="/ppt/media/image36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7.wmf" ContentType="image/x-wmf"/>
  <Override PartName="/ppt/media/image37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15.png" ContentType="image/png"/>
  <Override PartName="/ppt/media/image14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2.png" ContentType="image/png"/>
  <Override PartName="/ppt/media/image25.png" ContentType="image/png"/>
  <Override PartName="/ppt/media/image24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  <p:sldId id="284" r:id="rId48"/>
    <p:sldId id="285" r:id="rId49"/>
    <p:sldId id="286" r:id="rId50"/>
    <p:sldId id="287" r:id="rId51"/>
    <p:sldId id="288" r:id="rId52"/>
    <p:sldId id="289" r:id="rId53"/>
    <p:sldId id="290" r:id="rId54"/>
    <p:sldId id="291" r:id="rId55"/>
    <p:sldId id="292" r:id="rId56"/>
    <p:sldId id="293" r:id="rId57"/>
    <p:sldId id="294" r:id="rId58"/>
    <p:sldId id="295" r:id="rId59"/>
    <p:sldId id="296" r:id="rId60"/>
    <p:sldId id="297" r:id="rId61"/>
    <p:sldId id="298" r:id="rId62"/>
    <p:sldId id="299" r:id="rId63"/>
    <p:sldId id="300" r:id="rId64"/>
    <p:sldId id="301" r:id="rId65"/>
    <p:sldId id="302" r:id="rId66"/>
    <p:sldId id="303" r:id="rId67"/>
    <p:sldId id="304" r:id="rId68"/>
    <p:sldId id="305" r:id="rId69"/>
    <p:sldId id="306" r:id="rId70"/>
    <p:sldId id="307" r:id="rId71"/>
    <p:sldId id="308" r:id="rId72"/>
    <p:sldId id="309" r:id="rId73"/>
    <p:sldId id="310" r:id="rId74"/>
    <p:sldId id="311" r:id="rId75"/>
    <p:sldId id="312" r:id="rId76"/>
    <p:sldId id="313" r:id="rId77"/>
  </p:sldIdLst>
  <p:sldSz cx="9902825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slide" Target="slides/slide29.xml"/><Relationship Id="rId49" Type="http://schemas.openxmlformats.org/officeDocument/2006/relationships/slide" Target="slides/slide30.xml"/><Relationship Id="rId50" Type="http://schemas.openxmlformats.org/officeDocument/2006/relationships/slide" Target="slides/slide31.xml"/><Relationship Id="rId51" Type="http://schemas.openxmlformats.org/officeDocument/2006/relationships/slide" Target="slides/slide32.xml"/><Relationship Id="rId52" Type="http://schemas.openxmlformats.org/officeDocument/2006/relationships/slide" Target="slides/slide33.xml"/><Relationship Id="rId53" Type="http://schemas.openxmlformats.org/officeDocument/2006/relationships/slide" Target="slides/slide34.xml"/><Relationship Id="rId54" Type="http://schemas.openxmlformats.org/officeDocument/2006/relationships/slide" Target="slides/slide35.xml"/><Relationship Id="rId55" Type="http://schemas.openxmlformats.org/officeDocument/2006/relationships/slide" Target="slides/slide36.xml"/><Relationship Id="rId56" Type="http://schemas.openxmlformats.org/officeDocument/2006/relationships/slide" Target="slides/slide37.xml"/><Relationship Id="rId57" Type="http://schemas.openxmlformats.org/officeDocument/2006/relationships/slide" Target="slides/slide38.xml"/><Relationship Id="rId58" Type="http://schemas.openxmlformats.org/officeDocument/2006/relationships/slide" Target="slides/slide39.xml"/><Relationship Id="rId59" Type="http://schemas.openxmlformats.org/officeDocument/2006/relationships/slide" Target="slides/slide40.xml"/><Relationship Id="rId60" Type="http://schemas.openxmlformats.org/officeDocument/2006/relationships/slide" Target="slides/slide41.xml"/><Relationship Id="rId61" Type="http://schemas.openxmlformats.org/officeDocument/2006/relationships/slide" Target="slides/slide42.xml"/><Relationship Id="rId62" Type="http://schemas.openxmlformats.org/officeDocument/2006/relationships/slide" Target="slides/slide43.xml"/><Relationship Id="rId63" Type="http://schemas.openxmlformats.org/officeDocument/2006/relationships/slide" Target="slides/slide44.xml"/><Relationship Id="rId64" Type="http://schemas.openxmlformats.org/officeDocument/2006/relationships/slide" Target="slides/slide45.xml"/><Relationship Id="rId65" Type="http://schemas.openxmlformats.org/officeDocument/2006/relationships/slide" Target="slides/slide46.xml"/><Relationship Id="rId66" Type="http://schemas.openxmlformats.org/officeDocument/2006/relationships/slide" Target="slides/slide47.xml"/><Relationship Id="rId67" Type="http://schemas.openxmlformats.org/officeDocument/2006/relationships/slide" Target="slides/slide48.xml"/><Relationship Id="rId68" Type="http://schemas.openxmlformats.org/officeDocument/2006/relationships/slide" Target="slides/slide49.xml"/><Relationship Id="rId69" Type="http://schemas.openxmlformats.org/officeDocument/2006/relationships/slide" Target="slides/slide50.xml"/><Relationship Id="rId70" Type="http://schemas.openxmlformats.org/officeDocument/2006/relationships/slide" Target="slides/slide51.xml"/><Relationship Id="rId71" Type="http://schemas.openxmlformats.org/officeDocument/2006/relationships/slide" Target="slides/slide52.xml"/><Relationship Id="rId72" Type="http://schemas.openxmlformats.org/officeDocument/2006/relationships/slide" Target="slides/slide53.xml"/><Relationship Id="rId73" Type="http://schemas.openxmlformats.org/officeDocument/2006/relationships/slide" Target="slides/slide54.xml"/><Relationship Id="rId74" Type="http://schemas.openxmlformats.org/officeDocument/2006/relationships/slide" Target="slides/slide55.xml"/><Relationship Id="rId75" Type="http://schemas.openxmlformats.org/officeDocument/2006/relationships/slide" Target="slides/slide56.xml"/><Relationship Id="rId76" Type="http://schemas.openxmlformats.org/officeDocument/2006/relationships/slide" Target="slides/slide57.xml"/><Relationship Id="rId77" Type="http://schemas.openxmlformats.org/officeDocument/2006/relationships/slide" Target="slides/slide58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D159-55B4-4F92-816F-3C963A85A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AC6F-742E-4784-8D12-55A60D592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834C63-B6B7-47EE-9B50-5A3D630D4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601DFB-DC13-4EEA-A79B-9133084AE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B3B5A3-1E60-4C1F-9D9C-AF54681D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B33F60-3710-4692-A9C8-C23F189C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6ADB0D-0334-442C-8B8C-F9A8014A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31B07B-A0BD-4D27-AAC3-B34EE8B3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87F0C8-4860-4272-9C42-F73C8DC1A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C38EB5-B3BD-4CBC-8F4D-38E793904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96EE6A-152A-499B-96DD-B63D0D099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FC358C-8D81-4F79-801B-2CD878FBD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EB33-ACDD-4455-AA89-DD211A868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D8A79A-4983-437A-93DA-3B560D915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6219D9-755D-4E38-82B8-1C17EA2C1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86BB0F-F05C-443B-9E7C-73C0D15A6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242400-3369-4D6A-93AE-F959E93F1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C6A602-1A34-4363-A86D-15942F434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5804B8-E08F-47AF-BE4F-7223DD9E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F47D1E-E068-42B8-98C5-487FEA5C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6C568D-875F-4D07-AAF8-C1F5600C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5639C3-370E-4BC5-84FE-71AB95B46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D0F5B2-B97D-4758-991C-570EFD75E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9AF2-D0D2-42C5-B8BE-75A4E9284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531189-E3BE-4860-BA51-89D027FE9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9D748B-0349-4400-83D5-D7C4CFF24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247D42-0377-4B3C-A5B3-2BD94E9F5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9FACD1-E8D9-4148-80BC-48F82FF5C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F132FB-FEC2-4F72-80EE-86DBA23F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32CA49-589C-4855-83B1-40C8DE8FA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D790E2-C875-4B14-A142-D012E561D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158F3C-5EAA-47A5-8118-421B6894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3E1D6F-32F0-42B0-8AFF-1665E821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C25FA2-F54B-465B-A56E-75BCF135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CA52A-CB87-4739-A596-D9DB05B97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7BC3DA-968D-4202-A7F2-19943C265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C83F93-7A2E-4D20-B28E-408A2A66E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94BE24-9A77-45C6-991E-0D0086C31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A1C6A2-9F9F-4E0E-8947-08179A409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B2B251-9237-4725-890B-5E204C18C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3458D6-7DA9-4988-858A-E31A81146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4B9F3D-DC64-4FEA-8A63-07F8DE61A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2026A0-D438-43C8-9905-233B1AB14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ED59D2-D258-46F5-918D-82B531D61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2E6FE3-E314-47BD-AAF1-4C602066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FE996-521A-4019-83B7-EDE0C420F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2E5870-9E6A-438F-884D-A27ECD84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2A213D-4FC1-4668-B477-D95B820C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540BAD-6FF7-4ACE-B8E3-70C33341A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F57D30-6312-40B6-A733-30C849863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A06D40-779F-47FD-BCE7-740763322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CCFF0D-48CA-4B7A-97B9-AC232858D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8F1FF0-B5E5-4623-8FD4-29E7C68D3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173EB0-DC44-47CD-9E6C-175591536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54855D-6DCA-425A-AAF2-484335B76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17E08E-92A6-4F25-B39D-CED0DB853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F48D6-F259-478B-91DA-61725AEEC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CD99C4-94C0-4175-9177-92AE18380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91A296-A00A-4FCF-93E2-F16FBF91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0F9225-C039-4CE9-B83F-AAF6F0A9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5191A4-AC0E-4394-8339-21BFD83BC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CDD831-8833-45DB-B43C-F4DB2CA37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685A24-3279-4BDA-8E93-AB524CFF4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06F486-6C61-4B73-B492-03671600A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EE93B7-7D9B-4628-9953-DE18769B2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D01A92-7422-4F0F-8A65-C8A96095D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DF294A-29C2-4DA2-BB23-72B47A75C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DBBF8-6327-4AE9-B299-0FA0A2EDD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B45334-1535-4F8F-A71E-98BB3B575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6D5402-466B-4EE5-966E-320F23990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A05EDC-66C4-4209-B99A-1E21640E0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3F006B-413A-476D-8C18-8310E246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F74AAC-7914-4F57-8192-CCD28DA2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B74798-65B5-4FDB-AE78-12EF2D9E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12545F-6DBA-4AF8-8AC9-AA9419E03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3F559F-FDDC-4A02-B7C0-B87280D61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1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1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FB1332-4CE0-4218-8530-91ED10A70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3EC6DF-63A2-4A2E-AA12-7CFE4C0A8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FE965-CDBF-4E37-97DF-D2DB20C96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A672F8-1877-4F30-9DEB-88D9F070F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24827F-4793-43DE-BF4B-DBFE4B42A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74E3B9-AE34-4E08-8EEF-1493E5061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67D4E6-D18F-4F66-AB08-1A70C433F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4CCE1A-C36D-4035-88EF-DF125DB7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11EAAE-7734-4927-A4D0-71BD52C1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58BB6D-C5E0-4FDD-BC8B-DD0206F8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E14A60-3E60-42BD-90B2-96CD77CA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1A413F-807E-4E30-884C-E4F21919C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12E7D6-7677-4FC3-9A0D-B7A017F57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2E255-B774-4CAD-A6D2-1E5F62AF5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9C9C77-0D2F-4425-A44F-D97C1D6D6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883583-3A2A-4E40-BC3F-E8B983CFF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86F9E6-A5BD-4CF9-B6BD-66C340C38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8D78FF-AAE1-4F32-8EA9-29A667C7B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DF32F0-D0C1-48C7-966C-D99CCD50D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F59C45-6498-4D06-BA06-F54E696DC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A9B93D-FC96-468D-95AC-FCCC755C0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ACA658-0AF6-490C-B5E9-9C12CBB3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D84355-F4D9-4BAD-A414-16C6FA5E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2AAA76-AC90-4DCC-80E4-D3672F1D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2D5C2-BDC7-4F20-936D-3AEF4682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FC1A3C-F6C6-4242-83C6-FF8D09ACD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DBFD3F-5528-46A0-BE03-2099B1957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57CB3A-BF6C-4B5B-A9EE-A2CF13751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E5BE89-46AB-4335-9AFA-9C355C2A2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233841-81D6-451C-AEBA-8FA7BBD0C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5C0291-BCA3-4FF7-8F49-7D496B3E2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B8D4EC-3313-4521-A458-ADF6BF48C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33794A-29AA-4002-BBEC-2C958F76C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478B99-D47C-4D77-A59D-282E6D1DD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01DC1D-2614-49FF-B9D1-E58811CE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C590-BE57-490F-87AF-5E57DCB1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E621A-583F-4C31-95DE-6F94EB6A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3337DF-9C61-43B8-BA05-4C729A5B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335086-C7BF-410D-AAAF-80A87E74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03C488-7700-4393-A085-0F8122A8E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C89AFA-7FA0-4F30-8703-A16A6CD0F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430E4A-1F08-4DA4-871E-CECCCB594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826C81-4ABF-4C2A-B3AA-F39BBBA0B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77B14F-B5A5-441A-9647-31BCF31D6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D4A575-75D6-4478-A3A1-5B69D5ABB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2440CD-30A1-43F9-9F13-AA2F77E79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D418A0-5BC8-4F72-9A4B-FBE89B94F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32E01-4043-4CEC-8B34-CF91498A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EBB66C-BB87-488B-BF81-132E2304E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BD8D35-9041-4F8C-B18E-070D1C2E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0062F5-6CCC-49DB-9E2B-D54179E32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6E1479-CFC5-4D73-A363-1E33AA4E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7A4CE0-EA46-4D43-9BC9-CC3B6B5D3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6BED4C-55D2-44B1-B94D-8F1E27A55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B569F8-10BA-439A-B9A5-D6B65FC41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70963-C6B8-406A-836D-D2BF72C56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DB42F-7DED-4378-8BCB-A49D5BDF2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54077-3DD7-46F7-9A01-E8E86C474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47C6C-8448-486B-82AF-930632502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30E32-2DBF-47AE-9F41-39075E9C7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B38F0-E241-4356-96DF-FAE3E0B7C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318C7-F686-45A1-BF6B-AF287657D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06878-BE06-4DDC-BF13-D12394C82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B53D-DD74-4C54-A72A-B7E52CCC6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B810C-6145-4C33-9EED-A71C0D7DC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76571-3A5D-4890-9137-128851A4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D672D-F193-4DFD-93E8-DFC815DC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8E24F-BEFC-40DF-9150-9699BA3B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9E48C-4439-4970-ADC9-597CB3D8C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0C56A-5EA3-4BCE-9596-FE55B7CF0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2DB08-B5D5-48BF-BFF9-68B4DBEBE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ABC14-6085-40FA-A5D4-C4A75EAD9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945A2-EE78-4721-BF02-75936C454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CAA32-970E-43E5-92EE-300B01A14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3E84-F769-440D-BF88-BFD853612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706CE-DC92-4646-8354-032BB3A35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42744-1EED-46A2-858E-4428983AA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AA420-F54E-4661-9484-A83BC2737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548EB-8DB8-4DD7-9C62-B10E5EE3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79000-9620-4E47-BA00-A531F61F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35C6C-2219-4140-80B3-A6F55C13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48462-5FFF-4690-86B8-3F93E79DE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7480B-4827-4BAA-AEFC-4D4B2E66D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EB8DA-79A8-47A5-84B8-2BEC2FFD5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CC4EA-B18C-4E30-B2F1-2451104CF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DF0F-3FDE-4AB6-ADF1-355BDA853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F716C-F07D-4AE7-B5AB-882780834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887B3-FADF-4910-A790-34C1CF1AF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EAD87-EBAD-47F2-B32E-3C3B39291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03404-C5A4-4575-B457-88F692853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48AB8-5853-4F34-877D-76D0BE598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1DA68-921C-4D5D-8CAE-F85DFCB4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B69CE-04AA-44D2-B434-AAAD8220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A109E-559B-4BA8-95B4-B785A3F4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585EB-EF5A-4D9A-8316-E2E067521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0F1E5-E9E9-424F-951C-B54B925B9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B8B9-A25C-4716-BBD6-068A84515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7BBF7-3316-4D20-A07C-B4B233577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0A6A3-3B71-47DB-AFAC-643D4608C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93529-48D2-49E8-9D63-A091C39F4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A78763-8692-41A0-AE41-CD162215D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9E7A6-B7AA-4950-A002-68C36CEAF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9B319-3EFE-41EE-9BD5-9EA5C1BCF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41C11-025A-4462-AFAC-A36C51DB2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16C8FF-4B19-4C7C-B161-F1F56418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93ACD-BC19-4122-8A53-DFB5056D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96930-1520-4760-A33B-32B1071A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9009-4BFF-491C-BB5D-3EA4BB3A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DE54DD-EA01-4716-8419-2F7FAADF6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A5AA0-9654-408B-9294-72C862029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60DAE-700F-441E-9BCE-8F9D3004F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D9A81B-D13B-4219-9414-7AFB934A1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7C872-53C1-4224-A618-F1DAD9D8B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345849-077E-4881-A015-5A673C824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74103B-70F0-4151-8553-7B20EA14F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E177F4-1A82-49F4-A8BD-86AD5F14D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771AD-EF0D-4FCD-9FE4-3251962B1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B18C59-5752-4B04-8D17-2FB057DE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950C-C278-4609-9B1D-6BC7E80B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2EC7AB-5117-41B6-920C-286E3459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1697B-B405-47AF-B409-3E48C3A9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D5F200-754E-4548-B63C-87200C68F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D1449-93D2-4A40-BDDF-1292C4598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C03EC-6B5E-49EE-A2AA-E28EFF06C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3DFD2A-94EE-4634-A173-42C6E031E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19792B-BA91-4B69-B844-A169C7C31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72CCCA-2D59-4B6B-8751-382429C29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9E515E-BA22-4036-813E-B9F166E2B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8B4BB8-378D-459E-8CFF-87F465EB5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7230-D8E3-41DB-B5AC-E746BED1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8ED7E9-24CC-43AD-AB46-BB063B72A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626A51-FF70-4BCE-A0C6-906BDB4A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A17712-49CD-4599-A4B5-A62F0626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7B3370-6DBA-4662-AC1F-D748B8E0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6421EF-FA0D-4792-8F97-8D605DB60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980BF3-8129-466C-9A6E-2EF7F74D2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4F6AEA-3CDB-4C4A-B93A-3A5CF8113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3163D8-4DCF-409E-9775-37C913715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34FEA8-EEDE-4315-ABFC-383E46D9F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21B6D2-96B5-431E-B6A3-0CA530664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1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2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38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2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2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30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567E5-1B52-4BD1-B5A3-08BD5B610CF6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81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2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3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4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5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6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7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8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9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0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1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2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3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4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5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96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 type="dt" idx="3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 type="ftr" idx="3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 type="sldNum" idx="3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642BC-D905-4629-AF38-7897A187CAB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3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65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 type="dt" idx="3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 type="ftr" idx="3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 type="sldNum" idx="36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946E9-DF53-435D-B828-A48E181F5801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9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1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dt" idx="37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ftr" idx="38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 type="sldNum" idx="39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67DD-1070-48F9-B417-4790F93E5AF7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4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755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6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7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8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9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0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1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2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3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4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5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6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7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8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9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7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 type="dt" idx="4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 type="ftr" idx="4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 type="sldNum" idx="4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BA412-9BB0-43BA-82A8-86796F2034E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1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28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4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4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4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ED6C4-CBBF-44CF-BCBC-DFCD9134DFF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71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2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3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4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5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6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7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8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9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0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1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2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3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4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5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86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 type="dt" idx="4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 type="ftr" idx="4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 type="sldNum" idx="4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C9159-4AE6-4873-BB18-50B963CE6547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2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4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4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5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D43F7-F004-42D4-9FEB-1C1DC42CC511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8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0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0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00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 type="dt" idx="52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 type="ftr" idx="53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 type="sldNum" idx="54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E53B0-6AEE-4294-AD67-34B291FF99EC}" type="slidenum">
              <a:rPr b="0" lang="en-GB" sz="1000" spc="-1" strike="noStrike">
                <a:solidFill>
                  <a:srgbClr val="8f210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D69E6-8329-416F-BDBF-114E840F50D5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1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3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7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8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9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4BA49-1276-4F0C-B76B-CA9FCBAD27C9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75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6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7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8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9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0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1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2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3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4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5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6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7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8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9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9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F2BB4-EC36-439F-9786-9F0F136A3972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3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48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254F2-ADC2-41EE-B737-A35C19C633BB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91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2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3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4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5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6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7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8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9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0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1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2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3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4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5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06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1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1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1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0991C-3D92-4310-8395-4FF3BBC5686A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34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6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81041-8451-454C-A7D3-77BCE41F3BD8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0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2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2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2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2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3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24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0503E-9675-4489-9A3F-B7B1B3D33AA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65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6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7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8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9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0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1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2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3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4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5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6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7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8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9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8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25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26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27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F7D41-5D1D-42D7-ADFF-782CC1AE2E5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9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9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9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9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9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9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9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4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BinomialConfidence" TargetMode="External"/><Relationship Id="rId2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kappa" TargetMode="External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4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4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9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9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4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81BC5-9891-495D-B19A-BD7F3B86397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990720" y="2438280"/>
            <a:ext cx="84168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</a:t>
            </a: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 </a:t>
            </a:r>
            <a:br>
              <a:rPr sz="3600"/>
            </a:br>
            <a:r>
              <a:rPr b="0" lang="en-GB" sz="3600" spc="-1" strike="noStrike">
                <a:solidFill>
                  <a:srgbClr val="8f210b"/>
                </a:solidFill>
                <a:latin typeface="Albertus Medium"/>
              </a:rPr>
              <a:t>Graduate Statistics Course 2015</a:t>
            </a:r>
            <a:br>
              <a:rPr sz="3600"/>
            </a:br>
            <a:r>
              <a:rPr b="0" lang="en-US" sz="1800" spc="-1" strike="noStrike">
                <a:solidFill>
                  <a:srgbClr val="515f7b"/>
                </a:solidFill>
                <a:latin typeface="Verdana"/>
              </a:rPr>
              <a:t>http://imaging.mrc-cbu.cam.ac.uk/statswiki/StatsCourse2015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40ADC-321F-40F8-A63B-2079D042E66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s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bservations are classified according to some sche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numbers of observations falling into each category of the classification are called the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BAF5B-9DA0-4DF9-AAB4-AE70F93EA36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isual Field Deficit Problems in Hemiplegic Patien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098" name="Picture 4" descr=""/>
          <p:cNvPicPr/>
          <p:nvPr/>
        </p:nvPicPr>
        <p:blipFill>
          <a:blip r:embed="rId1"/>
          <a:stretch/>
        </p:blipFill>
        <p:spPr>
          <a:xfrm>
            <a:off x="3943440" y="1844640"/>
            <a:ext cx="34369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0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1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E64B7-46A9-4769-84C2-D08E5F38ADC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03" name="Line 10"/>
          <p:cNvSpPr/>
          <p:nvPr/>
        </p:nvSpPr>
        <p:spPr>
          <a:xfrm flipH="1" flipV="1">
            <a:off x="6436800" y="2895120"/>
            <a:ext cx="90828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95360" y="2133720"/>
            <a:ext cx="536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ut the variable that holds the category information into the Variables(s) bo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ess OK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05" name="Picture 14" descr=""/>
          <p:cNvPicPr/>
          <p:nvPr/>
        </p:nvPicPr>
        <p:blipFill>
          <a:blip r:embed="rId1"/>
          <a:stretch/>
        </p:blipFill>
        <p:spPr>
          <a:xfrm>
            <a:off x="5611680" y="2362320"/>
            <a:ext cx="41259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DDC8A-2FA6-4420-939B-BE5856486A1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10" name="Picture 4" descr=""/>
          <p:cNvPicPr/>
          <p:nvPr/>
        </p:nvPicPr>
        <p:blipFill>
          <a:blip r:embed="rId1"/>
          <a:stretch/>
        </p:blipFill>
        <p:spPr>
          <a:xfrm>
            <a:off x="1155600" y="1981080"/>
            <a:ext cx="841716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2368D-0A73-4341-960D-B1DFDF7D46A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Bar ch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ing ‘Bar Chart’ from the ‘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arts’ options gives you a graphic which you can cut and past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16" name="Picture 10" descr=""/>
          <p:cNvPicPr/>
          <p:nvPr/>
        </p:nvPicPr>
        <p:blipFill>
          <a:blip r:embed="rId1"/>
          <a:stretch/>
        </p:blipFill>
        <p:spPr>
          <a:xfrm>
            <a:off x="5199120" y="2057400"/>
            <a:ext cx="412596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8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9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B0C62-81D2-47F1-B964-70B60DC7BC7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tingency Table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	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329760" y="2017800"/>
            <a:ext cx="50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tems are classified by two or more classifications simultaneous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.g.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ide of Damag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and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everity of Visual Field Defici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rosstab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Side of Damage’ and ‘Visual Field Deficit’ to define the row/column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2" name="Picture 4" descr=""/>
          <p:cNvPicPr/>
          <p:nvPr/>
        </p:nvPicPr>
        <p:blipFill>
          <a:blip r:embed="rId1"/>
          <a:stretch/>
        </p:blipFill>
        <p:spPr>
          <a:xfrm>
            <a:off x="5599080" y="2205000"/>
            <a:ext cx="41259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2729B-D0BC-42E4-BC36-67F9E12BA8D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27" name="Picture 4" descr=""/>
          <p:cNvPicPr/>
          <p:nvPr/>
        </p:nvPicPr>
        <p:blipFill>
          <a:blip r:embed="rId1"/>
          <a:stretch/>
        </p:blipFill>
        <p:spPr>
          <a:xfrm>
            <a:off x="1155600" y="2286000"/>
            <a:ext cx="8417160" cy="2262240"/>
          </a:xfrm>
          <a:prstGeom prst="rect">
            <a:avLst/>
          </a:prstGeom>
          <a:ln w="0">
            <a:noFill/>
          </a:ln>
        </p:spPr>
      </p:pic>
      <p:sp>
        <p:nvSpPr>
          <p:cNvPr id="1128" name="Text Box 6"/>
          <p:cNvSpPr/>
          <p:nvPr/>
        </p:nvSpPr>
        <p:spPr>
          <a:xfrm>
            <a:off x="1238400" y="487692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looks as if there may be more VFD in RBD than in LB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0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1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ADD5B-B7EB-4E83-B18B-857975103F0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nalysing a frequency table directly from the 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3" name="Picture 3" descr=""/>
          <p:cNvPicPr/>
          <p:nvPr/>
        </p:nvPicPr>
        <p:blipFill>
          <a:blip r:embed="rId1"/>
          <a:stretch/>
        </p:blipFill>
        <p:spPr>
          <a:xfrm>
            <a:off x="4951440" y="1981080"/>
            <a:ext cx="4125960" cy="411480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577440" y="2133360"/>
            <a:ext cx="41259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Sometimes the observations have already been aggregated into frequenci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nter the frequencies for each cells of the table, identified by the levels of the classifying factors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.g. Lexical Decis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Type: {1 = Word , 2 = Nonword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Outcome: {1 = ‘Word’ , 2 = ‘Nonword’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y count for response ‘Word’ to Word items is 8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ies are stored in the variable called ‘freq’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8F5C6-40CF-4EF8-B74A-151FAC57266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Weight Cases’ to analys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9" name="Picture 3" descr=""/>
          <p:cNvPicPr/>
          <p:nvPr/>
        </p:nvPicPr>
        <p:blipFill>
          <a:blip r:embed="rId1"/>
          <a:stretch/>
        </p:blipFill>
        <p:spPr>
          <a:xfrm>
            <a:off x="4621320" y="2057400"/>
            <a:ext cx="4125960" cy="1417680"/>
          </a:xfrm>
          <a:prstGeom prst="rect">
            <a:avLst/>
          </a:prstGeom>
          <a:ln w="0">
            <a:noFill/>
          </a:ln>
        </p:spPr>
      </p:pic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659880" y="2286000"/>
            <a:ext cx="4125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variable ‘freq’ contains the frequencie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1686E-255F-41F5-A597-6F39B4DB18F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Crosstabs’ to  generat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60240" y="2286000"/>
            <a:ext cx="4368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ross-classification by ‘typ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Stimulus = {Word, Non-word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d by ‘outcom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esponse = {‘Word’, Non-word’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46" name="Picture 6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2908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37B96-E46A-4BE4-A62F-1A265A3DA66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4: Categorical Data Analysi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2" name="Text Box 1029"/>
          <p:cNvSpPr/>
          <p:nvPr/>
        </p:nvSpPr>
        <p:spPr>
          <a:xfrm>
            <a:off x="1320840" y="2362320"/>
            <a:ext cx="8169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f210b"/>
                </a:solidFill>
                <a:latin typeface="Albertus Medium"/>
              </a:rPr>
              <a:t>Categorical Data, Contingency Tables and the Pearson Chi-Squared Statistic</a:t>
            </a:r>
            <a:endParaRPr b="0" lang="en-US" sz="3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3" name="Text Box 1030"/>
          <p:cNvSpPr/>
          <p:nvPr/>
        </p:nvSpPr>
        <p:spPr>
          <a:xfrm>
            <a:off x="1486080" y="3505320"/>
            <a:ext cx="7839000" cy="27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05 November 2015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cd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8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9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82D62-5066-4D41-B695-8F516F46C5A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mple use of SPSS 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51" name="Picture 3" descr=""/>
          <p:cNvPicPr/>
          <p:nvPr/>
        </p:nvPicPr>
        <p:blipFill>
          <a:blip r:embed="rId1"/>
          <a:stretch/>
        </p:blipFill>
        <p:spPr>
          <a:xfrm>
            <a:off x="5281560" y="2590920"/>
            <a:ext cx="3979800" cy="1463400"/>
          </a:xfrm>
          <a:prstGeom prst="rect">
            <a:avLst/>
          </a:prstGeom>
          <a:ln w="0">
            <a:noFill/>
          </a:ln>
        </p:spPr>
      </p:pic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577440" y="213372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ord recognition looks quite good (8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Non-word rejection is low (5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B6FD9-2BAD-4AA4-AF3F-F02EF77F32C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Goodness-of-Fit Chi-squared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ppose we have a Theor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.e. a ‘model’ that predicts the expected frequencies (E) in each categ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actually observe the frequencies (O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measure how good a fit the data are to the theory by the formula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= </a:t>
            </a:r>
            <a:r>
              <a:rPr b="0" lang="en-US" sz="3200" spc="-1" strike="noStrike">
                <a:solidFill>
                  <a:srgbClr val="8f210b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O-E)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/E where the sum is over all th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is called Pearson’s Chi-Squared Statist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8669C-FB6C-4EDE-8331-C7031673800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ifica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arge values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uggest the model doesn’t fit the data wel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leads to Goodness-of-fit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look at the value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see whether it is unusually large by reference to a </a:t>
            </a:r>
            <a:r>
              <a:rPr b="0" lang="en-US" sz="36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38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-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istribution with k-1 degrees-of-freedom where k is the number of categories in the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AC147-A587-48DF-89D6-80C0E79CA08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Degrees of Freedom’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 elusive concept that occurs throughout statistics. In essence it means the number of independent pieces of information in a sample relevant to the estimation of some parameters or calculation of a statisti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or example in a two-by-two contingency table with a given set of marginal totals only 1 of the cells at a time is ‘free’ -- once it is specified all the others are determined -- and the table thus has a single degree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important point here is we can only interpret X</a:t>
            </a:r>
            <a:r>
              <a:rPr b="0" lang="en-US" sz="2000" spc="-1" strike="noStrike" baseline="4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f we also know its degrees of freedom, as we see later when we look at the chi-squared distribution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DF4D4-A9A8-4FA8-8E49-7539054A773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Degrees of Freedom = 1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72" name=""/>
          <p:cNvGraphicFramePr/>
          <p:nvPr/>
        </p:nvGraphicFramePr>
        <p:xfrm>
          <a:off x="1281240" y="2017800"/>
          <a:ext cx="8416800" cy="4114800"/>
        </p:xfrm>
        <a:graphic>
          <a:graphicData uri="http://schemas.openxmlformats.org/drawingml/2006/table">
            <a:tbl>
              <a:tblPr/>
              <a:tblGrid>
                <a:gridCol w="2805120"/>
                <a:gridCol w="2806560"/>
                <a:gridCol w="2805120"/>
              </a:tblGrid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3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-3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3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2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72CF5-B155-42BE-9AE1-7E9A59AE867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Degrees of Freedom = 4 (#rows-1) times (#cols -1)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77" name=""/>
          <p:cNvGraphicFramePr/>
          <p:nvPr/>
        </p:nvGraphicFramePr>
        <p:xfrm>
          <a:off x="487440" y="2017800"/>
          <a:ext cx="9210600" cy="4114800"/>
        </p:xfrm>
        <a:graphic>
          <a:graphicData uri="http://schemas.openxmlformats.org/drawingml/2006/table">
            <a:tbl>
              <a:tblPr/>
              <a:tblGrid>
                <a:gridCol w="2303280"/>
                <a:gridCol w="2301840"/>
                <a:gridCol w="2303640"/>
                <a:gridCol w="2301840"/>
              </a:tblGrid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-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u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2-x-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7-y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+y+u+v-9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3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2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2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11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3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C2322-265A-4A9B-9525-56B467B1DF6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olman, Ritchie and Kalish (1946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41324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ce learning in ra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1183" name="Group 1062"/>
          <p:cNvGrpSpPr/>
          <p:nvPr/>
        </p:nvGrpSpPr>
        <p:grpSpPr>
          <a:xfrm>
            <a:off x="914400" y="2971800"/>
            <a:ext cx="3341880" cy="3263760"/>
            <a:chOff x="914400" y="2971800"/>
            <a:chExt cx="3341880" cy="3263760"/>
          </a:xfrm>
        </p:grpSpPr>
        <p:grpSp>
          <p:nvGrpSpPr>
            <p:cNvPr id="1184" name="Group 1058"/>
            <p:cNvGrpSpPr/>
            <p:nvPr/>
          </p:nvGrpSpPr>
          <p:grpSpPr>
            <a:xfrm>
              <a:off x="914400" y="2971800"/>
              <a:ext cx="3341880" cy="2819160"/>
              <a:chOff x="914400" y="2971800"/>
              <a:chExt cx="3341880" cy="2819160"/>
            </a:xfrm>
          </p:grpSpPr>
          <p:sp>
            <p:nvSpPr>
              <p:cNvPr id="1185" name="Oval 1033"/>
              <p:cNvSpPr/>
              <p:nvPr/>
            </p:nvSpPr>
            <p:spPr>
              <a:xfrm>
                <a:off x="914400" y="4267080"/>
                <a:ext cx="1447920" cy="1523880"/>
              </a:xfrm>
              <a:prstGeom prst="ellipse">
                <a:avLst/>
              </a:pr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86" name="AutoShape 1034"/>
              <p:cNvSpPr/>
              <p:nvPr/>
            </p:nvSpPr>
            <p:spPr>
              <a:xfrm>
                <a:off x="1524240" y="2971800"/>
                <a:ext cx="1904760" cy="1295280"/>
              </a:xfrm>
              <a:custGeom>
                <a:avLst/>
                <a:gdLst>
                  <a:gd name="textAreaLeft" fmla="*/ 1095120 w 1904760"/>
                  <a:gd name="textAreaRight" fmla="*/ 1841400 w 1904760"/>
                  <a:gd name="textAreaTop" fmla="*/ 290520 h 1295280"/>
                  <a:gd name="textAreaBottom" fmla="*/ 438120 h 129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8078" y="0"/>
                    </a:lnTo>
                    <a:lnTo>
                      <a:pt x="18078" y="4846"/>
                    </a:lnTo>
                    <a:lnTo>
                      <a:pt x="12427" y="4846"/>
                    </a:lnTo>
                    <a:cubicBezTo>
                      <a:pt x="5564" y="4846"/>
                      <a:pt x="0" y="8120"/>
                      <a:pt x="0" y="12158"/>
                    </a:cubicBezTo>
                    <a:lnTo>
                      <a:pt x="0" y="21600"/>
                    </a:lnTo>
                    <a:lnTo>
                      <a:pt x="2521" y="21600"/>
                    </a:lnTo>
                    <a:lnTo>
                      <a:pt x="2521" y="12158"/>
                    </a:lnTo>
                    <a:cubicBezTo>
                      <a:pt x="2521" y="9482"/>
                      <a:pt x="6956" y="7312"/>
                      <a:pt x="12427" y="7312"/>
                    </a:cubicBezTo>
                    <a:lnTo>
                      <a:pt x="18078" y="7312"/>
                    </a:lnTo>
                    <a:lnTo>
                      <a:pt x="18078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87" name="Text Box 1035"/>
              <p:cNvSpPr/>
              <p:nvPr/>
            </p:nvSpPr>
            <p:spPr>
              <a:xfrm>
                <a:off x="3094560" y="3047760"/>
                <a:ext cx="1161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f210b"/>
                    </a:solidFill>
                    <a:latin typeface="Albertus Medium"/>
                  </a:rPr>
                  <a:t>Food</a:t>
                </a: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88" name="Text Box 1057"/>
              <p:cNvSpPr/>
              <p:nvPr/>
            </p:nvSpPr>
            <p:spPr>
              <a:xfrm>
                <a:off x="1467000" y="320040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A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</p:grpSp>
        <p:sp>
          <p:nvSpPr>
            <p:cNvPr id="1189" name="Text Box 1060"/>
            <p:cNvSpPr/>
            <p:nvPr/>
          </p:nvSpPr>
          <p:spPr>
            <a:xfrm>
              <a:off x="2142000" y="5715000"/>
              <a:ext cx="162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buClr>
                  <a:srgbClr val="a3ce82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f210b"/>
                  </a:solidFill>
                  <a:latin typeface="Albertus Medium"/>
                </a:rPr>
                <a:t>Phase 1</a:t>
              </a: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grpSp>
        <p:nvGrpSpPr>
          <p:cNvPr id="1190" name="Group 1067"/>
          <p:cNvGrpSpPr/>
          <p:nvPr/>
        </p:nvGrpSpPr>
        <p:grpSpPr>
          <a:xfrm>
            <a:off x="4469760" y="2590920"/>
            <a:ext cx="5128200" cy="3582720"/>
            <a:chOff x="4469760" y="2590920"/>
            <a:chExt cx="5128200" cy="3582720"/>
          </a:xfrm>
        </p:grpSpPr>
        <p:grpSp>
          <p:nvGrpSpPr>
            <p:cNvPr id="1191" name="Group 1064"/>
            <p:cNvGrpSpPr/>
            <p:nvPr/>
          </p:nvGrpSpPr>
          <p:grpSpPr>
            <a:xfrm>
              <a:off x="4572000" y="2590920"/>
              <a:ext cx="5025960" cy="3582720"/>
              <a:chOff x="4572000" y="2590920"/>
              <a:chExt cx="5025960" cy="3582720"/>
            </a:xfrm>
          </p:grpSpPr>
          <p:sp>
            <p:nvSpPr>
              <p:cNvPr id="1192" name="Text Box 1046"/>
              <p:cNvSpPr/>
              <p:nvPr/>
            </p:nvSpPr>
            <p:spPr>
              <a:xfrm>
                <a:off x="7696080" y="3886200"/>
                <a:ext cx="1901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D: New alley to original food source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grpSp>
            <p:nvGrpSpPr>
              <p:cNvPr id="1193" name="Group 1063"/>
              <p:cNvGrpSpPr/>
              <p:nvPr/>
            </p:nvGrpSpPr>
            <p:grpSpPr>
              <a:xfrm>
                <a:off x="4572000" y="2590920"/>
                <a:ext cx="3798720" cy="3582720"/>
                <a:chOff x="4572000" y="2590920"/>
                <a:chExt cx="3798720" cy="3582720"/>
              </a:xfrm>
            </p:grpSpPr>
            <p:grpSp>
              <p:nvGrpSpPr>
                <p:cNvPr id="1194" name="Group 1059"/>
                <p:cNvGrpSpPr/>
                <p:nvPr/>
              </p:nvGrpSpPr>
              <p:grpSpPr>
                <a:xfrm>
                  <a:off x="4572000" y="2590920"/>
                  <a:ext cx="3798720" cy="3352680"/>
                  <a:chOff x="4572000" y="2590920"/>
                  <a:chExt cx="3798720" cy="3352680"/>
                </a:xfrm>
              </p:grpSpPr>
              <p:sp>
                <p:nvSpPr>
                  <p:cNvPr id="1195" name="Oval 1038"/>
                  <p:cNvSpPr/>
                  <p:nvPr/>
                </p:nvSpPr>
                <p:spPr>
                  <a:xfrm>
                    <a:off x="4876560" y="4419720"/>
                    <a:ext cx="1447920" cy="1523880"/>
                  </a:xfrm>
                  <a:prstGeom prst="ellipse">
                    <a:avLst/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196" name="AutoShape 1040"/>
                  <p:cNvSpPr/>
                  <p:nvPr/>
                </p:nvSpPr>
                <p:spPr>
                  <a:xfrm rot="20100000">
                    <a:off x="4952520" y="3809880"/>
                    <a:ext cx="380880" cy="762120"/>
                  </a:xfrm>
                  <a:prstGeom prst="upArrow">
                    <a:avLst>
                      <a:gd name="adj1" fmla="val 46259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197" name="AutoShape 1041"/>
                  <p:cNvSpPr/>
                  <p:nvPr/>
                </p:nvSpPr>
                <p:spPr>
                  <a:xfrm rot="1500000">
                    <a:off x="5943600" y="38095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198" name="AutoShape 1042"/>
                  <p:cNvSpPr/>
                  <p:nvPr/>
                </p:nvSpPr>
                <p:spPr>
                  <a:xfrm>
                    <a:off x="5467320" y="37051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199" name="AutoShape 1043"/>
                  <p:cNvSpPr/>
                  <p:nvPr/>
                </p:nvSpPr>
                <p:spPr>
                  <a:xfrm rot="2700000">
                    <a:off x="6666840" y="3086280"/>
                    <a:ext cx="457200" cy="2057400"/>
                  </a:xfrm>
                  <a:prstGeom prst="upArrow">
                    <a:avLst>
                      <a:gd name="adj1" fmla="val 50000"/>
                      <a:gd name="adj2" fmla="val 11250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0" name="Text Box 1045"/>
                  <p:cNvSpPr/>
                  <p:nvPr/>
                </p:nvSpPr>
                <p:spPr>
                  <a:xfrm>
                    <a:off x="7209000" y="3352680"/>
                    <a:ext cx="1161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Food</a:t>
                    </a: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1" name="Text Box 1047"/>
                  <p:cNvSpPr/>
                  <p:nvPr/>
                </p:nvSpPr>
                <p:spPr>
                  <a:xfrm>
                    <a:off x="5505480" y="3276720"/>
                    <a:ext cx="326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A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2" name="Text Box 1048"/>
                  <p:cNvSpPr/>
                  <p:nvPr/>
                </p:nvSpPr>
                <p:spPr>
                  <a:xfrm>
                    <a:off x="6103080" y="3505320"/>
                    <a:ext cx="3254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C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3" name="Text Box 1049"/>
                  <p:cNvSpPr/>
                  <p:nvPr/>
                </p:nvSpPr>
                <p:spPr>
                  <a:xfrm>
                    <a:off x="4572000" y="3505320"/>
                    <a:ext cx="460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4" name="Text Box 1052"/>
                  <p:cNvSpPr/>
                  <p:nvPr/>
                </p:nvSpPr>
                <p:spPr>
                  <a:xfrm>
                    <a:off x="7465680" y="3048120"/>
                    <a:ext cx="3484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5" name="Line 1053"/>
                  <p:cNvSpPr/>
                  <p:nvPr/>
                </p:nvSpPr>
                <p:spPr>
                  <a:xfrm flipH="1" flipV="1">
                    <a:off x="7009920" y="4114800"/>
                    <a:ext cx="68580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6" name="Text Box 1054"/>
                  <p:cNvSpPr/>
                  <p:nvPr/>
                </p:nvSpPr>
                <p:spPr>
                  <a:xfrm>
                    <a:off x="5140800" y="2590920"/>
                    <a:ext cx="10296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locke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7" name="Line 1056"/>
                  <p:cNvSpPr/>
                  <p:nvPr/>
                </p:nvSpPr>
                <p:spPr>
                  <a:xfrm>
                    <a:off x="5410080" y="2895480"/>
                    <a:ext cx="228600" cy="838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</p:grpSp>
            <p:sp>
              <p:nvSpPr>
                <p:cNvPr id="1208" name="Text Box 1061"/>
                <p:cNvSpPr/>
                <p:nvPr/>
              </p:nvSpPr>
              <p:spPr>
                <a:xfrm>
                  <a:off x="6210720" y="5653080"/>
                  <a:ext cx="162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00"/>
                    </a:spcBef>
                    <a:buClr>
                      <a:srgbClr val="a3ce82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f210b"/>
                      </a:solidFill>
                      <a:latin typeface="Albertus Medium"/>
                    </a:rPr>
                    <a:t>Phase 2</a:t>
                  </a:r>
                  <a:endParaRPr b="0" lang="en-US" sz="2800" spc="-1" strike="noStrike">
                    <a:solidFill>
                      <a:srgbClr val="8f210b"/>
                    </a:solidFill>
                    <a:latin typeface="Albertus Medium"/>
                  </a:endParaRPr>
                </a:p>
              </p:txBody>
            </p:sp>
          </p:grpSp>
        </p:grpSp>
        <p:sp>
          <p:nvSpPr>
            <p:cNvPr id="1209" name="Text Box 1065"/>
            <p:cNvSpPr/>
            <p:nvPr/>
          </p:nvSpPr>
          <p:spPr>
            <a:xfrm>
              <a:off x="4469760" y="31860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0" name="Text Box 1066"/>
            <p:cNvSpPr/>
            <p:nvPr/>
          </p:nvSpPr>
          <p:spPr>
            <a:xfrm>
              <a:off x="5954040" y="32004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E9101-B426-44BC-AEE7-082D63CA33D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Goodness of Fit Test by han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1280880" y="3123720"/>
            <a:ext cx="812628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olman, Ritchie and Kalish (1946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=(4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8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1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 = 9.2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e 95% percentile of the 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(3) distribution is 7.82 (from table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 &lt; 0.0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xact P = 0.026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499"/>
              </a:spcBef>
              <a:spcAft>
                <a:spcPts val="499"/>
              </a:spcAft>
              <a:buClr>
                <a:srgbClr val="a3dc96"/>
              </a:buClr>
              <a:buSzPct val="50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f210b"/>
                </a:solidFill>
                <a:latin typeface="Albertus Medium"/>
              </a:rPr>
              <a:t>Via MATLAB: 1-chi2cdf(9.25,3)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We reject the Null Hypothesis that Alleys are chosen equiprobably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216" name="Object 1030"/>
          <p:cNvGraphicFramePr/>
          <p:nvPr/>
        </p:nvGraphicFramePr>
        <p:xfrm>
          <a:off x="1733400" y="1981080"/>
          <a:ext cx="4125960" cy="248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7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3400" y="1981080"/>
                    <a:ext cx="4125960" cy="24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867D9-36CF-40E5-84B7-372ABCFE187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lley’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1,2,3,4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hoices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4,5,8,1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23" name="Picture 1031" descr=""/>
          <p:cNvPicPr/>
          <p:nvPr/>
        </p:nvPicPr>
        <p:blipFill>
          <a:blip r:embed="rId1"/>
          <a:stretch/>
        </p:blipFill>
        <p:spPr>
          <a:xfrm>
            <a:off x="5694480" y="2133720"/>
            <a:ext cx="31874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A9DCB-3DE2-436B-816F-9184DE24195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ive the alleys lab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1 = ‘A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2 = ‘B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29" name="Picture 5" descr=""/>
          <p:cNvPicPr/>
          <p:nvPr/>
        </p:nvPicPr>
        <p:blipFill>
          <a:blip r:embed="rId1"/>
          <a:stretch/>
        </p:blipFill>
        <p:spPr>
          <a:xfrm>
            <a:off x="6024600" y="2209680"/>
            <a:ext cx="270180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1A1BE-1550-4B60-8BC5-4CC5A05F6B7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The Naming of P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ategorical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requency Tab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Goodness-of-Fit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Distribu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Binomial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test for associ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son, Cohen and McNema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1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2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659B6-A122-4286-9E60-578A3FD2981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choices’ as this contains the frequency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5" name="Picture 1030" descr=""/>
          <p:cNvPicPr/>
          <p:nvPr/>
        </p:nvPicPr>
        <p:blipFill>
          <a:blip r:embed="rId1"/>
          <a:stretch/>
        </p:blipFill>
        <p:spPr>
          <a:xfrm>
            <a:off x="5364000" y="2514600"/>
            <a:ext cx="397044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4194A-2B16-427B-B21D-3AFEBB7A2B7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hi-squar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hypothetical probabiliti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 the expected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41" name="Picture 5" descr=""/>
          <p:cNvPicPr/>
          <p:nvPr/>
        </p:nvPicPr>
        <p:blipFill>
          <a:blip r:embed="rId1"/>
          <a:stretch/>
        </p:blipFill>
        <p:spPr>
          <a:xfrm>
            <a:off x="4951440" y="1371600"/>
            <a:ext cx="4019400" cy="2327400"/>
          </a:xfrm>
          <a:prstGeom prst="rect">
            <a:avLst/>
          </a:prstGeom>
          <a:ln w="0">
            <a:noFill/>
          </a:ln>
        </p:spPr>
      </p:pic>
      <p:pic>
        <p:nvPicPr>
          <p:cNvPr id="1242" name="Picture 6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501336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4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5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AF5F2-59EC-4D24-9401-6EF3123F39F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from Chi-Square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47" name="Rectangle 4"/>
          <p:cNvSpPr/>
          <p:nvPr/>
        </p:nvSpPr>
        <p:spPr>
          <a:xfrm>
            <a:off x="2313360" y="198108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-Square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48" name="Picture 5" descr=""/>
          <p:cNvPicPr/>
          <p:nvPr/>
        </p:nvPicPr>
        <p:blipFill>
          <a:blip r:embed="rId1"/>
          <a:stretch/>
        </p:blipFill>
        <p:spPr>
          <a:xfrm>
            <a:off x="2394000" y="2590920"/>
            <a:ext cx="3870360" cy="1636560"/>
          </a:xfrm>
          <a:prstGeom prst="rect">
            <a:avLst/>
          </a:prstGeom>
          <a:ln w="0">
            <a:noFill/>
          </a:ln>
        </p:spPr>
      </p:pic>
      <p:pic>
        <p:nvPicPr>
          <p:cNvPr id="1249" name="Picture 6" descr=""/>
          <p:cNvPicPr/>
          <p:nvPr/>
        </p:nvPicPr>
        <p:blipFill>
          <a:blip r:embed="rId2"/>
          <a:stretch/>
        </p:blipFill>
        <p:spPr>
          <a:xfrm>
            <a:off x="2394000" y="4419720"/>
            <a:ext cx="366228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1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2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E1481-4C65-4CF5-A702-766EF145411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(</a:t>
            </a:r>
            <a:r>
              <a:rPr b="0" lang="en-US" sz="4400" spc="-1" strike="noStrike">
                <a:solidFill>
                  <a:srgbClr val="515f7b"/>
                </a:solidFill>
                <a:latin typeface="Symbol"/>
                <a:ea typeface="Symbol"/>
              </a:rPr>
              <a:t></a:t>
            </a:r>
            <a:r>
              <a:rPr b="0" lang="en-US" sz="4000" spc="-1" strike="noStrike" baseline="38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) Distribution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54" name="Picture 7" descr="chisquared"/>
          <p:cNvPicPr/>
          <p:nvPr/>
        </p:nvPicPr>
        <p:blipFill>
          <a:blip r:embed="rId1"/>
          <a:stretch/>
        </p:blipFill>
        <p:spPr>
          <a:xfrm>
            <a:off x="4703760" y="2057400"/>
            <a:ext cx="5010120" cy="3429000"/>
          </a:xfrm>
          <a:prstGeom prst="rect">
            <a:avLst/>
          </a:prstGeom>
          <a:ln w="0">
            <a:noFill/>
          </a:ln>
        </p:spPr>
      </p:pic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hape determined by ‘degrees of freedom’ (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J-shaped for df = 1 or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nimodal for df &gt;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ode = df - 2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 = df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02204-E38E-46B1-8C83-E5918A5A287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 performance and 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a multiple choice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-alternative forced choice (2AF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p(error) =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AFC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0.25, p(error) = 0.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as the subject just guessing when she got 14/20 in a 2AFC tes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92B3E-252B-47E2-8DF7-79826B4402D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12920" y="213372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Binomial Tes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66" name="Picture 5" descr=""/>
          <p:cNvPicPr/>
          <p:nvPr/>
        </p:nvPicPr>
        <p:blipFill>
          <a:blip r:embed="rId1"/>
          <a:stretch/>
        </p:blipFill>
        <p:spPr>
          <a:xfrm>
            <a:off x="4869000" y="2590920"/>
            <a:ext cx="43941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244F9-AFD9-40D4-A591-5642EB3CB16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of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71" name="Picture 3" descr=""/>
          <p:cNvPicPr/>
          <p:nvPr/>
        </p:nvPicPr>
        <p:blipFill>
          <a:blip r:embed="rId1"/>
          <a:stretch/>
        </p:blipFill>
        <p:spPr>
          <a:xfrm>
            <a:off x="2228760" y="2133720"/>
            <a:ext cx="6297840" cy="1261800"/>
          </a:xfrm>
          <a:prstGeom prst="rect">
            <a:avLst/>
          </a:prstGeom>
          <a:ln w="0">
            <a:noFill/>
          </a:ln>
        </p:spPr>
      </p:pic>
      <p:sp>
        <p:nvSpPr>
          <p:cNvPr id="1272" name="Text Box 4"/>
          <p:cNvSpPr/>
          <p:nvPr/>
        </p:nvSpPr>
        <p:spPr>
          <a:xfrm>
            <a:off x="1303200" y="3952800"/>
            <a:ext cx="7691400" cy="23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data (14/20) are consistent with chance performanc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nfidence interval approach can be a more informative altern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4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5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4C3DC-88CD-4D13-B1B0-0D8806ABF3D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fidence Intervals for Binomial Proportion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77" name="Text Box 4"/>
          <p:cNvSpPr/>
          <p:nvPr/>
        </p:nvSpPr>
        <p:spPr>
          <a:xfrm>
            <a:off x="907920" y="2438280"/>
            <a:ext cx="76914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X=14, N=20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ALD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99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901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ILSON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81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855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Consistent with the P values, the Confidence Interval only </a:t>
            </a:r>
            <a:r>
              <a:rPr b="1" i="1" lang="en-US" sz="2000" spc="-1" strike="noStrike">
                <a:solidFill>
                  <a:srgbClr val="000000"/>
                </a:solidFill>
                <a:latin typeface="Albertus Medium"/>
              </a:rPr>
              <a:t>just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 includes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(Calculated using a spreadsheet available on the CBU statistics website at </a:t>
            </a:r>
            <a:r>
              <a:rPr b="1" lang="en-US" sz="1600" spc="-1" strike="noStrike" u="sng">
                <a:solidFill>
                  <a:srgbClr val="a3ce82"/>
                </a:solidFill>
                <a:uFillTx/>
                <a:latin typeface="Times New Roman"/>
                <a:hlinkClick r:id="rId1"/>
              </a:rPr>
              <a:t>http://imaging.mrc-cbu.cam.ac.uk/statswiki/FAQ/BinomialConfidence</a:t>
            </a: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. which also features a similar solution to the difference in two (in)dependent propor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5DED-F8FD-4BF1-BB2D-86B4FBCC6F5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oah’s Ark, </a:t>
            </a: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or The World of Two by Two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arson’s Chi-square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ates’ Continuity Correc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sher’s Exact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dds and Odds Ratio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log odds and log odds ratio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nsitivity and Specific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erd Gigerenzer (2002).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Reckoning with Risk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Pengui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ignal Detection The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83" name="Picture 6" descr=""/>
          <p:cNvPicPr/>
          <p:nvPr/>
        </p:nvPicPr>
        <p:blipFill>
          <a:blip r:embed="rId1"/>
          <a:stretch/>
        </p:blipFill>
        <p:spPr>
          <a:xfrm>
            <a:off x="7467480" y="2743200"/>
            <a:ext cx="1197000" cy="18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5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6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83E37-4145-4253-8E1D-A05085941AF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al Detection Theor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88" name="Picture 3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921120" cy="2654280"/>
          </a:xfrm>
          <a:prstGeom prst="rect">
            <a:avLst/>
          </a:prstGeom>
          <a:ln w="0">
            <a:noFill/>
          </a:ln>
        </p:spPr>
      </p:pic>
      <p:sp>
        <p:nvSpPr>
          <p:cNvPr id="1289" name="Text Box 4"/>
          <p:cNvSpPr/>
          <p:nvPr/>
        </p:nvSpPr>
        <p:spPr>
          <a:xfrm>
            <a:off x="457200" y="259092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Example 2a from Macmillan &amp; Creelman, 1991, p.3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90" name="Picture 5" descr=""/>
          <p:cNvPicPr/>
          <p:nvPr/>
        </p:nvPicPr>
        <p:blipFill>
          <a:blip r:embed="rId2"/>
          <a:stretch/>
        </p:blipFill>
        <p:spPr>
          <a:xfrm>
            <a:off x="1905120" y="4724280"/>
            <a:ext cx="3665520" cy="13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639A4-41B3-4DE1-ADF8-766720E6E2B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PSS procedures that help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information about one classification at a tim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ROSSTAB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bined information about more than one classifica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HI-SQUA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paring observed frequencies with hypothetical on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BINOMI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testing whether performance differs from ‘chance’ </a:t>
            </a:r>
            <a:r>
              <a:rPr b="0" i="1" lang="en-US" sz="1400" spc="-1" strike="noStrike">
                <a:solidFill>
                  <a:srgbClr val="8f210b"/>
                </a:solidFill>
                <a:latin typeface="Albertus Medium"/>
              </a:rPr>
              <a:t>(whatever that is)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89892-59A4-4E5C-B641-9AEAC5BE85D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ensitivity and Specificit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esting for the presence of a Disease in a person from a popul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nsitivity: Probability that a Positive result means when the Disease is present - P(+|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ecificity: Probability that a person who tests Positive has the Disease – P(D|+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nfluenced by the Prevalence of the Disease in the population: P(D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See Martin Bland: An Introduction to Medical Statistic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ay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18114-4755-4A75-8EED-AF883D33A48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01" name="Object 0"/>
          <p:cNvGraphicFramePr/>
          <p:nvPr/>
        </p:nvGraphicFramePr>
        <p:xfrm>
          <a:off x="3135240" y="2895480"/>
          <a:ext cx="4656240" cy="263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5240" y="2895480"/>
                    <a:ext cx="465624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3" name="Text Box 5"/>
          <p:cNvSpPr/>
          <p:nvPr/>
        </p:nvSpPr>
        <p:spPr>
          <a:xfrm>
            <a:off x="1403280" y="510552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New treatment is positively associated with recovery (Recovery rate 10.6% vs 4.8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FD63C-2897-45E2-AEEF-9FAC113095B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09" name="Object 4"/>
          <p:cNvGraphicFramePr/>
          <p:nvPr/>
        </p:nvGraphicFramePr>
        <p:xfrm>
          <a:off x="3500280" y="2898720"/>
          <a:ext cx="4884840" cy="262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0280" y="2898720"/>
                    <a:ext cx="488484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1" name="Text Box 5"/>
          <p:cNvSpPr/>
          <p:nvPr/>
        </p:nvSpPr>
        <p:spPr>
          <a:xfrm>
            <a:off x="1403280" y="5181480"/>
            <a:ext cx="8155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gain, the New treatment is positively associated with recovery (Recovery rate 98.8% vs 67.2%)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302DF-4F3C-4692-8AB3-C15DEF61025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bined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17" name="Object 4"/>
          <p:cNvGraphicFramePr/>
          <p:nvPr/>
        </p:nvGraphicFramePr>
        <p:xfrm>
          <a:off x="4381560" y="2819520"/>
          <a:ext cx="4113000" cy="311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560" y="2819520"/>
                    <a:ext cx="4113000" cy="31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9" name="Text Box 5"/>
          <p:cNvSpPr/>
          <p:nvPr/>
        </p:nvSpPr>
        <p:spPr>
          <a:xfrm>
            <a:off x="1403280" y="518148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en combined, the New treatment is negatively associated with recovery (Recovery rate 35.8% vs 57.9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73BA0-8F95-44DF-921D-49C669D2422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impson’s Paradox explaine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324" name="Object 5"/>
          <p:cNvGraphicFramePr/>
          <p:nvPr/>
        </p:nvGraphicFramePr>
        <p:xfrm>
          <a:off x="343080" y="2133720"/>
          <a:ext cx="5016240" cy="38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2133720"/>
                    <a:ext cx="501624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6" name="Text Box 7"/>
          <p:cNvSpPr/>
          <p:nvPr/>
        </p:nvSpPr>
        <p:spPr>
          <a:xfrm>
            <a:off x="5599080" y="2637000"/>
            <a:ext cx="396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end points of the in-between line are differently weighted averages of the end points of the upper and lower lin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A004D-67A6-431A-BE3F-16B701E2DCA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agreemen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Kapp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judges rate items on the same categorical sca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ow well do they agre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Crosstabs with two classifying variable having the sam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Kappa under the Statistics op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imaging.mrc-cbu.cam.ac.uk/statswiki/FAQ/kapp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Alternative kappa (Brennan and Prediger, 198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B3BC2-2C6F-4F26-96D5-F75B9D3D124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1568520" y="4038480"/>
            <a:ext cx="73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% Agreement is 21/30 = 70% but could be high due to cha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37" name="Picture 5" descr=""/>
          <p:cNvPicPr/>
          <p:nvPr/>
        </p:nvPicPr>
        <p:blipFill>
          <a:blip r:embed="rId1"/>
          <a:stretch/>
        </p:blipFill>
        <p:spPr>
          <a:xfrm>
            <a:off x="3135240" y="2057400"/>
            <a:ext cx="4127400" cy="1490760"/>
          </a:xfrm>
          <a:prstGeom prst="rect">
            <a:avLst/>
          </a:prstGeom>
          <a:ln w="0">
            <a:noFill/>
          </a:ln>
        </p:spPr>
      </p:pic>
      <p:sp>
        <p:nvSpPr>
          <p:cNvPr id="1338" name="Oval 6"/>
          <p:cNvSpPr/>
          <p:nvPr/>
        </p:nvSpPr>
        <p:spPr>
          <a:xfrm>
            <a:off x="8915400" y="1219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9" name="Oval 7"/>
          <p:cNvSpPr/>
          <p:nvPr/>
        </p:nvSpPr>
        <p:spPr>
          <a:xfrm>
            <a:off x="5045040" y="28432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0" name="Oval 8"/>
          <p:cNvSpPr/>
          <p:nvPr/>
        </p:nvSpPr>
        <p:spPr>
          <a:xfrm>
            <a:off x="5646600" y="298764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1" name="Oval 9"/>
          <p:cNvSpPr/>
          <p:nvPr/>
        </p:nvSpPr>
        <p:spPr>
          <a:xfrm>
            <a:off x="6248520" y="3124080"/>
            <a:ext cx="152280" cy="1526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94A6A-F317-42B9-B8B6-CBE26FD576B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-corrected 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46" name="Picture 6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5305680" cy="1360440"/>
          </a:xfrm>
          <a:prstGeom prst="rect">
            <a:avLst/>
          </a:prstGeom>
          <a:ln w="0">
            <a:noFill/>
          </a:ln>
        </p:spPr>
      </p:pic>
      <p:sp>
        <p:nvSpPr>
          <p:cNvPr id="1347" name="Text Box 7"/>
          <p:cNvSpPr/>
          <p:nvPr/>
        </p:nvSpPr>
        <p:spPr>
          <a:xfrm>
            <a:off x="495360" y="4876920"/>
            <a:ext cx="818676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ohen’s Kappa (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= 0.473) is chance-corrected: 47.3%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reement between the judges is well above chance, but is it good enough?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A205C-B41E-4B46-A770-651F146E139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chang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1320840" y="1980720"/>
            <a:ext cx="841680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patient with acquired dyslexia does a 40 item picture naming task twice at a 6 month interv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1403280" y="4836960"/>
            <a:ext cx="8417160" cy="14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ccuracy falls from 19/40 to 11/4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s this a real deterioration, noting that 28/40 items show no change across the two test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54" name="Picture 6" descr=""/>
          <p:cNvPicPr/>
          <p:nvPr/>
        </p:nvPicPr>
        <p:blipFill>
          <a:blip r:embed="rId1"/>
          <a:stretch/>
        </p:blipFill>
        <p:spPr>
          <a:xfrm>
            <a:off x="3382920" y="3352680"/>
            <a:ext cx="3565440" cy="1463760"/>
          </a:xfrm>
          <a:prstGeom prst="rect">
            <a:avLst/>
          </a:prstGeom>
          <a:ln w="0">
            <a:noFill/>
          </a:ln>
        </p:spPr>
      </p:pic>
      <p:sp>
        <p:nvSpPr>
          <p:cNvPr id="1355" name="Oval 7"/>
          <p:cNvSpPr/>
          <p:nvPr/>
        </p:nvSpPr>
        <p:spPr>
          <a:xfrm>
            <a:off x="5073480" y="417528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6" name="Oval 8"/>
          <p:cNvSpPr/>
          <p:nvPr/>
        </p:nvSpPr>
        <p:spPr>
          <a:xfrm>
            <a:off x="5765760" y="43354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11EB9-72D5-4AE6-95FE-9C823BEACC2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4825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is is specifically designed for this type of hypothesi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quivalent to a Binomial Test (with p=0.5) of Freq(Correct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rror) vs. Freq(Error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Correct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In this case 10 vs. 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62" name="Picture 4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951360" cy="2838240"/>
          </a:xfrm>
          <a:prstGeom prst="rect">
            <a:avLst/>
          </a:prstGeom>
          <a:ln w="0">
            <a:noFill/>
          </a:ln>
        </p:spPr>
      </p:pic>
      <p:pic>
        <p:nvPicPr>
          <p:cNvPr id="1363" name="Picture 5" descr=""/>
          <p:cNvPicPr/>
          <p:nvPr/>
        </p:nvPicPr>
        <p:blipFill>
          <a:blip r:embed="rId2"/>
          <a:stretch/>
        </p:blipFill>
        <p:spPr>
          <a:xfrm>
            <a:off x="1066680" y="4191120"/>
            <a:ext cx="3565800" cy="1463400"/>
          </a:xfrm>
          <a:prstGeom prst="rect">
            <a:avLst/>
          </a:prstGeom>
          <a:ln w="0">
            <a:noFill/>
          </a:ln>
        </p:spPr>
      </p:pic>
      <p:sp>
        <p:nvSpPr>
          <p:cNvPr id="1364" name="Oval 7"/>
          <p:cNvSpPr/>
          <p:nvPr/>
        </p:nvSpPr>
        <p:spPr>
          <a:xfrm>
            <a:off x="3405240" y="49687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5" name="Oval 8"/>
          <p:cNvSpPr/>
          <p:nvPr/>
        </p:nvSpPr>
        <p:spPr>
          <a:xfrm>
            <a:off x="2717640" y="51325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C9118-838B-4C1C-BCB9-3DD84BAAC74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nt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umerical measurements or cou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ntinuous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Reaction time, BOLD signal, EEG signal,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iscrete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ole numbers, like numbers of errors, marks in an exam …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70D83-9E8C-4E99-ADEA-B45A9312AEC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12560" y="1981080"/>
            <a:ext cx="482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this case we can assert that there is evidence of deterior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71" name="Picture 6" descr=""/>
          <p:cNvPicPr/>
          <p:nvPr/>
        </p:nvPicPr>
        <p:blipFill>
          <a:blip r:embed="rId1"/>
          <a:stretch/>
        </p:blipFill>
        <p:spPr>
          <a:xfrm>
            <a:off x="5281560" y="2057400"/>
            <a:ext cx="4446720" cy="1289160"/>
          </a:xfrm>
          <a:prstGeom prst="rect">
            <a:avLst/>
          </a:prstGeom>
          <a:ln w="0">
            <a:noFill/>
          </a:ln>
        </p:spPr>
      </p:pic>
      <p:sp>
        <p:nvSpPr>
          <p:cNvPr id="1372" name="Rectangle 7"/>
          <p:cNvSpPr/>
          <p:nvPr/>
        </p:nvSpPr>
        <p:spPr>
          <a:xfrm>
            <a:off x="271440" y="4076640"/>
            <a:ext cx="861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obtain confidence intervals for the difference in proportions: http://imaging.mrc-cbu.cam.ac.uk/statswiki/FAQ/BinomialConfidence/2gp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7E4C6-1793-432A-AA40-3849420CB52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hi-squared test of associ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paring two or more classified sampl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esting whether the frequencies for one classification depend on the category of another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nly to be used when the numbers in the cells are frequencies, never with proportions, percentages or measureme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0A73E-CE2F-4F78-AA3C-C5B19947F62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12920" y="22096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s Side of Lesion associated with Sex of Patien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Frequencies and then ‘Chi-square’ and ‘Phi’ under Statistics, and  ‘Exact’ under Exact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83" name="Picture 5" descr=""/>
          <p:cNvPicPr/>
          <p:nvPr/>
        </p:nvPicPr>
        <p:blipFill>
          <a:blip r:embed="rId1"/>
          <a:stretch/>
        </p:blipFill>
        <p:spPr>
          <a:xfrm>
            <a:off x="4869000" y="2286000"/>
            <a:ext cx="495144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38C1E-C60D-47A3-B71C-B85F8C255FA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Output ...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329760" y="3962160"/>
            <a:ext cx="41259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any above-chance association between Sex and Side of Les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89" name="Picture 5" descr=""/>
          <p:cNvPicPr/>
          <p:nvPr/>
        </p:nvPicPr>
        <p:blipFill>
          <a:blip r:embed="rId1"/>
          <a:stretch/>
        </p:blipFill>
        <p:spPr>
          <a:xfrm>
            <a:off x="3630600" y="1905120"/>
            <a:ext cx="6083280" cy="2157120"/>
          </a:xfrm>
          <a:prstGeom prst="rect">
            <a:avLst/>
          </a:prstGeom>
          <a:ln w="0">
            <a:noFill/>
          </a:ln>
        </p:spPr>
      </p:pic>
      <p:pic>
        <p:nvPicPr>
          <p:cNvPr id="1390" name="Picture 6" descr=""/>
          <p:cNvPicPr/>
          <p:nvPr/>
        </p:nvPicPr>
        <p:blipFill>
          <a:blip r:embed="rId2"/>
          <a:stretch/>
        </p:blipFill>
        <p:spPr>
          <a:xfrm>
            <a:off x="4621320" y="4114800"/>
            <a:ext cx="4811760" cy="1646280"/>
          </a:xfrm>
          <a:prstGeom prst="rect">
            <a:avLst/>
          </a:prstGeom>
          <a:ln w="0">
            <a:noFill/>
          </a:ln>
        </p:spPr>
      </p:pic>
      <p:sp>
        <p:nvSpPr>
          <p:cNvPr id="1391" name="Rectangle 7"/>
          <p:cNvSpPr/>
          <p:nvPr/>
        </p:nvSpPr>
        <p:spPr>
          <a:xfrm>
            <a:off x="382680" y="5734080"/>
            <a:ext cx="9007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derive confidence intervals for difference in proportio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inomialConfidence/2g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761C2-7149-4916-A3DD-71A79596CE7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Larger tabl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wo way tables can be analysed the same wa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ree- (or more)  way classifications need a more analytical approach such as Log Linear Modelling, available with the Loglinear procedure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8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9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5B5FA-6C5B-4192-B391-725DD9E8F0F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 3 x 3 Examp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01" name="Picture 5" descr=""/>
          <p:cNvPicPr/>
          <p:nvPr/>
        </p:nvPicPr>
        <p:blipFill>
          <a:blip r:embed="rId1"/>
          <a:stretch/>
        </p:blipFill>
        <p:spPr>
          <a:xfrm>
            <a:off x="247680" y="1981080"/>
            <a:ext cx="5010120" cy="1636920"/>
          </a:xfrm>
          <a:prstGeom prst="rect">
            <a:avLst/>
          </a:prstGeom>
          <a:ln w="0">
            <a:noFill/>
          </a:ln>
        </p:spPr>
      </p:pic>
      <p:pic>
        <p:nvPicPr>
          <p:cNvPr id="1402" name="Picture 6" descr=""/>
          <p:cNvPicPr/>
          <p:nvPr/>
        </p:nvPicPr>
        <p:blipFill>
          <a:blip r:embed="rId2"/>
          <a:stretch/>
        </p:blipFill>
        <p:spPr>
          <a:xfrm>
            <a:off x="5199120" y="2057400"/>
            <a:ext cx="3960720" cy="1920960"/>
          </a:xfrm>
          <a:prstGeom prst="rect">
            <a:avLst/>
          </a:prstGeom>
          <a:ln w="0">
            <a:noFill/>
          </a:ln>
        </p:spPr>
      </p:pic>
      <p:pic>
        <p:nvPicPr>
          <p:cNvPr id="1403" name="Picture 7" descr=""/>
          <p:cNvPicPr/>
          <p:nvPr/>
        </p:nvPicPr>
        <p:blipFill>
          <a:blip r:embed="rId3"/>
          <a:stretch/>
        </p:blipFill>
        <p:spPr>
          <a:xfrm>
            <a:off x="2146320" y="4267080"/>
            <a:ext cx="465300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15A37-155B-4537-9EBA-A6836D206A1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ooling of data can mislead, or even violate the assumptions of the tests (cf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imp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ach individual observation is supposed to be independent of the othe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 pooling multiple observations across a group of subjects will typically violate this rul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needs to be handled using either summary measures (e.g. Log Odds), Generalised Linear Mixed Models or Matched Pairs: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MatchedPai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E5250-5A65-467F-99C2-C523CB5E255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is conventional to be cautious if there are low  Expected values in any cell (e.g. E&lt;5)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research suggest this is overcautious, though use of Fisher’s Exact Test is recommended in the general case. Campbell (2007) however suggests (N-1/N) x chi-square for 2x2 tables with Expected Values &gt; 1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lternatively one can amalgamate across two or more categori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90136-9E11-41C7-9628-2272684B697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ext week at 11am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OVA of balanced multi-factorial designs: between subject designs, and single subject studies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                                                                                             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6D4BF-A4D0-4010-968B-4C90932D18D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l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dinal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DB5F-824B-4057-8AD8-6AE290F6887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ominal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descriptive lab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utcome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rror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orrect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x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Fe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0D860-97C1-4D04-BC52-BB642E07F39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From ICD-10: Chapter V: Mental and behavioural disorders</a:t>
            </a:r>
            <a:br>
              <a:rPr sz="2000"/>
            </a:br>
            <a:r>
              <a:rPr b="0" lang="en-US" sz="1400" spc="-1" strike="noStrike">
                <a:solidFill>
                  <a:srgbClr val="515f7b"/>
                </a:solidFill>
                <a:latin typeface="Albertus Medium"/>
              </a:rPr>
              <a:t>(International Statistical Classification of Diseases and Related Health Problems)</a:t>
            </a:r>
            <a:endParaRPr b="0" lang="en-US" sz="1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00-F99 - Mental and behaviour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-F09) Organic, including symptomatic, ment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.) Dementia in Alzheimer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) Vascular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1) Multi-infarct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) Dementia in other diseases classified elsewher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0) Dementia in Pick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1) Dementia in Creutzfeldt-Jakob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2) Dementia in Huntingt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3) Dementia in Parkins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4) Dementia in human immunodeficiency virus (HIV)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3.) Unspecified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4.) Organic amnesic syndrome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5.) Delirium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6.) Other mental disorders due to brain damage and dysfunction and to physical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7.) Personality and behavioural disorders due to brain disease, damage and dysfunc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9.) Unspecified organic or symptomatic mental disorder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3084D-73B9-465F-AB3B-2D0045BFDC6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rdinal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ranged in an ord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ating scal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ndorsement of a statement: {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Neutral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Dis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disagre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g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e Group: {20+ to 30, 30+ to 40, 40+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osi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Birth order: {1st, 2nd, 3rd, 4th, ...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arget position: {Left, Central, Right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rial block: {1st, 2nd, 3rd, …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4-10-20T13:39:49Z</cp:lastPrinted>
  <dcterms:modified xsi:type="dcterms:W3CDTF">2015-06-25T09:38:07Z</dcterms:modified>
  <cp:revision>105</cp:revision>
  <dc:subject/>
  <dc:title>Aims and Objectives</dc:title>
</cp:coreProperties>
</file>