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4.wmf" ContentType="image/x-wmf"/>
  <Override PartName="/ppt/media/image27.wmf" ContentType="image/x-wmf"/>
  <Override PartName="/ppt/media/image10.wmf" ContentType="image/x-wmf"/>
  <Override PartName="/ppt/media/image11.png" ContentType="image/png"/>
  <Override PartName="/ppt/media/image31.wmf" ContentType="image/x-wmf"/>
  <Override PartName="/ppt/media/image5.wmf" ContentType="image/x-wmf"/>
  <Override PartName="/ppt/media/image28.wmf" ContentType="image/x-wmf"/>
  <Override PartName="/ppt/media/image30.wmf" ContentType="image/x-wmf"/>
  <Override PartName="/ppt/media/image16.wmf" ContentType="image/x-wmf"/>
  <Override PartName="/ppt/media/image8.png" ContentType="image/png"/>
  <Override PartName="/ppt/media/image9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AB4B5-09F5-4776-80D7-8D1F2DB3DC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2303C-7D2E-479D-B340-1AA8676A09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3DDD6-F4CA-4610-83C2-1556F9E702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ABBCE-DC31-485E-A598-AE2BBB7888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1B4406-CBCA-4BD4-94C1-EB2136176A1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4072F4-C6EF-4451-8138-6413F2A016E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3DC167-0A6A-4F12-92A5-41D96D8AD5C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466FC6-B4BB-41CE-B7CA-4D2C7738871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7B93FF-D4FB-45C8-8662-BA8CDA45EBA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B436BA-B4B7-43BA-9EF0-228589E1296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FA4AF1-DC6F-42F3-8C52-C82D907D2A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6F78C-6F28-4A17-89F4-0F2037C2D1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C245B1-F9C1-4DA8-89EC-58337ACC165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A207DD-2D92-430B-8ECB-3D1C1307AC4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C8E291-C8DB-4094-BD5B-4C09DBF3DD4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70C6F9-A7A6-415F-9370-23BD6AD28BD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2FF828-06AB-436E-A9FE-7712002638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0CF20-4211-4936-8D32-13B8006A91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560E9-C4ED-4CAC-B333-90D756D7E5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BF0EF-5959-4471-A04C-2383C65BDE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A5296-F362-44CA-89C3-9DAC29D046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529E5-CFC7-420B-BEF6-7F72C7CA31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27165-FE02-4AF9-8A0F-685C117440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4CE8F-55D2-404D-A54A-0FC0B11673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5CC20D06-9DD5-4693-8A48-26036760B790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EF0C197D-2376-4424-8A21-84B0D93D4B8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8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59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0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1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2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3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4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5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6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7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8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9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0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1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2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73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456346D6-5FE1-4F4C-8831-25C980A0881E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5BA201DD-EA25-47BD-99BF-2ED5BA8F1F8D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ted.com/talks/lang/eng/hans_rosling_shows_the_best_stats_you_ve_ever_seen.html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en-GB" sz="3200" spc="-1" strike="noStrike">
                <a:solidFill>
                  <a:srgbClr val="9a044b"/>
                </a:solidFill>
                <a:latin typeface="Verdana"/>
              </a:rPr>
              <a:t>1. </a:t>
            </a:r>
            <a:r>
              <a:rPr b="1" i="1" lang="en-GB" sz="2800" spc="-1" strike="noStrike">
                <a:solidFill>
                  <a:srgbClr val="9a044b"/>
                </a:solidFill>
                <a:latin typeface="Verdana"/>
              </a:rPr>
              <a:t>Exploratory Data Analy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OR </a:t>
            </a:r>
            <a:r>
              <a:rPr b="0" i="1" lang="en-GB" sz="3200" spc="-1" strike="noStrike">
                <a:solidFill>
                  <a:srgbClr val="9a044b"/>
                </a:solidFill>
                <a:latin typeface="Verdana"/>
              </a:rPr>
              <a:t>An ABC of EDA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graph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7" name="Object 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2895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hecking for 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rankland and Zumbo (2002)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1/sqrt(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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) exp( -  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(x –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Symbol"/>
                <a:ea typeface="Symbol"/>
              </a:rPr>
              <a:t>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)</a:t>
            </a:r>
            <a:r>
              <a:rPr b="0" lang="en-GB" sz="1400" spc="-1" strike="noStrike" u="sng" baseline="30000">
                <a:solidFill>
                  <a:srgbClr val="9a044b"/>
                </a:solidFill>
                <a:uFillTx/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             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or proportions, 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Probability of being in interval [a,b] = P x N(mean1,sd1) + (1-P) x N(mean2,sd2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nd use SPSS CNLR to estimate p, mean1, mean2, sd1 and sd2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NORMAL MIXTURES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xample featuring two normal distributions with means 2.5 and 5 both having sds of 0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2" name="Line 4"/>
          <p:cNvSpPr/>
          <p:nvPr/>
        </p:nvSpPr>
        <p:spPr>
          <a:xfrm flipH="1">
            <a:off x="5651640" y="2205000"/>
            <a:ext cx="288720" cy="576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Line 5"/>
          <p:cNvSpPr/>
          <p:nvPr/>
        </p:nvSpPr>
        <p:spPr>
          <a:xfrm>
            <a:off x="6804000" y="2276640"/>
            <a:ext cx="576360" cy="57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 (&gt;1.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st scores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s above 13 - clinically depress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ne score of 46!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x=63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7" name="Object 1024"/>
          <p:cNvGraphicFramePr/>
          <p:nvPr/>
        </p:nvGraphicFramePr>
        <p:xfrm>
          <a:off x="4648320" y="2567160"/>
          <a:ext cx="4038480" cy="278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567160"/>
                    <a:ext cx="4038480" cy="27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Oval 6"/>
          <p:cNvSpPr/>
          <p:nvPr/>
        </p:nvSpPr>
        <p:spPr>
          <a:xfrm>
            <a:off x="7391520" y="4572000"/>
            <a:ext cx="838080" cy="9144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2" name="Picture 1027" descr="boxplot"/>
          <p:cNvPicPr/>
          <p:nvPr/>
        </p:nvPicPr>
        <p:blipFill>
          <a:blip r:embed="rId1"/>
          <a:stretch/>
        </p:blipFill>
        <p:spPr>
          <a:xfrm>
            <a:off x="934920" y="1600200"/>
            <a:ext cx="7274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line in red bo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ddle half in red box (=1.3 sd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utliers = circles and sta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hape of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6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liers in box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Inn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moderately weird. Over 1.5 boxlengths from upper/lower quartiles; Circles in 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ut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decidedly weird. Over 3 boxlengths from upper/lower quartiles; Asterisks in SPSS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 of Beck sco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entration of outliers above median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BECK.SAV W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BECK.SAV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4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of an outli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iases mean (green lin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lates variance of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 more robu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9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obustness to outlie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 of positive responses (max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,0,0,4,4,5,5,5,6,6,6,6,6,6,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1000 random samples of size equal to original sample (N=15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9a044b"/>
                </a:solidFill>
                <a:uFillTx/>
                <a:latin typeface="Times New Roman"/>
              </a:rPr>
              <a:t>Results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Point estimates :Mean=4.37; Median=5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95% CIs: Mean [3.07, 5.40];  Median [4, 6]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Outliers exerting undue influence on the mean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See: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bo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btaining 95% CIs for skewed data: Bootstrapping (Efron &amp; Tibshirani, 1993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581640" cy="36576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3733920" cy="369576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6"/>
          <p:cNvSpPr/>
          <p:nvPr/>
        </p:nvSpPr>
        <p:spPr>
          <a:xfrm>
            <a:off x="3809880" y="3200400"/>
            <a:ext cx="1143000" cy="914400"/>
          </a:xfrm>
          <a:prstGeom prst="rightArrow">
            <a:avLst>
              <a:gd name="adj1" fmla="val 50000"/>
              <a:gd name="adj2" fmla="val 31250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762120" y="5486400"/>
            <a:ext cx="746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900000" y="587700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imes New Roman"/>
              </a:rPr>
              <a:t>See also: http://www.ruf.rice.edu/~lane/stat_sim/sampling_dist/index.html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 sampling distribution of the variance follows a chisquare which tends to N(n-1,2(n-1)) as n increases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94" name="Oval 4"/>
          <p:cNvSpPr/>
          <p:nvPr/>
        </p:nvSpPr>
        <p:spPr>
          <a:xfrm>
            <a:off x="6588000" y="5084640"/>
            <a:ext cx="1656000" cy="1008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5" name="Oval 5"/>
          <p:cNvSpPr/>
          <p:nvPr/>
        </p:nvSpPr>
        <p:spPr>
          <a:xfrm>
            <a:off x="539640" y="5300640"/>
            <a:ext cx="1440000" cy="144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6" name="Oval 6"/>
          <p:cNvSpPr/>
          <p:nvPr/>
        </p:nvSpPr>
        <p:spPr>
          <a:xfrm>
            <a:off x="611280" y="5516640"/>
            <a:ext cx="1439640" cy="288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2771640" y="3141720"/>
            <a:ext cx="331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N=25; normal(24,48); observed mean is 23.75, observed variance=6.82*6.82=46.5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Oval 10"/>
          <p:cNvSpPr/>
          <p:nvPr/>
        </p:nvSpPr>
        <p:spPr>
          <a:xfrm>
            <a:off x="611280" y="4365720"/>
            <a:ext cx="1224000" cy="3585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Line 11"/>
          <p:cNvSpPr/>
          <p:nvPr/>
        </p:nvSpPr>
        <p:spPr>
          <a:xfrm>
            <a:off x="1116000" y="3141720"/>
            <a:ext cx="0" cy="1295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395280" y="292428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should=s.e.(mean) =5/sqrt(25)=1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1" name="Line 13"/>
          <p:cNvSpPr/>
          <p:nvPr/>
        </p:nvSpPr>
        <p:spPr>
          <a:xfrm>
            <a:off x="3203640" y="3357720"/>
            <a:ext cx="3673440" cy="187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2" name="Line 14"/>
          <p:cNvSpPr/>
          <p:nvPr/>
        </p:nvSpPr>
        <p:spPr>
          <a:xfrm flipH="1">
            <a:off x="1835280" y="3357720"/>
            <a:ext cx="3744720" cy="19429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Line 15"/>
          <p:cNvSpPr/>
          <p:nvPr/>
        </p:nvSpPr>
        <p:spPr>
          <a:xfrm flipH="1">
            <a:off x="1835280" y="3573360"/>
            <a:ext cx="2952720" cy="2087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4" name="Oval 16"/>
          <p:cNvSpPr/>
          <p:nvPr/>
        </p:nvSpPr>
        <p:spPr>
          <a:xfrm>
            <a:off x="6877080" y="3500280"/>
            <a:ext cx="1224000" cy="360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03280" y="112536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o apriori ideas (model) in EDA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lassical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Model =&gt; Analysis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D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Analysis =&gt; Model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EM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STRAP IN R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For more about R (primer)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ttp://www.spssusers.co.uk/Events/2012/confprog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ther approaches to identifying outliers (besides boxplo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ses with z-scores exceeding 2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z-score subtracts mean and divides by s.d.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ubb’s test (http://imaging.mrc-cbu.cam.ac.uk/statswiki/FAQ/RegressionOutlie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w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viates from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tantial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s choice of statistical tests we can use to analyse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mp above line = 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4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verse scored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eck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nega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kew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bump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under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the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9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 sha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mptoms of Kurtos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iform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4" name="Object 4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esting normality more formall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olmogorov-Smirnov 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Micceri (1989) "The unicorn, the normal distribution, and other mythical beasts". Psych Bulletin 105(1) 156-166 says if you have a sample of over 200, you will NEVER pass the K-S test of normality, in a real datase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apiro-Wilk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verly sensitive for large sampl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BECK.SP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PLOTS.TX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4648320" y="3056040"/>
            <a:ext cx="4038480" cy="1812960"/>
          </a:xfrm>
          <a:prstGeom prst="rect">
            <a:avLst/>
          </a:prstGeom>
          <a:ln w="0">
            <a:noFill/>
          </a:ln>
        </p:spPr>
      </p:pic>
      <p:sp>
        <p:nvSpPr>
          <p:cNvPr id="230" name="Oval 6"/>
          <p:cNvSpPr/>
          <p:nvPr/>
        </p:nvSpPr>
        <p:spPr>
          <a:xfrm>
            <a:off x="8001000" y="3657600"/>
            <a:ext cx="685800" cy="9907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1" name="Oval 7"/>
          <p:cNvSpPr/>
          <p:nvPr/>
        </p:nvSpPr>
        <p:spPr>
          <a:xfrm>
            <a:off x="6400800" y="3733920"/>
            <a:ext cx="685800" cy="99036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Line 9"/>
          <p:cNvSpPr/>
          <p:nvPr/>
        </p:nvSpPr>
        <p:spPr>
          <a:xfrm flipH="1" flipV="1">
            <a:off x="6858000" y="4648320"/>
            <a:ext cx="457200" cy="9144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3" name="Line 10"/>
          <p:cNvSpPr/>
          <p:nvPr/>
        </p:nvSpPr>
        <p:spPr>
          <a:xfrm flipV="1">
            <a:off x="7924680" y="4343040"/>
            <a:ext cx="304920" cy="10666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6400800" y="5410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299cc"/>
                </a:solidFill>
                <a:latin typeface="Times New Roman"/>
              </a:rPr>
              <a:t>Non-Normal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ababa"/>
                </a:solidFill>
                <a:latin typeface="Verdana"/>
              </a:rPr>
              <a:t>Stem and Leaf of Beck Score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  Leaf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6      .   0        =6.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4 cas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8" name="Object 5"/>
          <p:cNvGraphicFramePr/>
          <p:nvPr/>
        </p:nvGraphicFramePr>
        <p:xfrm>
          <a:off x="4495680" y="1600200"/>
          <a:ext cx="426744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267440" cy="4572000"/>
                  </a:xfrm>
                  <a:prstGeom prst="rect">
                    <a:avLst/>
                  </a:prstGeom>
                  <a:ln w="9360">
                    <a:solidFill>
                      <a:srgbClr val="9a044b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Temperatu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hat is unusual about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stribution? (Exercis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ue: spacing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two temperatur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LEAF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6      6     = -6.6 Degrees C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4038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Frequency    Stem &amp;  Leaf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2.00       -6 .  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4.00       -5 .  00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0.00       -4 .  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-3 .  33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2 .  222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1 .  111666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8.00       -0 .  00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2.00        0 .  0055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1 .  61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2 .  777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6.00        3 . 33333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4 .  44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3.00        5 .  555555 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1.00        7 .  2222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7.00        8 .  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9 .  444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Error Bar Char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Interac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Bar char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r length represents 95% Confidence interval for th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males have higher depression scores than m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S_BECK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_EDA PLOTS.TX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7" name="Picture 7" descr=""/>
          <p:cNvPicPr/>
          <p:nvPr/>
        </p:nvPicPr>
        <p:blipFill>
          <a:blip r:embed="rId1"/>
          <a:stretch/>
        </p:blipFill>
        <p:spPr>
          <a:xfrm>
            <a:off x="4343400" y="2028960"/>
            <a:ext cx="48006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Bubble Plots (in R) years in education related to income/prestige</a:t>
            </a:r>
            <a:br>
              <a:rPr sz="1800"/>
            </a:b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ans Rosling – bubble plots over years (</a:t>
            </a:r>
            <a:r>
              <a:rPr b="1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ted.com/talks/lang/eng/hans_rosling_shows_the_best_stats_you_ve_ever_seen.html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0" name="Object 3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DA - Exploratory data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formal graphical techniques (Tukey, 1977) whi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at underlying struc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dentify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assumptions in later formal analyses (Normality, equality of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st of the EDA techniques are graphical and quite si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“</a:t>
            </a: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A picture is worth more than ten thousand words” Chinese proverb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ultiple scatter plots (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4" name="Object 0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Oval 4"/>
          <p:cNvSpPr/>
          <p:nvPr/>
        </p:nvSpPr>
        <p:spPr>
          <a:xfrm>
            <a:off x="1828800" y="3809880"/>
            <a:ext cx="1523880" cy="1295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7" name="Oval 5"/>
          <p:cNvSpPr/>
          <p:nvPr/>
        </p:nvSpPr>
        <p:spPr>
          <a:xfrm>
            <a:off x="5867280" y="3581280"/>
            <a:ext cx="1600200" cy="1676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one using PRISM software (Thanks to Kate McAlister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1" name="Picture 5" descr="Eyefitting_SIPT"/>
          <p:cNvPicPr/>
          <p:nvPr/>
        </p:nvPicPr>
        <p:blipFill>
          <a:blip r:embed="rId1"/>
          <a:stretch/>
        </p:blipFill>
        <p:spPr>
          <a:xfrm>
            <a:off x="3294000" y="1600200"/>
            <a:ext cx="2554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dder of Powers (Marsh,1988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s (double star function in SPSS COMPUTE) e.g. 3**2=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2    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1     untransforme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.5 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     (natural) log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0.5  inverse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1     reciproca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2     inverse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Verdana"/>
              </a:rPr>
              <a:t>Choosing a power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rial and Error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Box-Cox transformati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SPSS Box-Cox macro available at: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http://stat.tamu.edu/ftp/pub/mspeed/stat653/spss/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ox-Cox rationa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ikelihood for regression with predictor weights, B and error varianc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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/n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t know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predictors X and outcome 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(B,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| X; Y ) = - n/2 (log(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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+ log </a:t>
            </a:r>
            <a:r>
              <a:rPr b="0" lang="en-GB" sz="1800" spc="-1" strike="noStrike">
                <a:solidFill>
                  <a:srgbClr val="3299cc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– 1/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imizing the error variance increases the likelihood of it being normally distribu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e also assume the errors Y-BX are random (Normally distributed with a mean of zero and constant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-Cox applied to 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s for a power that minimises Beck score 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a power of 0.3 (near to log transform (power=0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improve fit of a covariate to predict a test score   Box-Cox can flag up a non-linear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be used to help determine z-scores and means but can be misleading for very skewed data e.g. when floor and ceiling effects are pre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ed test score using a covariate vs actual test score (raw and square root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76" name="Object 1024"/>
          <p:cNvGraphicFramePr/>
          <p:nvPr/>
        </p:nvGraphicFramePr>
        <p:xfrm>
          <a:off x="4724280" y="2057400"/>
          <a:ext cx="4038840" cy="33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Object 1025"/>
          <p:cNvGraphicFramePr/>
          <p:nvPr/>
        </p:nvGraphicFramePr>
        <p:xfrm>
          <a:off x="380880" y="2057400"/>
          <a:ext cx="4038840" cy="331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9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Text Box 1030"/>
          <p:cNvSpPr/>
          <p:nvPr/>
        </p:nvSpPr>
        <p:spPr>
          <a:xfrm>
            <a:off x="228600" y="54864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Times New Roman"/>
              </a:rPr>
              <a:t>More linear relationship taking square root (right hand side picture)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 Cox on residual vari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est score = constant + A*item score + residua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an use boxcox on residuals of fitting item score on test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uggests using square root of 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his is the transform of test score which minimizes the residual varia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BOXCOX.SPS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84" name="Object 0"/>
          <p:cNvGraphicFramePr/>
          <p:nvPr/>
        </p:nvGraphicFramePr>
        <p:xfrm>
          <a:off x="4419720" y="2362320"/>
          <a:ext cx="403848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362320"/>
                    <a:ext cx="403848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Line 11"/>
          <p:cNvSpPr/>
          <p:nvPr/>
        </p:nvSpPr>
        <p:spPr>
          <a:xfrm>
            <a:off x="3505320" y="3200400"/>
            <a:ext cx="3809880" cy="16002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ponentia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icks = AE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-B 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Clicks = log A – B Ag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ther type of non-linear relationship. Characterised by  ever increasing rates of changes as you get 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0" name="Object 5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Log Beck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ew=0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=-0.0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cceptable using rule of thumb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5" name="Picture 4" descr=""/>
          <p:cNvPicPr/>
          <p:nvPr/>
        </p:nvPicPr>
        <p:blipFill>
          <a:blip r:embed="rId1"/>
          <a:stretch/>
        </p:blipFill>
        <p:spPr>
          <a:xfrm>
            <a:off x="4648320" y="1820880"/>
            <a:ext cx="403848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aphical display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gram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xplo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rror Bar plots (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m and Leaf Displ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plots (especially for checking linearity of correlations, residual plots from regress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ee also regression talk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der SPSS EXPL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 - log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s closer to a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has made the distribution more Norm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enables the use of more powerful statistical test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9" name="Object 0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k transfor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wnweight outlie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if power transformations fai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summary measu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quartile ranges (Boxplo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sums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Non-parametric tes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ing ranks -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cost (in £) of two care cent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re Centres O &amp;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y patient cost sav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entre O stem &amp; leaf displa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WIDTH=20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EXTRE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10" name="Object 5"/>
          <p:cNvGraphicFramePr/>
          <p:nvPr/>
        </p:nvGraphicFramePr>
        <p:xfrm>
          <a:off x="4648320" y="2209680"/>
          <a:ext cx="4038480" cy="35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09680"/>
                    <a:ext cx="403848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Centre R - Stem and Leaf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tem width=10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utliers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test need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15" name="Object 5"/>
          <p:cNvGraphicFramePr/>
          <p:nvPr/>
        </p:nvGraphicFramePr>
        <p:xfrm>
          <a:off x="4648320" y="2057400"/>
          <a:ext cx="4038480" cy="380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057400"/>
                    <a:ext cx="40384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(147) = 0.30, p=.7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costs the sa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 Ran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O       65.11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R       85.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-W: Z=-2.94,p=.00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R costli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rank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CENTRE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parametric 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wnweight outlie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wer assumpt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ful for skewed distributions (See Lantz (2013) for Kruskal-Wallis for three or more group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ess powerfu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se inform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ed range of test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 Group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for t-tests and ANOV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covariate by group interaction in ANCOVA; Quade’s (1967) method is a nonparametric equival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eed to transform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s available to identify problems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re group variances equal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ets slope of spread vs loc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ares slope to 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produces F-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514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bbie et al (2012) in Br J Math Stat Psych suggest a variety of adjusted tests including Welch’s (1951) adjustment for use with one-way ANOVA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31" name="Picture 5" descr=""/>
          <p:cNvPicPr/>
          <p:nvPr/>
        </p:nvPicPr>
        <p:blipFill>
          <a:blip r:embed="rId1"/>
          <a:stretch/>
        </p:blipFill>
        <p:spPr>
          <a:xfrm>
            <a:off x="4648320" y="1862280"/>
            <a:ext cx="403848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por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a proportion depends on value of proportion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rcsine transform resolves th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e function in COMPUTE to do transform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* arsin(sqrt(p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c8ab9"/>
                </a:solidFill>
                <a:latin typeface="Verdana"/>
              </a:rPr>
              <a:t>howev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aeger TF (2008) Categorical data analysis:away from ANOVAs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 Mem Lang 59(4) 434-446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difficulties using arcsines on proportions near 0 or 1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rcsine also may be used when correlating propor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Symmetry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lustered around medi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median=mean=mod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no skewnes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Is of mean assume symmet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0" name="Object 5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d Finally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“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 Statistician is someone who can have their head in an oven and their feet in an ice box and say that on the whole they are feeling perfectly normal”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heck you are using appropriate summary measur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xplot illustrations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Lane, DM and Sandor, A (2009) Designing better graphs by including distributional information and integrating words, numbers and images. Psychological Methods 14(3) 239-257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419720" y="15998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urther details including references on EDA at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itl.nist.gov/div898/handbook/eda/eda.ht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Thanks to Frank Duckworth [RSS News article on scales]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llan Reese (CEFAS, graphical comment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Barney Dunn (Bimodality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xt week (Thursday)…11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 and Multiple Linear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Skew and kurto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ke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upper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symmetr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downward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Hair et al,1998;Simon,2002)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skew &lt;-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Skew &gt;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Kurto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flat (Plati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normal pea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peaked about mean (Lepto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Simon, 200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Kurtosis   &gt;  3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Kurtosis &lt; -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Peakednes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 measures 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Carlo in his 1997 Psychological Methods paper shows kurtosis influenced by the tails of the distribu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want too peaked or too uniform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peaked -no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flat - no one ‘typical’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9" name="Object 1029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ypes of Kurtosis (Miles &amp; Shevlin, 200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3" name="Object 2051"/>
          <p:cNvGraphicFramePr/>
          <p:nvPr/>
        </p:nvGraphicFramePr>
        <p:xfrm>
          <a:off x="395280" y="184464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205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is is a mixture of two distributions (clear dip around the middle; multipeak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grams are usually good at spotting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 modelling the first half and second half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8" name="Picture 1031" descr="BIMOD~BS"/>
          <p:cNvPicPr/>
          <p:nvPr/>
        </p:nvPicPr>
        <p:blipFill>
          <a:blip r:embed="rId1"/>
          <a:stretch/>
        </p:blipFill>
        <p:spPr>
          <a:xfrm>
            <a:off x="4648320" y="2448000"/>
            <a:ext cx="403848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3:07:24Z</dcterms:created>
  <dc:creator>peter</dc:creator>
  <dc:description/>
  <dc:language>en-US</dc:language>
  <cp:lastModifiedBy>Peter Watson</cp:lastModifiedBy>
  <dcterms:modified xsi:type="dcterms:W3CDTF">2015-09-24T15:45:43Z</dcterms:modified>
  <cp:revision>349</cp:revision>
  <dc:subject/>
  <dc:title>Exploratory Data Analysis</dc:title>
</cp:coreProperties>
</file>