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9935B-50B3-4F3A-9C3B-F1D956713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134C8-ABCC-45EA-A4BA-FE018BAAF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114BF-8416-4E00-B590-3634EC1FD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F2753-C551-4D7D-870D-CFC8D9C328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C76B9-7FF6-44FC-8ED3-74A9BE4FF2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B892D-FDA5-4128-AF70-52E2FB9D79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D2166-DD0A-4F78-936E-7848CFEA84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47422-787B-4CE5-A291-FE668AD1BC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BFF0B-1CF7-4D13-81F4-071139A440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7646A-F842-47BF-90EB-124BE7681E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62B4A-0AD2-43EA-B221-9CF6E9957A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A1361-D054-4CE6-A6DA-73DBA2D8A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F7213-B89A-40A7-B26D-205EDD6737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EF1B9-F66A-42EC-8FAE-B0ABB0BA2A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00588-2EB1-4884-8D15-68956BFCD3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0DB52-0CD6-419F-80F3-CEB43605F6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F0B6E-4CF4-49BB-8462-3B8C2C9AE0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C257B-68CC-40E7-95FD-D05B4FFEC1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B64F6-6F75-43FD-A086-2B522C7D6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72CBA-0BDF-4C1A-8954-51276A5DF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FB80E-5B7A-4DFF-B814-8555B6FD9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54521-D06F-424A-A436-B9BA33744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B098C-50CC-40EC-A323-6D45667C3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4EF5C-6881-4AB6-BDC7-EDEA54F67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54E01C0-E81C-418A-AE55-FBE9D00B39CF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C1284E3-62AD-49E3-94CF-5AFAC8CDE6C8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4A2549B-7E93-4635-8119-3A263F9EE353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0E9A367-63EE-46A0-A8A0-7ED66FF37BFA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8E29-FD8F-4570-B3B6-A730EDDD85E6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5-10-28T10:14:06Z</dcterms:modified>
  <cp:revision>333</cp:revision>
  <dc:subject/>
  <dc:title>No Slide Title</dc:title>
</cp:coreProperties>
</file>