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ECED1-45C5-4D9F-B5D6-1C9A6610B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6DE54-72EF-44D3-9615-D397064FE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98B8-57EF-4E94-9066-E25BE7094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72FAB-37C8-4D08-8A02-27BA2BA02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A9332-5CAD-404A-AD11-D383C1D170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21CA7-3470-40A2-BFF8-7E7BAFA180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74136-808E-4E93-B77B-7A77525FB0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239A9-F5D2-4A03-B38A-590F872BAA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9280C-642B-48AB-9E19-4AC30C671D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752C8-863F-4CF4-9C31-31573A16D1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86C7F-BD19-4C66-B06C-B36EE14D34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F669-93F3-462F-85CC-0DC698EB5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63FBD-3961-49D2-847F-D6838151CD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3EC24-52F6-4928-9075-FC9DEEAA5E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1A841-3130-4308-AD19-A05435BDAB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C459E-CA56-4517-9CC7-59C3D2B93D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4BB15-7447-4533-AD42-A7D38FE257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C44D8-485A-4C92-92FA-0082F4330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1771-75CA-4C92-85BC-DE4AEC93A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5A4F2-1C0D-48E7-B1A7-36CA45438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2652-5D43-4682-97B6-00D1D506F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D6D7B-457F-4F8D-8C6D-A5F7BA72B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0E52-B2A7-468C-B143-A7BB5A2DF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8820-8556-4467-BB09-7E77976CE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F597438-1725-44F0-9769-6D84E4EBE38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B810528-1A17-4959-A57C-65456AC4B94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8FC929A-D001-4EF9-B735-3E624B3160E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69A77A1-BF50-4270-9063-74D2182FDEA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CE8E-7615-4152-9D51-78C97EE20145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5-10-28T10:14:06Z</dcterms:modified>
  <cp:revision>333</cp:revision>
  <dc:subject/>
  <dc:title>No Slide Title</dc:title>
</cp:coreProperties>
</file>