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92E3565-7082-4E62-8C8E-FD1EE880D6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692F902-FD8F-47B8-93B4-757381254A66}"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9AC94-F76F-4103-B7D5-D5D91AFDA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70B20-F4B6-423E-903B-BAC288B54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1DD50-7688-4F15-8E36-ED1165CD4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E8DBF-FCA6-44F6-A759-28BEB2A3F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F2ED1-012C-4926-BA57-82A00DB41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64163-637D-4052-AB81-6DCDA8211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869BE-8EE9-47FC-B1CE-09F1B1E83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854ED-1A3C-4B8C-8214-B79B9F1D9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12FFC-1FCE-4EA0-B2AB-7F34962C2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F1632-F627-4BBC-B1C8-72EDE8EFF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1F255-A7F1-4A2E-8159-25A229C3F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BC614-D9FB-4975-B751-E894D8196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871BD-645C-4BBA-8806-F367581BB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0E266-EE07-4AE4-8320-DA420CB0A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9AEF5-0163-43FC-8D3E-DA808BFAA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F0E4C-6F01-4359-A430-1378FA6DE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14A57-A979-4EC6-9E17-7165F6544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A5E7F-6243-4999-9C82-C4E7C795E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E6347-20D4-4959-A62A-F6921B204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69D51-0446-4800-8405-2F754DB40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3961F-47A5-4EE7-9285-8E33C24A2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50236-EEFA-481F-81FB-20A29A049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DF78E-7F65-4752-BA4B-30CD50499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23EA3-E3C8-440C-B08F-6A0E452F8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2 October 2015</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3BB5-421E-400F-A7C8-4C131545938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2 October 2015</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8197-E2DA-407C-A168-B76D8A8CD953}"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83E2-3052-4A0B-84EB-DEAF71130C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1956-3278-4D0D-B7AC-FC71524FCE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9AAE-428D-44D9-8BCF-9CD842072C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644C-AD6E-4098-886B-DDD0BC15C9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8A6E-2887-40AB-926C-8D70FDDE80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DCE2-9B90-44E6-ADD8-99859E4815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36FC-4D3C-4265-9F56-1173A8D122C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CC9F-B06E-43DE-A3E0-406440716C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8B71-73B7-4560-BFE8-57FC05B901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D1FB-51C1-4FE6-8E90-24F9A1050A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7EF5-F135-44B9-B478-DE2A61164C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E6D8-AFAE-484C-A324-5D4191E5D5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FE6A-FC6D-4773-BBD5-A07EE3523C0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09FF-0235-4A3B-AC30-C9D360B1B3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BF4B-7DCC-4297-98FB-927F95FB9F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E662-CAD0-404E-9CE4-B42CF3110A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DBA8-F962-464B-8A44-4E3CCEF256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A322-96DF-4A9D-ADC5-AE6C138EA9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7968-0012-4697-BA08-E30D6C91F30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EFC2-A97C-402F-B967-C5AB557A4A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FB3E-3039-4F61-A08D-B4AA6BD793F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DE0A-780A-4D61-8455-9B6BF1662A1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A2B4-6D57-462F-8FBF-C4BF35D9F82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B62C-CF19-4412-9D00-A18E9A98E1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25E2-87B8-411E-84C0-077FDD6E68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B77F-42E5-4408-9828-0F4CE2ACEB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8575-E9EA-43B8-A453-C2F95E2583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277D-FB53-4274-9FD0-072FC6DF40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E303-9BED-486F-9CD1-D87D81F0E57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FCDE-FED5-4501-966A-1A9BC4CAE6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6B86-5795-4050-B4C0-460CF44755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E51A-0018-4C97-85D2-75CB340E74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3B87-65B0-4D73-A305-2A5A05B026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227B-1CF8-480E-8C0F-632C63430F2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6BEA-AA2C-438C-9DC3-199CB91E46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E1E8-C25A-4D26-8EE7-D2AF4A3D44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In TWO weeks 5</a:t>
            </a:r>
            <a:r>
              <a:rPr b="0" lang="en-GB" sz="3600" spc="-1" strike="noStrike" baseline="30000">
                <a:solidFill>
                  <a:srgbClr val="515f7b"/>
                </a:solidFill>
                <a:latin typeface="Albertus Medium"/>
              </a:rPr>
              <a:t>th</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850B-76C9-4467-85D5-697EC1511D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143A-CA87-4766-A834-40E7BF6720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1F77-0218-4542-93F9-DD9DFCDF36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7365-99CF-41AD-9897-293C0F6E1B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1F95-89AA-4CB7-9328-F95408B8B1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5-06-25T09:39:11Z</dcterms:modified>
  <cp:revision>66</cp:revision>
  <dc:subject/>
  <dc:title>Aims and Objectives</dc:title>
</cp:coreProperties>
</file>