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DA35-4389-4E88-9F98-EA870B79EFB5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395A-10EE-4ECD-BF03-A8E450D81C6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3A78-7D7B-4365-B2FF-8AE32EDB53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F54-49BE-4D1F-B217-DE3C2FD314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865B-3325-4C5E-BD39-79077B863A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155F-8686-4C2E-A9FB-C557CA25E0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AE45-2E9E-42EA-B1B0-D73B5F972F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03D4-7487-4A5D-87D6-9B70ABEFF6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BE54-0AEA-45F8-9A02-42A834C725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34A2-36E7-44BE-9A06-839729DB276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3FD4-86DD-494F-9203-5B58611563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6B34-D290-4917-97F6-E92BE44098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04B5-C336-4B9C-AD3F-DA1010EF71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E20F-4D20-4BB3-9062-1C762487E6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8F04-0E19-4BBF-8480-7F7D20B62D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4E3E-31CA-4AB1-AA7C-E158DB6F8F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D69B-E9E6-4CA6-BC84-A574AD283B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62EC-E1C6-4DF8-BD84-2809C45DD3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4DE9-53CB-4E6E-9A9D-79CB32EE08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10D8-A1F5-4F04-9BD1-988FB17BDE4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2F37-6F64-496E-B240-F65EC5D729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E5D8-542C-4BE0-A87F-4FA35CB964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AB7-9164-4AEF-9AD4-BF9B2B248F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4B81-4BCD-4D05-B5E4-F0F185A582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21F0-FCE4-43D2-8450-2C271E9AA11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0FAE-8C5B-4F35-95DA-9EB2E5B440E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9E4D-63AD-4F44-9AE4-D6F988446B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5A87-1034-44E8-9B87-AD5312FB02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5A90-8879-4A8E-AC16-64965CE75B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A676-F03F-4AFF-9FEC-53482D41B4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8B23-B08D-4522-B346-936D6165DE4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05A2-D3FD-4C28-BA88-D785A5E139D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DFD-F3E9-4D27-A11B-3C7740CFB7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1D5B-204A-4B37-9F26-47B07297D8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B562-35A7-49EB-A4F8-CF871581F5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D0AD-3939-401D-B3C8-DD53E3A24B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9C6F-1CA1-4394-AF72-93C35452DBC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02DA-57C2-42C3-897A-2A0C6D65A6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4AA0-241A-4E57-BC83-17D76E4113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C88B-8E67-4148-A81A-2E548DA9C4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3E43-6EDF-4A6D-AFEF-83CF7150C2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E1AA-DFE9-49A1-955F-E0948887BD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45C5-E3EE-4601-B370-E7656778FA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7C9C-4DB2-4E77-95F1-1DDD25BEE3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7D7C-8FC6-4485-9A80-5D86F92931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78C6-1D32-43C4-A73D-27E43364B4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F1FA-5C98-4F8A-BD35-A22F865466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3E88-264D-4348-9115-4F8FFF7F38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A37-3716-4488-B6D6-711A7A8A92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E2A6-FDA0-4E31-9061-9F472C8D1A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DFBD-3B40-4FC2-8631-72C66F9D52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C2EC-FE7D-4532-BACC-B92574BF5C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152E-CBFE-4F2C-B48D-531A69CAC1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4BCB-9751-48D4-BB80-A35717145A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29D-A7DF-47D0-92FB-137FBD1A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EF5-478C-4647-9F0C-856C9517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A32-DD65-4272-B356-E7C70D81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327-184F-4760-A2E7-0B2BBDC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EF78-1DBC-43A7-A904-D474D2E1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4B6-31D0-4499-AA22-822EA8C3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82A-657C-471D-B580-120985BC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84B-A37F-4C2C-A161-5AB87EAD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E4D-3E60-4782-AE27-0270E77A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D7C-204F-4003-929C-41168DBE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8DB-2286-433B-B062-F2C06C08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669-3F01-4E0E-A713-CC7F1C0F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F6C8-158C-4AEA-A34E-D018751420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r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5-06-25T09:40:25Z</dcterms:modified>
  <cp:revision>103</cp:revision>
  <dc:subject/>
  <dc:title>Aims and Objectives</dc:title>
</cp:coreProperties>
</file>