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C7EB-FCA3-4DFF-A821-00C70CD79FDF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4F45-6A54-4B39-8122-95F19254BEF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EC1B-BD74-4EEA-B0F7-02EB6F5022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1A7F-2D1C-42EC-B10C-70019960CB0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1538-8C6F-4ECB-BDFD-80C45AC9B3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8502-294E-482F-BB88-59BBF7E5800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42A8-6DC0-47B7-BA3A-F3CED482BFD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8AF3-DBC9-495A-AC0E-0F1B037914D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52FA-B356-4EC7-8E5B-C5E26E8FC63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C616-7C60-4C19-BD16-BA311DB7E72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4552-0203-4F0A-A6F1-1EBD2115F92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6165-B3EA-4B76-AD98-512C2BD8175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AEB4-1722-4049-A371-27AA51B4CA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F3DA-3FD1-43F7-89F3-8BE8B547086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AB9A-7E86-498D-B0FE-6A588B362BE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CA33-0CBE-4C0C-B306-688E9610FFB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A830-E775-4451-9731-3143C0A2B8A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1A43-E9F9-4A95-ADB7-58857D29387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B610-FFB9-4E2A-8D72-EFDF6268184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98B2-2096-4CAE-823F-7FB253D9043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CFFE-2A9C-4373-811B-69859E11603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8110-80EA-4E7B-885B-970D06EB5A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4D03-656D-4FCB-BB13-1460D0E5158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59EA-F456-4C0B-993A-655A219E8E9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17DA-1285-4252-B7B0-5E49D6F362A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DAF2-DDFE-4B67-A9E6-C74065C17D8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BD84-F98C-4571-83D9-97CA511651F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3975-6CB2-47DB-8F7A-5B5A7DB34D5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57FC-D290-4290-8131-141A8876BD1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D154-D121-4DE3-92CA-4B7D98A8182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4B77-CF21-4B46-9DB8-824E1A002FC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E902-ACE7-4358-9464-0F38CF7A1BE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38B6-A226-472B-B836-88F8DD7FF6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2724-7961-443E-A955-671E0913BB6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96B2-7D77-44F6-B849-BE28F061A15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465E-A3AD-4595-85D9-0E8BAB11002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1E34-26FF-46F3-A93C-5DD6D8BEBB4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A7E7-96B4-4627-9D19-0049E5F9809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7024-9C67-4F93-853B-DCDDFE25AF4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F401-6B4B-4B40-A30C-8D08DBC3377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4941-DFC7-4C78-B973-D2A9D54798E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D72A-1D8A-498A-A06A-0AF474F8645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C937-AFDF-4A67-A770-301BC1B3BA3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85AD-D55C-449C-90DF-04029537335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A486-8E97-49F1-9D47-8C939B9C67B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5056-5E2A-42BA-847F-85D4221F52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0945-739F-41E5-980A-8341DC1007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FE6F-B453-426A-8E6B-042C3A4687C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3FAB-4647-4B24-9ACE-C8B2AFDC949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96B8-BBC1-4657-90B0-609B9522418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D75D-C127-49C3-A8CA-CB3395326EB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7C2C-6771-48D0-BD73-9BA26D4D7AB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78F2-DA10-4761-8A81-D7CDD9C1BD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AC95-D5EB-4306-B031-AD8C1E053F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E4A-C5D8-4238-B752-78E4370C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1071-90F0-4E93-AB27-E6F41307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10D-277B-411D-AE8A-03FBE5EF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BF7-911F-4EAB-AB6F-D6C8E352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632-BF41-49FB-9611-EC7E6AF4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0922-67D8-4075-B952-6D6EE541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493-4438-474D-9E1C-2439BE29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B2C-7702-4EE3-8449-348ABA4A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E088-3983-4803-8B47-81D2D241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F17-74EE-4C25-B9FD-3CC97FFB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48F-1F7E-45A1-94F8-2C555E37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6F6-F663-4BDB-938D-58E52218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25B9-6A82-4F16-8941-7E04BFA8B8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3rd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5-06-25T09:40:25Z</dcterms:modified>
  <cp:revision>103</cp:revision>
  <dc:subject/>
  <dc:title>Aims and Objectives</dc:title>
</cp:coreProperties>
</file>