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9375-E3D8-4A27-AE51-727760EDC0B0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F96C-579B-447B-8409-C3B030923EF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3FD5-B9F7-40E4-BE83-54B24C1E670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87EF-C856-4960-88F0-EBFBA4E1CD0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5205-CED7-4A87-B261-CC272D64E83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3E57-CA00-4386-8F60-07EE67DF77A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7A32-E8F6-4E10-ABC8-2EA7B74D1A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4619-5FCA-471F-A6F9-6196476686A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B817-330B-4397-9312-5143B8E3F11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9096-FE96-497F-8D64-E31B35684D4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DD16-006D-4F24-BF35-25ECBBD8C88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D15D-B5A1-42B5-A071-3A24EEED71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4FF1-BD46-4656-A98D-7A7AB6EA7F7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9842-6AB3-415A-B22B-AD24B6EFDE3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C0E3-1727-4DBE-84AF-9FF1FD80983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EA33-ADD1-4EA5-B781-59D0160A244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5026-5677-48DE-8C47-336DB3D03D6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F51F-2D3D-4922-A46D-81E0F82F406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1524-CB88-4BE4-813D-E7E64FAE37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D9E0-21F8-4953-9AE5-79185C6746F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9913-72EE-4273-8B48-86FB1C88AE3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071F-EB0E-4913-98C6-E1AF8EEA25F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7B82-7A42-4ACA-8214-9D8961710E5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FE52-4ADC-470F-A56A-9328E8FF9F9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681C-D6A4-4F7C-9977-406BC2C531A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5AB9-77BD-44D2-85BF-2966BB1A703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A20A-0B6C-4D23-8D58-35E745B3B7B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E548-91E3-4C84-A1CD-C52EF2368C3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3838-4B8C-474B-9734-C0AE35B7D5A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74D5-D534-4E4C-8C95-D17A085EF95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12AF-4F77-4AB5-A21C-724C95BF3EC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DE93-6CD0-432D-A423-74B828629EE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0D55-B456-4D0C-B186-8A957DD0274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42D3-483D-4B8E-8EEB-7C44045EC47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7B79-6B80-4361-9F7A-12EB3B67D6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21C5-60FE-4E6B-A20C-13BD4FB29C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2FF4-9436-4395-A101-1A2BFC791D7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2EB3-4653-497E-BC48-94AA8C5FF3A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76B8-D953-4014-9402-9E46BCBC51D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986B-8370-4521-8FF3-A5ED0838A4D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9088-594E-41E1-B878-2F4F8909748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AE36-CE09-453A-B732-C17DE28F404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0B90-BC5C-40E9-9EEB-C026351DF5E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1BB3-B94D-4D55-B3E0-2310F81F286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1221-AE78-41CD-94FD-12CD1F16A6C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B430-7BAE-4AAB-8400-C863449BB99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CAF7-8CEC-4862-A551-2F5EEA1683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1903-6611-4D9B-8F85-FECC8ABB73F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C42F-C0C3-4D78-9EF1-9B4BB82817F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0D09-FFDF-4555-AF4B-68FAE5CF9E3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0EC0-720E-4F7A-8A13-2201E10BD77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B4FB-0643-4CD2-949F-7F074B233EC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09E7-AABB-43B6-892A-E43F012FAE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640A-6F6F-480B-A1E3-5D0E3093061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8BA-AEF9-46AB-9212-1452DDB5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4C9B-B005-43FF-A5DF-6A57E3A9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C7A-474D-4BC3-8BDD-9763D63A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280-550F-4AB4-8E27-D394524A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93DE-0EC8-4E5C-AB26-EA1A87A3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583-E55A-49A7-9DB8-A9223CA9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222-5BBE-488C-B800-275B16DF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637-22A5-4F48-91EB-45E79C99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7A7-595F-4151-9D97-CF1C02DC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36D-D56C-461A-880B-4C40A99E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0806-565C-45EB-9E58-14912BD8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2A2-882F-4932-BAEF-FF732B86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02AE-4C33-448B-B4D8-BC71CFD52A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18296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17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3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1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3rd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8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5-06-25T09:40:25Z</dcterms:modified>
  <cp:revision>103</cp:revision>
  <dc:subject/>
  <dc:title>Aims and Objectives</dc:title>
</cp:coreProperties>
</file>