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8F17-2528-4AF0-B82A-4813FEDF8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D1CD-D995-431E-B2FA-B114CF476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F534-6A5D-487B-92FB-81E864049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0821-B198-494F-B20C-8AEFAC567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609E0-1698-42A4-A88F-7873AC588A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58A22-35BA-41E4-94BC-744AF426FB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B32BB-4E2B-4B0A-A0B7-F76C14E3B6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3236C-88E2-4D6F-A65A-7F35DDBA93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0607-BE67-4B72-85A1-0BB212467F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6058B-2E4C-4E09-999A-886588A569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68905-971C-41A5-B020-90CEDA9FC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C3C7-F330-49C7-B05F-4EF0F5EEE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0B46B-9758-4DA8-A0A0-750BAD7DC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F900E-CA4D-4571-BE8F-896E6808D5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F390B-EE3D-4F2C-9722-9D947FB227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C9D9C-359A-4C32-9F14-AFFA1DA74E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9B3CE-16BE-4EFB-AC61-2CB9DFB23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CB78-CE2A-499B-9DDA-D4D4639AB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B135-CB31-467B-8E65-0E526D836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B1A0-2B52-4EF5-A326-050F9D980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A0FF-3C18-4586-9358-A7598336E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4DE5-9E4C-4CD9-A0EB-F25AF10B9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04DB-587A-4A71-AAB6-6A36ABA97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2E00-8518-4750-B40C-CE96769E9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DDFEC8C-6676-4BBA-931C-849B061A598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80528B6-1FDB-4227-82DD-B6C36FDD82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EE7E4AE-4B3A-4A93-8C38-1D4EF1F25FB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ACBFA01-DB16-4228-B484-9F74833838C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5-03-27T10:22:25Z</dcterms:modified>
  <cp:revision>232</cp:revision>
  <dc:subject/>
  <dc:title>8: SAMPLE SIZE DETERMINATION</dc:title>
</cp:coreProperties>
</file>