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43FD-1DE2-4544-958F-53AE3CD18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31AE-5B08-4749-B0C0-0E0F5FF5F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1286B-566F-4C29-B162-84618AD20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DD521-ED03-41D8-8AD1-CD02523C8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1092E-9DEB-4FC7-A41E-E0DBF55218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4BB14-AE81-41E3-9F4B-3FFE924759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296D1-8CA3-4E81-9F1A-8DD7EB2B5B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2C9A6-A1C3-4295-BE6B-C5698985A3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BBA6E-2155-41F7-B391-C1A7FE4CDA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05E78-2DDF-47F7-845B-346A1FA31B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D016D-4DB8-408D-9087-16BE2BED00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3B315-B9BE-4D70-9D91-A3BE91C4E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7DCD4-9F2D-449A-B678-FBB44D0132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EEC10-4F7A-44ED-85C5-6264CBEA1B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B767C-B40E-4563-AE8B-B62ABD3D9F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D86D7-5452-4EBA-A41F-8E53E5BE6D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85D5A-9A00-433B-9FBC-E623A3ED08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17A83-A30D-4866-840B-A2C3D743E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514A-DD48-4FBB-8FCA-8B67E6105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8BF6-F46E-43C5-ABA0-9694C2E85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33D4-E2D0-4769-8401-BB68C2E3E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B1C3-2294-483F-BED5-7EEDF3F36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34942-363E-44FD-9B3D-8E19F9657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3410-E632-48E1-9140-6B0194821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C7C5914-4927-4269-8F05-21D96E8DD69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2405F5F-6B61-4146-B8E0-646B934D77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02270E9-1B9C-4A77-8C34-D4E2CE4EEBE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7058881-F213-4C17-B036-7160F4326A0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possible to sample but 80% response rate and gender matched siblings will reduce sample past 120 needed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-help.com/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5-03-27T10:22:25Z</dcterms:modified>
  <cp:revision>232</cp:revision>
  <dc:subject/>
  <dc:title>8: SAMPLE SIZE DETERMINATION</dc:title>
</cp:coreProperties>
</file>