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7C44-E113-469A-83EC-3C12DB676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F84D-221C-4E03-92DB-0B16F7855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B153-AF8E-43AA-AE51-CA5725638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8A37D-AA79-49E9-A168-BC6822047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DDBE5-B3D3-42FB-A547-842803EB66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FFD25-9A8E-4965-9F84-3299E5ED2C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8BD4-3610-41B0-9534-345BC279DF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37222-93C5-4C8E-8191-950293F29B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F235A-D768-46EF-AC8A-65FABE8B3A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D8B1A-2B52-4F2D-8DA1-9DFAC998D4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CF060-E717-4111-965B-FB6245AF9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D842-B93E-4E4A-9FBA-471586C65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F6F1E-169D-4687-8EC9-1F71D88BA8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66250-248F-401A-8023-B2DD117252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59314-E334-4BD9-AA4C-CD0E7C778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0C9B8-A852-4CC7-A67A-F13BBC2895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33847-2120-40DD-ABB8-B6993146D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86D9-34DF-47D1-B13B-98DF6B8B8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A308-0394-48A2-A60D-2E84775AF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D5D8-4BF0-4B0D-9656-9FAD2665F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5ACA-A502-4DA6-AF97-79CBCF6AC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7323-3422-4CCF-A78A-85BD46259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779F-0314-489F-A950-5DAEFFE91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1315-723E-4CF9-85CD-63B57599C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9D1CE61-A6DD-4046-A69C-2D5FCB7C0ED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8DECEE1-5771-43BF-90E4-78D6695CC9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CFCE2BD-B4B7-4B6D-AA17-6AB3244D545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CA6C4CB-3C5A-40B9-8DE8-E1F4100C94D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5-03-27T10:22:25Z</dcterms:modified>
  <cp:revision>232</cp:revision>
  <dc:subject/>
  <dc:title>8: SAMPLE SIZE DETERMINATION</dc:title>
</cp:coreProperties>
</file>