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141F-3C9F-439C-9492-881439E25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F4326-D0E4-4017-8A8B-5AFCF4D2D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4DEAB-D02B-467E-A6D1-3BFCB6879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B924-3837-41A4-A748-E8848C19AA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AEB40-A227-4163-B4F5-7A22DA681B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3A95-BCF4-4846-B336-6A88F150B6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33E7A-7DA7-4B0C-9510-E23528F68E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1EC4E-F031-4F59-BE5E-90354C8A1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03272-485A-486A-956D-36C40C7C3B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BF3EF-5C50-4B2E-8302-9BF35AA22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25E46-3F71-4AE7-8EAE-9FC7B13114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9CEF3-6C9C-490D-818C-ABBDE3F8B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7BD94-76E1-46EA-ACBE-157FE8D1C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431D4-FE6C-48AF-B80C-A5865C673C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06095-2268-4EEB-94E9-62DEA428B3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42EF8-0C43-4713-9E07-E736DEE0E0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83D86-E7EE-40FC-81FA-452450BA3C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F7EE-1A77-48B2-819B-3CB8D00D7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D07B-25AA-4D8C-8022-32A87AEC4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8658-FD3D-48C2-A4E8-7C9F1EED3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76FF7-D19B-46EA-91E3-9549C5963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5A37-DC78-4856-AFB5-76DA4D9ED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24362-0834-4F4A-B59D-18E033706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2F81F-8411-4706-9912-E61B5DEB1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E39F43F-84E6-4D3B-A5B4-4C03B873AD0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33F40DE-1727-4C3D-B778-14011057852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BD15309-80AD-4D43-916A-0E73CC6D9F4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98D88A4-06F3-4B0E-AF5C-25691E8AB78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5-10-12T10:39:13Z</dcterms:modified>
  <cp:revision>309</cp:revision>
  <dc:subject/>
  <dc:title>REGRESSION ANALYSIS</dc:title>
</cp:coreProperties>
</file>