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541-8D60-4B6A-9C13-C27EAC31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6A4-A1CE-444E-A132-E1E4766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D31-2A01-4FA4-8C9C-C6E686EC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ED3-B8D2-41BD-8AA4-A944060D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0FD-E3D2-4AC1-AEA9-E4ADE676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374-3A21-4678-A5AA-74FBD17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243-046C-47C3-B0F4-4B9AA694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915-5478-43AC-9ED1-3B45F1B8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9B6-5003-4430-807B-CFB05D8E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C66-DB65-4FEA-8AC6-45884A1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EC7-0A6B-4671-9B64-AEE5B70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750-FE99-47A2-BA5E-179B156C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084B-78D5-4221-BA93-2EA1E173A9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6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5-06-25T09:41:44Z</dcterms:modified>
  <cp:revision>82</cp:revision>
  <dc:subject/>
  <dc:title>No Slide Title</dc:title>
</cp:coreProperties>
</file>