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888-2D4D-41F9-BE07-89532AB3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794-DEE1-4087-8292-8396796D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CD0-ECC7-46C3-A532-8DA65AC3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029-169C-43BD-BA63-4B3FB1E1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A6B-7C55-4BD1-A1A0-51E19013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528-695B-4DAD-B591-51F7DBE0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100-4365-4C63-87A8-EA9851E2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794-C804-41A8-A05E-BD5737C3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B4B-FBE4-41FB-95DC-777DC13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42E-3D57-4CFB-85C0-88D071C5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582-29C4-41D0-96D1-2178FE1D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0A2-DA86-4813-B1E3-816E80BD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DE25-98FA-4EE1-88FA-A3956710A3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6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5-06-25T09:41:44Z</dcterms:modified>
  <cp:revision>82</cp:revision>
  <dc:subject/>
  <dc:title>No Slide Title</dc:title>
</cp:coreProperties>
</file>