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E09B7-2BDE-4DD5-AF31-45FC4FFD4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E867B-0F2B-495A-922B-21164BDBD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698D8-AA4E-4A02-8756-670DF77FE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ED02A-A876-4483-A63A-73BA9C6E7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1F805-0C5B-4899-AFE8-FC702258A4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997B8-7D7C-4B0A-A494-BC3FB40C57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698DE-CC84-4705-A3EB-5B51C32209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DF3AD-C9D8-42AF-9F3E-B972FA261F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4CEB1-4A2F-484E-94BB-AE6667B951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AB858-B636-43CB-BDA3-F227323B03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A9F6F-3027-454E-BC9D-D3079F3DCE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2DA4A-60CF-4763-B6A4-E9619DCFC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42EB2-5368-4BA2-B542-ED993C5883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E123D-19FD-421D-9033-FF451A3361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71D5A-4435-40A9-9BF7-1F72C59778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5BE53-BAC2-4126-84EB-C4C7F70219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DFF81-EECC-438F-AA0A-FD7BACD44D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A9D98-DECA-4FE0-B152-FF51852C3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3DF6E-2939-4DC3-BF1D-0587C9178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3C172-9514-406C-850C-9326C1205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8BF5A-B360-45A8-81E1-EE2AE262C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577B7-C7E1-4049-931A-1298347D5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3CD8A-F0D9-495B-8F1D-4F29701DF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ABC44-BCB5-47CA-8F8E-5BBAB621C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95CCD7F-4D68-4237-99B1-D4B7DB13F84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9EE3081-743A-4308-AC8B-6D6B0C7EB9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B0C02928-904E-46FD-9ADA-FF155505572B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8F507AC8-3AB5-4245-AE05-36CC408A5501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3-07-18T12:34:18Z</dcterms:modified>
  <cp:revision>364</cp:revision>
  <dc:subject/>
  <dc:title>No Slide Title</dc:title>
</cp:coreProperties>
</file>