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dt" idx="55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ftr" idx="56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 type="sldNum" idx="57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D6B4C-9524-42C5-8715-E73DCE68AA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9FED9-B04C-4D33-9598-4C471D1369DA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338-A018-42A4-A968-FD09ECCC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2D7-8AA5-447F-9F55-AA7C15C2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4382F-DD24-457D-9227-BF1FE6DA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F4130-FDBA-4D3E-9A14-5A82EA7F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C02B7-799B-4EC8-BCC9-356634A0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72D93-D2F5-4A61-B790-5A23C66F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8C8DD-6969-4AFF-BE15-6CDA4320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2FE09-F6AC-4151-9C6D-CC511DE2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50C40-3833-4AF2-A2E2-9E88091E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45ED-F17C-4B9C-819A-FCBE2A69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B2D5F-374C-44A4-B16D-9A1135C4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67124-B053-406B-A8EF-D87E1FC3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FE5-E7CC-4B48-A6B4-7D790667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B075B-BFE4-4482-8A6A-A3CF990E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97E0A-91CF-439A-8AF0-1A551DB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A3DD5-B79B-4BD5-83A0-A12F558A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6EF87-F2B9-4361-AFCC-9F9363BA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2FC20-14DA-4DD5-B3A7-DAE0A126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BEE96-205B-4761-993D-15D067C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21572-141C-46D1-B133-8708F97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6EED-D10F-4BEC-87F8-C241A2AC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CAF4A-10BD-49B9-A10C-C579A048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D3F5D-64AE-47D9-82BE-E2C18320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2D1-35A9-4863-B482-4D60CB75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9F65C-AC92-4B66-9D12-91CC2143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69C15-D6E3-4E66-A7F1-9494475A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D859E-8068-4A9A-B49A-DB3C2450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1BA93-A8AB-4484-B01D-4EB10B9A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2A42B-2742-4055-97C2-318296E1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9D86D-8FB7-4502-8D17-C15EC0EF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6202A-5A9D-4E64-9824-B9C0440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0AAD8-ADC6-4C85-9CF6-509AFE5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76A55-8A8F-408C-8025-20B150F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8A478-210F-417E-A3E5-A3985C0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EB8E-621C-4514-98DC-9ED0677A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967ED-BD55-4A3A-A480-A796E700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30954-4ABE-4225-A662-E3F348F9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2886B-B691-4E7A-AF4F-591C5E18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5EA65-3BA0-47BA-9B93-F486967A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AB780-6011-4E84-B7B1-DDC0C84C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56DA6-CB90-4209-812D-00DEBA2D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72AD3-260F-41AA-9886-F8087C4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DD0A7-FEDA-479F-B919-B3BA335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B34A3-4AE5-40CB-97CC-C539D6C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52EA3-4BAC-4492-9C32-DDE8F9AB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1632-5071-4486-B2B6-7116C318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4DB03-587A-4384-9765-A49F78D7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6A81B-8DEF-4C17-BAF1-A2AB263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D3205-A936-4C04-B1AB-609F3496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55AA1-5AB8-40BE-B82A-4FD5DFEF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E7034-1CFE-4380-A01D-8231925E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94374-9729-438E-B32B-4D1C7367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DBA24-4F65-4F49-A42A-7E001D77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397FF-9C52-4207-A31A-8B928842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63A10-5520-473B-92A2-F31C7726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1EF2E-419D-4333-85E0-8583F4C8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FCBD-0C94-4404-A37C-76C35DA2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CA3AA-EC6D-4861-AB80-394061F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F567E-D262-422A-932B-5142165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6EB95-637B-4542-961C-0C5E2052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FD711-DEEF-4020-8615-1B3A4908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F072A-E635-431A-9E68-9D744C16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5E317-1A61-4E2F-B47C-05592690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6A1D9-5D5F-4934-81B5-02398077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22B08-F6D7-42E7-90E2-F3360588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8E8D3-521B-4389-9EFB-DC70E221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9F690-AB39-49B2-998D-289DA3A8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5DDA-1435-41AF-9237-AB513F4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09419-F3C4-4084-AB43-EC90C174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A4271-C392-4C77-B71C-63AE8EB8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4FA20-4E78-494B-A79C-C19A6EE0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BB9A7-3958-49E9-A709-438BA95F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9534C-4058-42A6-B5A8-961C5CDF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C0BE8-E765-42B8-9570-47BC7F4B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BD371-B882-491C-BEC6-71EC6FD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B3151-2F1C-490F-A8AE-19C664AE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36E0C-A6FD-44A6-84CB-19E47D8D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08A49-175A-4EC2-982C-BA62D3F1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822E-1741-4060-B2E9-DCC351E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02A7D-DAF0-49F7-9785-A0206C8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383CA-46D4-42DF-9F03-4713D1E8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31160-5E05-4F43-B335-97C91356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81092-636F-4509-BA8B-EB15980D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6BDC2-6651-41CF-9E91-593D2379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BF22F-04EE-48B9-913E-5C8E6E61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B55678-1BF7-47B9-835B-20F09CA7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98778-C5A2-459A-978A-4148DF1F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BC167-26A1-483B-9EC4-796EE781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68ED1-5265-4C95-A120-74C2F0E6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D008-3DFD-4282-829B-18EC677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0128AD-FF1B-45E2-AB7F-A3D2CB88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4A717-464F-447B-9EFA-121097F4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7EEDB-9F86-4BA5-9D89-EF73043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76429-E3FF-4699-8784-687D9DD0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5DBD3-322D-45B2-897D-B189CE81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CD483-34F5-4776-9034-A19626AC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55496-E45C-48C2-8107-833F447E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AF627-F713-4CEB-9D8F-48E5B32E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9EBA7-93C3-4484-B012-98143F4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183C9-7394-481E-8DC5-C33AE41A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209C-5312-4210-A34A-40C848B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53281-F5B6-4CF9-988E-FBECFC0E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54017-D9D9-4F9B-A633-032718C1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AB5A0-CF4E-4ABA-BF6A-5E3C64E0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09B8F-BEBB-427B-A410-A4B83120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94B02-8122-4101-8C6E-562CA68C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635D1-C347-4EF1-8556-363301AA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FE702B-C2ED-43F3-9FA8-ABB567E7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5960B-DD69-4F19-98C3-345E0EB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5DEB0-C115-4C18-BE61-FAFF8243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1A593-4DF5-4CC0-9B1C-F6C70854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1DF-CD7C-4CDC-89A2-7B71542C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7BBB-CE7D-4C1B-9586-8D04505B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EFE05-4D46-4E6A-9387-04AFB9B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C61AC-B945-42F1-AE2A-39F6ABE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0EA9B-9C56-4D8A-8E8D-EE7A4AFD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8B89A-23C0-4EAF-86EC-E52E0E69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79C92-E247-4669-8225-0A2187D4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8DE8B-FC0D-4AB7-8A46-C20AF239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DFD0C-3866-446F-9E36-5A08BD19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27A2F-0D9E-4244-8201-9430601B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F9462-84FB-4EB4-868E-EA557D07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795AD-1861-41AA-926E-CA4BAA09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5C7A-F3B8-4837-8BD4-1A7664F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116C5-DF4D-47EB-A92E-73F9B7E2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545EB-8679-405B-9529-728B5D8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FB199-5A92-4D2C-B869-A2463B1B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2FD042-414C-4EEF-8B3A-593C140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EFAE1-E85A-40D8-AB22-AC9E1477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F4201E-04D1-4747-9A9E-11350F4F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B56C5-916C-4659-9048-4309A45B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7F6C-56EF-4B1D-A0DA-DA0ACD52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0B51-ACE3-446F-81A7-7D09CC43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39F-FDC4-4710-BB5F-92585987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4A89-1EEC-44A3-8AB4-8B814D99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6C49-3142-4A81-A16E-955685C0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7AF1-85B6-49D5-B830-BF7C8690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E133-5203-4565-89BF-96FD3285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0786-632E-4308-A064-944811F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576-F43D-4E6D-9F02-F690FE1C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998F-A878-4DDF-A347-2E424C86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611F-8069-4DED-8AE2-684C9D6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EC07-B54D-4C18-95E9-770C309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28EC-598A-4D4E-923C-70CFF2C8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C030-271B-4357-8B57-173604DC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7271-A1CA-4790-B116-1FE166E6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FBED-CB44-487B-A5D2-21C6110A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B06D-42A4-44C5-AB3A-11E55260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CB7F-2C1E-4AB6-BDE0-DB8DBA95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9809-45BE-45D9-B37E-1F94345D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F51-DCDF-4881-B7BC-99A3FA6B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37B1-9769-4A33-AB97-F1907974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252D-15A2-45FD-B798-0AA6A585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9F2A-D69F-4E1B-AD63-BD9F314A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741C-02E3-4661-8FBE-6644463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056B1-A585-4A1C-B34B-297432A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F573-C223-4F75-B871-95FD7BEE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48DB-336C-4454-B7A3-97D3BC8C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3F71-5A4E-4392-93DA-7C728F30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8DA5-823E-4AE8-A01F-226066FD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9C2CE-0087-493C-8841-6849F72E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D16-F14A-4414-8EFD-593B2490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FBEF6-C0A6-4DA8-9F37-F1BE0993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5DED-3E4F-45CD-860A-18D36365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F27A5-29F6-4762-BC6C-DC0F6812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1C6B6-062A-4214-BA91-E157AA3C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BFCCA-D70C-4B2B-8CCF-1C02379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0AACF-52C8-4CCB-980F-414F793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2D61-8E85-4D47-A105-C2301BF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9464C-75E3-4857-9328-8F53CB6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34791-F618-4E34-8ACA-3C56B64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134D0-58D6-4BFB-A3BE-32CB6871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133-6F64-4450-9D79-4D673E71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0B523-D419-46C3-8A4F-679F3681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2456-F301-466D-A712-22347D6A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36D5B-4512-4384-8988-8FAA8060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EEB7F-2F2C-4A2B-AC42-96070FF7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1730C-F266-4E7E-86F7-A40CD89A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CAF6-C70D-45D5-80C8-72FA2EB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936C-6AAC-47C1-B4D0-0E5560EF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06EA2-B68D-4A3D-BB81-D8235EEB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5A0E-C1D0-4915-AB79-3435C6C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E3543-7622-4328-9EE2-4252256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061-4357-4E7B-A74C-30969C1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C9A9-9065-49A0-BADD-43B18310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94F1-99CF-4F76-B6E2-C7B733F7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0C8F1-E040-4B2F-B2BB-C88D3EAB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24A7-C984-436F-BDEC-9B7D7434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EABF-6CB8-46B0-8395-0D8CF2EB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3996-3ED0-4C9B-A379-B83751B1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0C336-EAFE-4280-AF03-99D09597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6B87F-B099-42FF-9C2A-DB43129F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1D87F-A3C0-490C-9A9A-2EB1DCC2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02F8B-FF0A-4412-92FD-ECB24A3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D6A-F309-4E51-8C26-F05978E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9F1F8-76D8-4DD5-B7D2-B304AC0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9B2A1-0E2E-4885-91EA-0D18A7A0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796BD-017D-4FA3-9573-37DA566B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9163-EE8A-47F2-907C-13909D4F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1E781-9DB0-4426-B948-2ADFF0A5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D0C84-FA0F-414D-B190-D6578CC5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7414-9A42-40E4-BEB9-0BBBEF3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49223-6AF6-495A-8C79-C3B1ADA4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CD640-4A8A-40EE-B1B3-C0FAC1CC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F1D90-64E6-4F65-B117-75DA12D7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8C3-E528-45A3-9E54-65FD0C8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90F15-F7A4-4D9B-97C3-46A97ED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F738E-EA75-40C2-A5FA-87EBC3C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D2819-3726-44C0-A10B-944DC1E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2E136-C4B8-4B8C-A75C-17DEF44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2C0AA-1D1C-4C0C-B908-C48ECF68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6ED88-7958-4D01-B4C1-D646CE04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DFD2-F8A7-4784-A083-EBF5D422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E4BC-4263-410E-BC38-F84B1ADB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8A889-0C06-4CD1-8186-D0E068A5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22E44-CD59-4DF9-90C6-DF9107F7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FFC8-A353-47BB-BF85-2C17831D55A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EFD-0E4C-4828-955F-476C200C680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A503-C178-435F-98C8-A3A49DEE94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DBD2-236A-42C6-9282-15BC61F60E3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EA66-D4A4-4B40-BDA0-9DBA9661F9B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0FD0-7F01-43C6-BA23-C3C7DDCFDE6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F11A-23EE-49E0-9DB6-AE41029972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4859-C198-45E4-BC97-1346390320D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A5A3-C810-4C39-9B8A-9E04C8DA81F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3B0-98B9-4BCC-A238-38885483AE4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47D9-ECEC-490B-85C1-0FB0CA193B6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7524-801C-4D7C-BB37-B14211AE58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EB51-4B55-49CC-9C22-9662C25EAB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79E5-0085-4608-B5BD-3E10E91B94C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8EB-B7D3-4D5E-A2F7-C11DB2B1780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48A7-1D38-4402-806B-C5466B3FDF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786C-6FAE-4E07-BCB1-D797A30CA20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0FF0-DB38-496B-AC78-10DD2D1D60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6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6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2E3-5B1E-423D-B0C0-284A7A7D58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03E0-1948-4DE5-A001-E2C0F0E84F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5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EC0E-C765-4528-A0EB-4CF902FB4A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0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2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B393-7B74-45FC-AB51-3F6B35E2ED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EDF7-7CD1-4024-81E0-C25346E7A1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3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90CC-A435-45B3-8C61-DA1BE50BBE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9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C348-D70C-4426-92C2-5E4BF8CD6A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4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6DFA-6970-4ECB-A146-BA34722CDC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0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23E4-03A0-4C42-A956-B3DBA4F133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6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8854-41D0-4DD8-ADB7-A4CA5656CF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3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F054-59F0-4C1D-A2C3-10450FCAD2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9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3E2A-D030-45F3-AC03-6714A74A90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8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66ED-D4EE-4F83-917D-669FCC3CDB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F2AE-1BB1-4F06-AE6E-5AAEF377DD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E321-D1F9-42D2-9B41-10EB3A72AF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8FA1-0436-4F83-A6F2-D2D852A370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AC0-597A-412B-8DCA-5CC65455CD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AF39-1674-495D-BF18-E9745BB4AF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0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91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92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3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4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5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6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7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8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9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200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201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202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2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3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4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5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6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7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63C7-D59E-4FF8-AE1E-304B67F0CE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3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7C71-86A8-4C74-81A5-AD78896EC1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0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A99-3653-4C68-A506-1E921E7C69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6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BD0-D8BC-4513-A06C-9AF698CD07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004F-3B58-4944-B415-94AF2630F3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2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509-99FF-4CC8-B0AE-A393BEA463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5DC-F9FF-489D-AF64-A9D1828ED1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4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5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F5FE-18C6-4265-9B18-B719F713B4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61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C953-82D9-4679-83B1-E651E6B600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FDC0-1994-4997-B114-0AD77747E5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3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207B-902C-4690-A8AB-83A2796CEB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8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9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2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6123-A24A-4D7F-8326-791324FFFE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4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7CCB-92D7-4DB2-A763-787CED9969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2747-0688-4A6F-8E98-A4FB24C71A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5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7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1DF-B224-4EA6-B38E-9942A14D30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B269-19BD-4AAB-972A-0024090425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F34A-A0F9-4269-9EBE-121FDC0B6C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8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C8DB-8666-4394-AB64-3DD1379448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6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8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A44D-DBAA-4EBD-B5D3-BE7C413E37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4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AE32-7E47-4A1E-9255-C2A80BA923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31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3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3B3D-52DE-468D-BC5B-6C4E9E7CF1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6B6-F8F8-47D6-8F37-CED8BF6E5E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4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5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6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7390-7BD9-48FD-B9AE-839407CC33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3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6CEB-0270-4C28-B2B2-BF3ED5AA9B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1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62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57CE-290E-496B-ABAF-7193359DB6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9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71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3FE8-423D-4263-95B5-6183E9AB88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B19-D04C-4D03-99CB-5AF8105BD3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8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9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C77D-49A8-41E4-A6FC-7C955A718E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E687-3402-4069-866A-2991425DD9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0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18CE-EDF6-4951-B15D-2419919242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6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8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F2A5-A3BD-4110-9E89-F91231C2CA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768-85C8-49DB-A19F-C71976B799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8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4DC8-FFA4-4E68-8D38-E10E9A2272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8C2C-682C-4610-9810-B2A3CD1C7B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77E0-DAC9-4C86-8E75-17CD0A601C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5F1-1890-4F6A-B3C7-46ECDDF17A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8DB-47B4-4A14-B67B-94E7E1B89D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9C3-BE53-4CB4-B299-33D2E48604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C19-B6B8-4635-8A72-E3789698A0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6-05-03T14:47:15Z</dcterms:modified>
  <cp:revision>108</cp:revision>
  <dc:subject/>
  <dc:title>Aims and Objectives</dc:title>
</cp:coreProperties>
</file>