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dt" idx="55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 type="ftr" idx="56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 type="sldNum" idx="57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F061BC-6D9B-4D9E-B48F-7CB67CB31DF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CEB933-9AD1-49F9-84C9-2B7A09A31A48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C527-50DD-44D8-9A26-DA325AC2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1BCB-E91C-46E9-AFA6-E73897D8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7E0C3-76AF-40EA-B41C-14F52EBF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85A06-8219-42E1-9D5B-BD0065B9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511FF-8E46-4EE6-833F-C483A7CE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E35B5-96E4-4F8E-B308-01CB339F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57F8B-DB43-4DF1-BE09-884B540A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A2278-2B1C-439F-B42F-95EED34B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FFC23-CA4C-4307-9E6A-8EBBCEF0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E06CF-2CB6-45D1-A1C8-1988639E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C9E28-D060-4FBD-A772-A2EC7433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9D73F-D174-43A8-B711-D6A83083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55C5-0902-4C16-B7C7-91D337A8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2684B-90FA-42C6-B9EB-7B9F9482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45D78-620F-4F69-83CF-9D4D1EC3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6736F-D444-4F2E-B8F0-A25DE385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F6D92-C81B-4007-BD84-96E50431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37988-28A5-4131-B61C-D368821E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74EF8-BB16-4350-AD2E-D73E0957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B25F3-4293-4002-94D4-6574AC9F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57A8C-3C22-4BAD-A51B-3532D2E3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82056-0DB8-44C9-8442-975D154D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96110-C517-4985-B70A-F9548FD4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2E02-2525-4660-AD68-14719525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CEDAC-EEFC-41BE-B9FE-BF872B49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3697C-4BC6-4574-BF49-AA2A2BF5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B4EDB-8864-4F6A-A20D-1CE97AF1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EAFBD-E420-44FA-BC56-7468DB1B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ABBAD-F7F5-4778-9006-BF5E2366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4140A-3028-4539-8B93-2A2B7C4F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A8985-A99C-4593-8348-B8A46D8A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776EC-57D8-4EFE-91C1-D8ECDCE5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495DF-EBA8-4949-B684-C69E1B79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77D89-A6DB-4067-A859-3FE1F5F1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567D-9FA1-40A2-8B29-4475D022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E03C1-21AE-42F0-9ADA-C3662906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F7481-C7BF-45E9-AFF3-0B581ED4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DAB2E-E871-4C9A-B945-0996D0B8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C0558-1E0F-4CB0-95ED-F7DC085C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B9A5B-CEAD-4D0A-BFEE-BC0E29B1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3D218-3E84-4642-8FD0-AF2E8BFC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B906F-221E-4160-991E-357EAE38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9846C-D62A-4E78-8D08-88BF2197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586A8-E4C0-4118-AC51-03668AD2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BDE9E-2BBD-4F5F-82C4-EE97456D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FE40-C87E-49F7-B691-1E870A9F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4CCDA-46CE-43DB-B221-D606AA7F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CBFB5-1A09-4EAD-AB74-98AB76DE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3A13B-47CB-402D-8348-56077525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B1B12-48F5-4BAE-8A1A-0BDC5420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47D1C-D9D1-497E-BB7A-3A9C5E1D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7FADAB-CA31-487F-9EB5-69FA41E0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D641DC-6809-4FE2-A550-8A10B2BE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C9347D-B10F-4C94-BA68-B9342717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1FF828-9460-421B-AA8B-8675460B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F3DC21-4118-4F36-9081-41C7BB9D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EC91-63F9-402C-8047-03C6E4CF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4F3297-A605-4BAD-8546-8E033733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887637-6C20-4713-8DFB-86E24E7C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7F17C4-AF51-4B4F-8608-7740409A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F22668-71E0-4154-A79A-980113B9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A2E5C8-CF7C-487D-B247-2257B022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D212C6-7653-40DD-A792-B892B368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610C2C-4897-4C09-82E7-3E02FCBF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512CC9-7381-4F8B-8E81-B0B121EE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D3D4D2-499F-4923-858A-9255C88D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72A5EE-AE61-42C4-8068-34BCADD4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80D0-76F7-4E6F-848A-1585ECA2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1B8419-1E93-4A1E-AC0D-C3C75611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2A998C-059E-4EF5-969A-404B8817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6F338E-CD87-418F-9843-60555A26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62E283-6EEC-4E61-B459-8D30DA1C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9132C7-4442-4489-82B8-7CF4CB41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28145E-F1F3-4E20-BDB1-7F5427CE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888443-62D3-4CF1-BECF-F47ABCA5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6B3D75-A7D8-48C4-BCDE-094D6D41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5229B3-9AEA-4EA8-9E08-8FC621E5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BAC18D-9968-42FB-A759-78AF9DD5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33C8-9180-4896-A1C5-7C4B3C5B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0099C8-9BB8-4E25-9996-40344BE8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51AA2D-358D-4507-B876-A9272CD6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0967F4-DCD6-4B3F-BA29-745FC18B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51F14A-121F-4BA7-BC51-A3AD4041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BC8F21-50EF-4945-AC7E-BFA8912E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50B1DB-8FFF-4777-94EC-64DC411F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272DDF-391F-4319-847B-AECE3DE2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ED304C-507C-48D9-801E-190AB513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56FC58-38FF-402F-8DBA-18C19954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E429AF-9FA4-449C-B052-86B9E15E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3F7B-8257-461C-BBC1-6006163B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D69FD6-B13F-4754-9B1E-1DED2924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01BEED-6CDD-4EA6-8241-E755F36E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D18233-5771-4293-B022-47B426DE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C70362-8F93-4121-82EE-0B72D7BF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135B4E-E345-4861-9854-B96D2CC8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BDD5DE-8EB8-4EF7-A19A-DD6A5C03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9E9439-495D-4BAF-87E8-EC712925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AE979D-132B-43B5-B68E-081DB9B4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347AD7-FA53-444C-B6C4-A3B3F1E5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61AC3C-5965-4B36-B47E-1534F442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F3CB-83BD-4738-B499-2E766A65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01169F-0D33-4671-B2E4-91CDE451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2E1022-5B33-4593-B64F-FBA51EB5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DC369C-347B-499B-B4AB-039469D1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2243DE-7F54-4BA4-BD27-356BAEA6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99FBB5-2CF8-4E40-AE56-39106FC9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69443C-A4FB-4837-8746-6858F0DB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F631F0-0D37-4746-A8E5-A7000918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23D99A-76E0-4EB4-B775-CA412437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014B4A-5406-4BB0-98AB-5A81AEDA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9FCE89-6B4A-405F-99C8-85A9B46A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8D6B-8DA5-4912-944E-E4223EC5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BEF4-D204-4196-9854-07259DFE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1E07A7-9D7B-483F-A3DA-9FA69EE0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F358D6-C083-424C-808F-B42179C7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CFC10D-298D-4DFB-8314-91848F9B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8230E1-EFD5-4CA6-86C0-35D03506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801901-3CC7-4DCD-9089-542A9D97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20190F-702C-4DC9-81DB-B628A27E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DBAF49-0B22-4E65-8CAD-E70172C5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A456BA-739F-4A93-ABEB-A4839F5D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B5CE96-CB5C-4B17-9B88-15A1E0B3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D7E269-A88B-4C0E-BDE7-E26A7AD1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4679-20A1-42D1-9249-5BDE23ED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B4E95C-237E-41C5-8A86-0994157D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B0A973-9DBC-4322-953E-A063754C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AACBCA-8FA3-4BA0-B279-96DEF3CB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57259B-9E12-47DD-B68E-BE514F2B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EFF17D-926E-4503-8E61-3D632C5E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5E380D-682E-4DC0-9950-162B8A9F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A1CDF5-93D2-4104-BB35-58004197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C14D-44E6-421F-83C1-D7D4B946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12FE-EE15-4B52-A333-55A7A531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C3E7-FCCD-4592-B211-AB3FDA6E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2A022-4FF1-426A-B2B9-73293420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65711-9D42-4614-B2F6-4955B3AB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5E283-D383-49AF-B4F5-7132B4CA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26077-5A6E-4C54-B224-D359F24F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A9238-9845-4597-9352-1DA3B214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5BE2-EB6F-4FCB-B8CF-2AA28011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61A81-E104-4B2C-B665-AD7EB56A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F2582-C20E-4451-ABCF-BFA5DBAF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B0B8E-4A6B-4A82-92CC-6A4B3187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15540-360A-4F6F-A6B9-3AD0C009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F7EF9-634D-4A1E-A147-C310570F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39CDF-F758-48A6-96B0-E259CDA0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31D80-118D-417F-8A83-697F20A0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E83E0-0E59-407C-8CA1-A32AA3526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3035E-CF86-4F0A-A117-D2789C95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DB4B5-1393-4B7C-9532-1E154C61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E081-CF2C-4127-B106-BAA0F36E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FEF13-5ED6-461C-AD31-6DAF5AB3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35C4A-17AE-4F60-978D-67916CF6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CD36B-8A97-4726-A081-27D8684D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975D6-F419-4ADC-83E6-B20902A1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853F2-9252-468E-8A14-B1735E8F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68A7C-EEB5-4B5C-9121-6DB83DF2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2F2E0-4C11-469A-94EC-9CDE625F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6DE04-EE29-4492-8A6C-47243C8C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60BA2-3398-4288-B46C-380771C5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F26E8-A39A-407D-B538-C553973F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0123-4D33-4B3C-87C2-E45414E0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01F31-F17E-48C5-A7B6-2F0D2373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D99E1-D1C4-47CA-87A2-C75AD993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51289-4496-4143-8ED8-73E1B5DC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96BE9-0F36-4569-A7E0-841DF3E0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F1764-0753-46A0-9DDC-C236D159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4AECF-7E70-40F9-9AED-F5E54B26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2EA59-7989-4DD6-AD0F-98AE7ADC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89383-7281-454F-B4A2-71F3E1BB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C9605-269C-4018-80EF-A98E8A65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F0E53-1EE4-44F1-8519-D435A7A4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07C0-8873-4AEE-A935-EF2C4FA4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76103-5F4B-43A8-951D-A30FA657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5F97D-21C5-4B68-AD9F-0EBC590F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4530D-EEBA-49FA-A043-6981155D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76268-F0F0-4AAE-8519-7E6619C9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D2CBA-1C8E-4B43-81FA-45617AFD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05314-2DA9-48AC-9611-F110B246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8EEE9-8DE7-4277-8080-14575A16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9D9B0-9DEA-4D23-BC2F-844600C6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B6429-EE24-4A91-B8F9-DDC0A403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789CE-1E07-490E-B63B-409B4453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4C63-17AB-4CED-8FC8-9A7AD38E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35481-7F16-42B9-8956-3BF56040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9DF61-2CFF-4607-886D-6A80465E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E85E3-592D-4834-870C-430D8D1D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AA487-82C2-4243-BC60-C6DEFEA6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10092-017A-4590-94AB-94CE816C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C8556-50B3-40F1-A288-2E5DB142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3EDF6-67C1-41EE-9CFF-BB52A4DF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84F89-88CE-426C-8C8E-FDC14200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EB208-E859-462C-ABDD-911D30E2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3DEE7-D78C-43DB-92D0-398C0D21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F746-561A-42E3-9C85-B4C76313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67274-004D-46B4-ABBA-3D21C33B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2CC17-FDAA-488E-A2D2-5DC40542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D2A9E-0E8E-431B-9843-30418289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3A12F-CFA1-4376-9875-6542499CA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A0896-D967-44B9-867C-4A44BE52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8CC71-5993-4C00-AFDA-CA961AAB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EFBBD-28AF-457C-BBF1-6A59CAA4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C93A6-4D00-42EF-9DD3-BF752388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5EE54-A480-4070-829F-F8F66DCC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C63AA-587E-4316-A897-8C1438E7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68C2-BEFF-476B-AE02-9F1AEB78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936BC-7417-4FA6-ACED-A264F88A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B5E27-FEB8-404C-8A2B-63B7AF97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05C6A-CDA6-47E9-B245-A33EA1B3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D8578-E32D-4F89-B451-B46FCB14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2EBEC-BC82-44EE-9A18-B6CF9F89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D6E69-BFD4-4E8C-80AA-3A5B36A2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B1EBB-1BED-4B5C-984E-2ACC2104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7ED05-0025-4C37-8C1F-65941DCA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8FA4B-AEEC-420F-8BB0-1232FC57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D5498-EE0A-4ED9-B5C4-845DF064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7B75-DC97-4378-92D5-E72F099E0D5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4184-089E-4607-A392-14E0ACBEC8E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BC54-DC92-4923-8786-87618E8CC33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1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8B7A-9ABA-4342-AFD8-234D79BAD30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7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DC2F-7120-46F8-86C9-A34F4C095BD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AE64-014B-4F14-BEAB-DFF83027D89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7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35AD-5120-4916-B613-5179A7BF304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5226-21AC-45A7-8071-923A926F154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00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5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E2B5-AB46-4520-8EEE-8B9F96ABB53E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A9BC-F2EE-4738-8E39-DAF407A0C16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5C95-01DA-4DD5-85E7-E84ACFE2F02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9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BFFC-6BA3-48B0-BADE-D12F98273A4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8BA7-B1C9-4DF2-B960-8155F5F7452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9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81D5-497E-45DF-B323-1E69826AF88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61B8-6DE8-4793-95BB-3C7A6BBEF4B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2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672A-6919-4BDF-81E7-333A66335FF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8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rd November 20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A583-971A-424B-8DBF-DC64C9DAD4C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70D7-EB30-48A4-9807-7BE0EB2089F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6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6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2F5A-22E5-471B-A7CE-464B5839760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198D-DEEA-4A5D-A7C9-D6B96B8C273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5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8AD6-8011-4F8C-A5B2-48F8ED6D7ED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0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12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51B2-4ED1-4956-991E-E3F9B2A95AD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7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1B70-7262-465D-95E9-C8B7F50BF27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3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43BC-A0A0-4670-A2CB-FF0AF58237F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9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08A0-E89A-4AA4-B657-E5B675C5475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4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5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B0D9-5C06-4207-9278-C4A65EA20B9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0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E310-9180-4734-B2DA-1883C22DB09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6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5859-E51A-4BE2-8882-B83D5876123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3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F8AA-6D2B-4A02-A381-EBAF13CCE38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9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05 November 201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4067-0304-4762-B44C-A16B634F7E9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8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823D-AAF0-424F-8F0D-9917B96FEB2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8A80-D716-4107-B929-589F4180D75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906B-F2D1-42A2-956A-43BB754C5E7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946A-938A-40CF-B888-91DE86AC26C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9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CEF7-5053-4286-AD84-4CEB141A4D8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4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8E01-7B03-4F00-A77B-EF36E93C60C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90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91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92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3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4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5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6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7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8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9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200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201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202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2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3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4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5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6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7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0EC5-11A9-4DEA-AC52-4E41E28562F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3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4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7946-52AF-448E-8E1B-7D629E6B83A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0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FB7C-7B5C-4856-A866-237D177D007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6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1B87-B1B1-47AB-8246-60002E3CF9F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4455-20CA-40CC-A9CB-CB364EBBB5E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2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9741-D3AF-4A8D-8554-319C7132967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8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1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2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84E5-B10A-4AF5-B57B-A52EC6AB0B0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4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5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6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EABA-E906-4535-AE34-363A0DB5509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61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4A47-B8CB-422F-9668-717BC21D090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EDA6-A000-4610-9E2D-B61D27F521F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3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5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6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EF42-389C-494E-930F-7B809D518F6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8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9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1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2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3EB5-851F-42DB-A1FB-FB06FAD852F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4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CB57-A6E6-490B-B9E1-C206B28DACE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0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9BB0-8F21-4E07-87D1-7E0AC694A1B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5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6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7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0B3A-7428-4C37-98F8-46B4D32783D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6C19-DF9E-435D-BFCE-4A336405CFE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7B7A-59AF-40C6-96F6-01255445025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8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0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C55D-E7A6-46C4-A2DC-CB198F8DA31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6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8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5864-0D38-47C7-AC98-9B600CBED65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4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6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A80E-1B0C-4C2A-8560-F3E9ACDC791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31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3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689B-668D-4132-B8BB-F2F228BBA6E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C31C-80FB-4B10-848B-11F93AB0D2C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4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5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6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1377-7E88-43DA-ADC5-E3D4B47ABCA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3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4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16AD-093E-430D-9D3B-A2D78A3D6CB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1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62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2721-9A67-40DE-8DBC-92A7141FE39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9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70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71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4852-429C-417C-BB73-D79047CAD14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B19F-1697-4B28-A055-5881024540C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8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9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7AD2-6C43-4FC6-8CC8-DFFCB07774D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8D20-CE33-4479-B97A-0F5E5830C98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0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F2A3-07D0-46AC-B894-6E01E40EC6A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6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8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CAC7-5C76-4045-8D63-AF914DA32E2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A9E4-4C84-4F9A-8FC3-1DE3EE707EB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8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9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10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5E31-12BB-473D-B0DB-55BFF0EF06B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AC27-5F0B-4B2F-AFC9-2E1BD709847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10E3-0E2C-446B-9012-9B61511A587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0EE7-F7BA-4AE9-B0A1-240DF7D0318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AD74-334F-4E36-AD67-E61D29BC748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AC7F-5B25-4DD5-9B4C-B5579BE9193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3rd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AFD2-83F0-497E-9757-6C61B5DD8FB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6-05-03T14:47:15Z</dcterms:modified>
  <cp:revision>108</cp:revision>
  <dc:subject/>
  <dc:title>Aims and Objectives</dc:title>
</cp:coreProperties>
</file>