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10.wmf" ContentType="image/x-wmf"/>
  <Override PartName="/ppt/media/image11.png" ContentType="image/png"/>
  <Override PartName="/ppt/media/image31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D22EB-66AA-4259-9729-8C5BF210AE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C890A-7EB0-4C43-A085-C5201774EC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A3DB6-2B26-4AC8-9899-ED0F117EEE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E1153-388F-4B8E-93D8-5CD6DA847C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B52AC5-9980-4BFA-BB35-90F35D7913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09E86-EB70-4D9C-AC5C-7DFA132116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21F50-2E95-4B92-9D50-21A7B54296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AAFF5A-FA7F-4FD4-93A8-55D1BAC65C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B7CF83-2118-422E-8C01-3FADC9A375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CB2C3-10D9-4E9E-ACD0-E3BABA6F31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F0B6A-A894-4BFE-9451-60668959FD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B9550-D47D-4F17-A207-3B57126BC7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505F0-E6E2-4DE8-841C-6E7941CFB5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A63FC-2F51-4FFA-BD7D-71F80A5190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373A1-76BC-4B04-A169-5AE8FB155B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1A8B7-E038-4B70-94F6-822ADC731B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1629DC-3D7B-4244-BCD6-927591083C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86BA3-308B-48BD-BF38-B5A2573549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91EEC-532C-486E-963D-20FAC8531D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EA702-ED8B-40FB-B55B-EF2F62B946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5F72F-0082-40AB-A53E-C7240604A8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CFBA1-83AA-4549-B5EA-96287B0F54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9C0B1-0A7B-4CEA-877C-431EAA5E47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492D2-42AF-4928-90EE-BC98C0B57B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92FC4225-7764-4E63-B848-EF381DB23F21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274329B-EE70-4308-A1B5-365A144EF8C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59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73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643F195-950D-4CDD-9E13-D00854E9B950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B3CFDC6-C34C-406C-AED5-A281923072F5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7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2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x=63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2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4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9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94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 (primer)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pssusers.co.uk/Events/2012/confprog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9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0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8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0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4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1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76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4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0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9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0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 (See Lantz (2013) for Kruskal-Wallis for three or more group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1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0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8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15-09-24T15:45:43Z</dcterms:modified>
  <cp:revision>349</cp:revision>
  <dc:subject/>
  <dc:title>Exploratory Data Analysis</dc:title>
</cp:coreProperties>
</file>