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BEC98-58F7-48FC-8998-1B31DC48E0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811A5-94F7-41C5-A137-9608B2529A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F68E4-04AC-4918-A159-6270DB2482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60C50-7A16-45F8-B4B0-C776425A87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CA9907-06D7-4840-8DEE-DEE2DAF574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5A90A-903A-4E27-9F90-107E80E17E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069B2E-101C-49F0-A176-2D61AC0DFC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7CCF81-EE03-474D-A0D4-F0621FD3BE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3A5DE-543F-4CE6-8C02-ADBB1C473A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F19196-2AA4-4592-9513-8E08099345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C8BE55-AA49-4D83-8F34-A40EFCF327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6C6AA-377E-453D-8BFC-4E8CD068B4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D6E2FD-D60E-4519-B37D-40F97F78628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567684-B31D-4974-BE06-84744ADBB3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0245A-8229-482D-94AD-ECBC4D1157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164DE7-BAC7-4E76-B9DE-8D84E289AD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2312A9-ED33-4DE7-B52C-6FD8610FFB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4F7DD-4ABC-4EBD-B7BC-8A5E75418F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755DA-103D-4DC1-AD74-A5D27F01A0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1EE70-C647-4077-BD73-BDB0661A7B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DF8B1-2F13-4FEF-8692-6A0B4DCF56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CF3B8-429E-4791-B577-7EBA7DBD38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6E810-9EAF-454E-998C-FF90E91D0B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DB9B0-339A-49D4-A4CE-30663A3088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E5209D35-3E51-4B31-AD11-1F3B1254AFBB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19B030BB-4BD7-46D4-B07E-2060F5790563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E8D8F865-3F6E-44D4-BE39-4C42A7EF39FF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AB61FB9D-B22E-4320-8F4C-52A474864E1F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0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3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5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rho of Raykov(1997) – better than Cronbach’s alpha . (http://imaging.mrc-cbu.cam.ac.uk/statswiki/FAQ/Raykov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; SPSS and R code to test this are available at http://imaging.mrc-cbu.cam.ac.uk/statswiki/FAQ/mvnorm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LAVAAN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R. B. Kline (1998). Software programs for structural equation modeling: AMOS, EQS, and LISREL. </a:t>
            </a:r>
            <a:r>
              <a:rPr b="1" i="1" lang="en-US" sz="1600" spc="-1" strike="noStrike">
                <a:solidFill>
                  <a:srgbClr val="7030a0"/>
                </a:solidFill>
                <a:latin typeface="Verdana"/>
              </a:rPr>
              <a:t>Journal of Psychoeducational Assessment</a:t>
            </a: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 (16): 343-364.  Also: Beaujean (2014) SEM in 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dealised scre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1709640" y="1989000"/>
            <a:ext cx="5724720" cy="4581720"/>
          </a:xfrm>
          <a:prstGeom prst="rect">
            <a:avLst/>
          </a:prstGeom>
          <a:ln w="0">
            <a:noFill/>
          </a:ln>
        </p:spPr>
      </p:pic>
      <p:cxnSp>
        <p:nvCxnSpPr>
          <p:cNvPr id="328" name="Straight Arrow Connector 6"/>
          <p:cNvCxnSpPr/>
          <p:nvPr/>
        </p:nvCxnSpPr>
        <p:spPr>
          <a:xfrm flipH="1" flipV="1">
            <a:off x="3779280" y="2761560"/>
            <a:ext cx="2377080" cy="37080"/>
          </a:xfrm>
          <a:prstGeom prst="straightConnector1">
            <a:avLst/>
          </a:prstGeom>
          <a:ln w="93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329" name="TextBox 8"/>
          <p:cNvSpPr/>
          <p:nvPr/>
        </p:nvSpPr>
        <p:spPr>
          <a:xfrm>
            <a:off x="6300720" y="25495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2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1403280" y="155736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5736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716480" y="147312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 – not always quite so clear in real lif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0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1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3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4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7" name="AutoShape 65"/>
          <p:cNvCxnSpPr>
            <a:stCxn id="345" idx="0"/>
            <a:endCxn id="344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8" name="AutoShape 66"/>
          <p:cNvCxnSpPr>
            <a:stCxn id="344" idx="7"/>
            <a:endCxn id="346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9" name="AutoShape 67"/>
          <p:cNvCxnSpPr>
            <a:stCxn id="345" idx="7"/>
            <a:endCxn id="346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0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1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2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3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4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5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6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, Heene et al (2011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0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22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3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1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5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6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7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8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9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468360" y="6021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a04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Preacher &amp; Kelley(2011) suggest using ab/Max(ab) effect size</a:t>
            </a:r>
            <a:endParaRPr b="0" lang="en-US" sz="18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93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0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1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2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3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4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5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6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;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differences &gt;10 suggest better fit (Raftery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acher et al (2012) suggest 95% bootstrap CIs for B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60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B22D-1989-4215-A8A6-0A8365D4F6C3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3286080" y="4956120"/>
            <a:ext cx="1859040" cy="785880"/>
          </a:xfrm>
          <a:prstGeom prst="rect">
            <a:avLst/>
          </a:prstGeom>
          <a:ln w="0">
            <a:noFill/>
          </a:ln>
        </p:spPr>
      </p:pic>
      <p:sp>
        <p:nvSpPr>
          <p:cNvPr id="579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1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2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3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2"/>
          <a:stretch/>
        </p:blipFill>
        <p:spPr>
          <a:xfrm>
            <a:off x="2395440" y="2998800"/>
            <a:ext cx="785880" cy="1859040"/>
          </a:xfrm>
          <a:prstGeom prst="rect">
            <a:avLst/>
          </a:prstGeom>
          <a:ln w="0">
            <a:noFill/>
          </a:ln>
        </p:spPr>
      </p:pic>
      <p:sp>
        <p:nvSpPr>
          <p:cNvPr id="589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4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5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6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0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11" name="Straight Arrow Connector 96"/>
          <p:cNvCxnSpPr>
            <a:stCxn id="610" idx="1"/>
            <a:endCxn id="601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12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3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4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5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6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out which combination of items “best” accounts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 (see e.g. Khattree and Naik, 2000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2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1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15-10-28T10:14:06Z</dcterms:modified>
  <cp:revision>333</cp:revision>
  <dc:subject/>
  <dc:title>No Slide Title</dc:title>
</cp:coreProperties>
</file>