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E0E55-E621-4BBD-901E-3C3E885F4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675B-2186-4C7B-BFDF-65D280EC0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7D5B0-7E63-4186-A314-3C30863DB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09561-FB66-4F9E-94CA-A286D1196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FA4CC-4412-4C17-9EA8-CBFC520D17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9EDCD-C859-4D85-8946-62E0EFC58A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D2D07-BCC4-4368-8523-793A00A50A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31CCF-8A7C-47AB-888D-BEC36BC721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0261B-2F96-4B0B-AC88-41C3B3A4C7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4DC92-3287-45AD-BD00-238655C68B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05BA4-9EE6-45AA-A81B-B5CE7E8C27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AC6C0-7F5E-4729-8D36-CDCCC46DF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10D75-41E2-4916-918A-A72AFB48A0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8955F-86E2-4E39-93BB-AADBC86B84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79B76-E0D6-41FB-B8D3-2C461137E1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16A72-4ED5-459A-B79D-B474BFECBD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5767A-5700-4D61-9997-445EA3CA2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67275-2D73-40F5-924D-F8A5B64DE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76A2-76F0-4756-BEC7-41C851EC3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C5DA-465B-428A-94B3-795CFC71F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F525C-4317-442E-B45D-A1489C055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39ED2-265D-4213-BD06-E585FBFCB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01B4-92E9-4499-B8A5-B219A89FF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9F1B-D26C-41C3-96B2-89FE0C111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3359F52-B553-4E33-BE67-7D62A6009E2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DF6DAA4-308B-46B1-8F16-981BF56B269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F10625D-2E6B-4A17-9F66-B1CB5FDE16B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4123AA2-59E9-4D34-A3B5-FB6895932E9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66E7-5EB3-43D1-B5C6-079539779054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5-10-28T10:14:06Z</dcterms:modified>
  <cp:revision>333</cp:revision>
  <dc:subject/>
  <dc:title>No Slide Title</dc:title>
</cp:coreProperties>
</file>