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209-57B9-4946-A49B-4D17AD7E01EC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E9E-6971-4980-AB47-8C0432DCDE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957-5087-4707-A975-F653479CCA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B7C-5D10-4EF2-AFA6-25E6593414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BC98-64A9-4CB5-ABDD-C772E11AA3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C31-5CA1-4D37-A182-9FCBCF8D34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65F-FCF8-4424-B70B-920C28DB24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480-FB43-438F-AC2C-A362EE0689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A8C1-AACC-4436-8756-B50677F2F9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C39-6410-4F61-AD4D-EDF180F879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7F4A-B048-40DF-9CEC-11DED4D907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A6F-EF6D-4806-BF4C-B64CA656E7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BAA-7277-45D3-9E1B-76B985ED69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6A11-47A9-4D63-834B-DDCBA6A63A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4E9-7BDF-4820-B658-E2631AA4E3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DC9-AB6E-4454-97CB-595E95DF92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EC0-3B16-4FBC-9CB2-1C08BFC5B9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9CB9-0585-4F56-9DDA-3AAFBE4F3B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C98-AE05-42A7-A383-847A90B768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1975-3A94-4366-AB77-0CB248732F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BD1-51BF-4CBD-BB92-5306A767D2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EB0-12F1-4B00-BE43-0DBD13058A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C2B-C1DF-49A7-BB9C-892B0831D8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5AB-756F-4DB5-A087-A1ED2BC679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0D37-0F9E-46D5-87EF-F7E0B81953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8A3B-67CF-4F6D-BB75-4ADB8232AA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3D1-21CA-4B80-985D-A210E700A2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B15-A2CC-4814-8F90-F9DA23F358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BE6-3BA8-4AE3-94C7-F4E1465C38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C19-743A-44E6-A969-6F99D1DF97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FF6-D02A-4BF9-B68D-5E35CD443A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ECB-9CBB-48AC-A211-8B90B8D212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84E-8B78-4424-B7B8-E3785C4BCA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514-11C7-4A07-B26F-090F6A01EE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7E8-B7C0-4D77-B057-C9DB22AC9C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092-BFE3-45F9-934B-B3860DC5C5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F42-917E-4C7D-9CED-39E10D7BF4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7E8-8C7E-4105-B1AD-6D8655A7CA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DCF-BCA6-4EDE-90FD-35D943349E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1085-7DDE-4DAF-BC82-78152F7B4B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0F1-BF4D-45BD-B16B-A9C971C47B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641-5AB0-4BA3-A610-115115C331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1EB-A3DA-430E-823B-C0B4D86C5C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D8D-81B8-4AEB-A16B-864717049F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EEA-6A41-4CB3-B1D8-7213DE9A52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BC55-9521-48E8-9A3B-2CC0D8D397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94D-989A-46BD-BD46-7F1ED5FCC8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E0E-2EF4-4E0A-A954-6EC4B94F70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215-6389-40C8-9076-97405B9576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888-440E-4792-AE6D-EE0263A9B1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7706-5B70-4700-B9CF-FAD6FE8241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473-EE16-495C-B5C5-998EC7E53C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053-8926-40A0-9885-B95F41402E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1259-5134-4A16-8A08-99CA3FD52F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8A7-6DE1-4B0B-A5FC-9D3EB206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2E9-AF67-4852-8379-F947F621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85E-A558-4346-B4A8-700C1A5B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8B9-C448-4A53-8C0D-EAFF8BCA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DF3-B901-4C09-8623-82ABA10A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DC0-D0AA-45FD-980E-0941BA5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199-D1D0-42DC-A90E-B02FC78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C70-AB68-42A5-9C79-51C6561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7A7-AC73-4782-8983-C7E9785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A84-2AC8-43D1-BFDB-CDFB980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144-6B14-497D-A0F4-83868D6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915-B558-4D56-9699-B082046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66AF-7CB4-4FE7-912E-19321BFBA6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6-05-03T14:53:39Z</dcterms:modified>
  <cp:revision>107</cp:revision>
  <dc:subject/>
  <dc:title>Aims and Objectives</dc:title>
</cp:coreProperties>
</file>