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72DB-CC24-47C1-BC0C-37DD4547598B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AD5A-AE58-4418-854E-3879652627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246F-DC08-4AF0-A635-6D505995907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6B52-D5C4-40AA-9B30-61CD977B2D3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23CA-CFEC-4A7A-A018-B3D17E89F8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260E-4803-42A6-B269-A1EE54F19F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BB8D-2206-46E3-B988-32B8A8FD4DC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74A2-B689-41FC-80FA-27340A53EE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A50-5066-4DAB-8346-7B9F6AC654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59E7-B5CC-43FE-970B-6D2ECFA704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7308-9067-4A29-9621-803E07ABE7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454F-86E6-4A8E-A00B-C278A8CCA3F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0AF1-51F6-45A7-A6D9-86814DCFD85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EBC8-9B42-46BD-A11B-5C9C3FEED1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2B44-FF95-4EB4-A09E-F540556C42F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8BB-88E8-4CA0-B8F3-DBB1E3F29F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FB72-E74E-4E15-A761-265432C3376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0EFA-9234-48BF-B464-4CF3A6365E8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5122-83F5-4112-B762-B0679EC95D6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4525-39E6-4916-80D1-810529FBCF2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439A-1F66-45DA-998C-EA6B66725F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8FD-3BDF-4896-BF15-AAC6712F576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1045-02F3-49CE-95AD-104E382E23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9C95-2107-4BD5-97DE-D77C9AEC5B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C03D-F990-4327-8084-B7BC752870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509D-536F-4372-8ACA-A86573FE56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71F-7BB1-4B85-9AE7-ADB0229A61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66E-53B9-48A7-95E6-2643B59556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58E-0270-41AB-907C-479B942508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8CA6-DAC6-4E64-93B1-20ABA6FC0D9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74D-5818-48B4-99C9-4B80AF3466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66DA-B6F6-4669-8D78-A1E8A5474F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10FC-7230-4713-B735-43809A9B50F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A80-9021-4B7F-91D3-351BFFDB6E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3A62-CE7C-4801-BCE3-DFC92922AA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DAE3-00B6-4767-9176-22BFA3AC3A5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B9F0-FA20-41CF-B026-0789A0F5716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68E4-251C-4031-8B88-E81A68185D3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6861-291D-4280-B9BD-02C6520CE9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F8EF-C637-4013-8532-EB3EB08C2D2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2125-638B-447F-B9AD-0DFCB55C1E7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E03C-FCB7-49C6-983E-A70191F0BE0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EE0A-0386-4EC2-ABB2-D32B2A4B0F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709-D495-4D53-A52D-2D519889C9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912F-9076-48FB-BC6A-B5A893504E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A34E-328E-49BC-97F2-B4273B6D83A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1E0A-6BBE-4301-8D97-C26FE05D72C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71DB-CFB1-4301-96E9-C1D1FF489D9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04AA-B64A-4A15-A5D2-E1FB50F17BE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9F99-7DB0-4566-89B9-2FBC641328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EEF-9F7F-47A2-8F76-2B4E28E7C6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FDFF-91A3-4EB3-B8BF-F0F9C08FD9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4B48-9633-4D71-805A-247E6CE3BF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31A0-5BCE-421E-B64C-2A95CFF053F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A38-956A-4824-9A87-330EE0AB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011-E08E-473F-BFF5-D51A4C06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BA1-240F-4F0E-8DD7-F6BA7FEE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6B95-5C1D-4B17-887B-2F25A9B5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D0C-B22B-4D78-8360-C3EE8935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70B-9FB9-4BF5-918E-29A4896E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8913-1DA4-416F-85B9-5FA87D1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A98-8464-4AC2-BF5D-BFC1D0F4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80F-4847-4E9D-8C10-5685F44A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9F03-998A-4C7C-8C72-9FB2EEF1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275-3B24-455F-9A35-15C73D3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FCF-1B4D-416C-90C1-B277A892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6CF5-503B-4FC1-B869-4EBD11B413D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1st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4 November 2016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6-05-03T14:53:39Z</dcterms:modified>
  <cp:revision>107</cp:revision>
  <dc:subject/>
  <dc:title>Aims and Objectives</dc:title>
</cp:coreProperties>
</file>