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C0F69-411D-4A48-AE53-DF980D962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150BB-B72B-4A57-9003-41D6612A6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2D25A-E403-4168-8E63-8E35EBCEE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9125B-B605-4C4F-8931-9CB9A35541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D1490-98B5-461F-96EF-A4ED232105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31A7C-1BA5-4ACC-B407-D5D13F622F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90DC0-92A2-4749-829B-A2FCBA2AED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D5656-2577-447A-A8FD-306319B54C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26415-26B6-4628-B9A2-E9F3FBB227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461BD-8532-45F6-A3A0-BA3D828BD7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493BD-71E7-4725-A1FD-6519A64607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6BD49-C8B6-4F7A-B01A-20C9153F1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D8E50-194D-4F43-87EF-164641EB0D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B0638-10D4-4DA2-A534-EF931E3704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42C1A-0B9C-48B1-A5D6-B32DBC531B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6EDC2-1706-48D1-9236-3EEC0EFD4B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D6F49-BDC7-48C6-81D1-29CA33E274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D5CB5-ECB9-40BC-8D54-5189B4CDA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76240-D9B8-408E-B9E2-D358947A1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E714D-B815-45F1-BD3D-B7728157E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F903B-7A6F-4A7C-A783-1215A8097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E6AD1-DB9B-4F68-9826-0ECB3A828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53235-F6F1-4A26-BA8A-6AAE6BA4F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6032-D59A-4DE7-9B19-75581EA69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1835966-013D-42E2-8615-5E335E7EFE8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C6417E5-DC70-4599-8960-62C6E09DD6E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20C55A2-2BC3-4447-8614-E2A3D7F2C5E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A5563B0-45D1-404F-A506-D2A0765D0A70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6-12-02T11:33:15Z</dcterms:modified>
  <cp:revision>255</cp:revision>
  <dc:subject/>
  <dc:title>8: SAMPLE SIZE DETERMINATION</dc:title>
</cp:coreProperties>
</file>